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062D-71C0-49FB-AB0B-7740DE14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AD56-F3A8-4E30-ABAE-59D41DA8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FCFD-DE6F-4598-BDF8-ABF623E9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8DC9-97FF-4175-8118-8D0D677D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319A-78A4-4BD5-943E-37B76BF1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A833-76CB-43D8-A56B-B2EBF0A2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6F67-D2DF-4F83-823C-E293DAEE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45B8-32D2-4A0B-9596-FA51FE9C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DD8-5F74-45DE-A1A4-8494FBCE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598-3459-4150-9C3D-957B5003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2018-FE41-4D2D-BB5B-C8CEC326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A32-32B5-49D7-BBB6-DB2C6ECA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222C-EC80-4B22-AB91-6ED1D4A09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4560" y="510840"/>
            <a:ext cx="18676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B-730 Aula 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squ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3880" y="49968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TA-M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4762440" y="3409920"/>
            <a:ext cx="2057400" cy="1562040"/>
          </a:xfrm>
          <a:custGeom>
            <a:avLst/>
            <a:gdLst/>
            <a:ahLst/>
            <a:rect l="l" t="t" r="r" b="b"/>
            <a:pathLst>
              <a:path w="1296" h="984">
                <a:moveTo>
                  <a:pt x="0" y="0"/>
                </a:moveTo>
                <a:lnTo>
                  <a:pt x="1296" y="984"/>
                </a:lnTo>
                <a:lnTo>
                  <a:pt x="0" y="984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72160" y="4975200"/>
            <a:ext cx="2755800" cy="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999560" y="5027760"/>
            <a:ext cx="9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p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08440" y="1674720"/>
            <a:ext cx="9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776840" y="3406680"/>
            <a:ext cx="2741400" cy="20923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4720" y="1806480"/>
            <a:ext cx="297180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2 Aptos + 1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 Aptos +3 Casas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Casas </a:t>
            </a:r>
            <a:r>
              <a:rPr b="0" lang="en-US" sz="1600" spc="-1" strike="noStrike">
                <a:solidFill>
                  <a:srgbClr val="99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1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Integer Aptos,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19680" y="2408400"/>
            <a:ext cx="2684520" cy="306036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4762440" y="1674720"/>
            <a:ext cx="0" cy="4068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5678640" y="54072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7518240" y="54054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6591240" y="5409720"/>
            <a:ext cx="0" cy="18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62720" y="5584680"/>
            <a:ext cx="37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24560" y="558792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367760" y="557856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4673160" y="391464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361040" y="426420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4677840" y="34005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681080" y="444024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4676400" y="497664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672080" y="287640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76880" y="21718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370400" y="27003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65720" y="32130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73640" y="37544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338720" y="4802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762440" y="498168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676840" y="2352240"/>
            <a:ext cx="0" cy="314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6591240" y="2347560"/>
            <a:ext cx="0" cy="314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7520040" y="2347560"/>
            <a:ext cx="0" cy="314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43720" y="4929120"/>
            <a:ext cx="9504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472520" y="493380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629320" y="4929120"/>
            <a:ext cx="9504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762440" y="443880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43720" y="438624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472520" y="439092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629320" y="4386240"/>
            <a:ext cx="9504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2440" y="390996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43720" y="385776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72520" y="386244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629320" y="385776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762440" y="339552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543720" y="334332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72520" y="334800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29320" y="334332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762440" y="235728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543720" y="230508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472520" y="230976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629320" y="230508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67120" y="287172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548400" y="2819520"/>
            <a:ext cx="9540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477200" y="282420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34000" y="2819520"/>
            <a:ext cx="9540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4676400" y="54943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761000" y="5409720"/>
            <a:ext cx="0" cy="18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710240" y="4933800"/>
            <a:ext cx="9504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710240" y="4390920"/>
            <a:ext cx="9504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710240" y="3862440"/>
            <a:ext cx="95040" cy="950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710240" y="3348000"/>
            <a:ext cx="9504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10240" y="230976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14920" y="282420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543720" y="544356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472520" y="544824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629320" y="544356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08440" y="5450040"/>
            <a:ext cx="9540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337000" y="3541680"/>
            <a:ext cx="1689120" cy="193536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529320" y="4906800"/>
            <a:ext cx="127080" cy="127080"/>
          </a:xfrm>
          <a:prstGeom prst="ellipse">
            <a:avLst/>
          </a:prstGeom>
          <a:solidFill>
            <a:srgbClr val="ff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783480" y="2114640"/>
            <a:ext cx="1827000" cy="1255680"/>
          </a:xfrm>
          <a:prstGeom prst="wedgeRoundRectCallout">
            <a:avLst>
              <a:gd name="adj1" fmla="val -58166"/>
              <a:gd name="adj2" fmla="val 171745"/>
              <a:gd name="adj3" fmla="val 16667"/>
            </a:avLst>
          </a:prstGeom>
          <a:solidFill>
            <a:srgbClr val="cc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Casas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Apto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6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6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34440" y="2937600"/>
            <a:ext cx="478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ercícios em Sa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04320" y="3718800"/>
            <a:ext cx="375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Bom Trabalh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4848120" y="1494360"/>
            <a:ext cx="3930840" cy="4658400"/>
            <a:chOff x="4848120" y="1494360"/>
            <a:chExt cx="3930840" cy="4658400"/>
          </a:xfrm>
        </p:grpSpPr>
        <p:sp>
          <p:nvSpPr>
            <p:cNvPr id="474" name=""/>
            <p:cNvSpPr/>
            <p:nvPr/>
          </p:nvSpPr>
          <p:spPr>
            <a:xfrm>
              <a:off x="5367240" y="4857840"/>
              <a:ext cx="1014480" cy="923760"/>
            </a:xfrm>
            <a:custGeom>
              <a:avLst/>
              <a:gdLst/>
              <a:ahLst/>
              <a:rect l="l" t="t" r="r" b="b"/>
              <a:pathLst>
                <a:path w="639" h="585">
                  <a:moveTo>
                    <a:pt x="0" y="0"/>
                  </a:moveTo>
                  <a:lnTo>
                    <a:pt x="510" y="186"/>
                  </a:lnTo>
                  <a:lnTo>
                    <a:pt x="639" y="585"/>
                  </a:lnTo>
                  <a:lnTo>
                    <a:pt x="207" y="5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442360" y="5446800"/>
              <a:ext cx="30636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78520" y="5778360"/>
              <a:ext cx="359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30800" y="5364000"/>
              <a:ext cx="382680" cy="4143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613480" y="5364000"/>
              <a:ext cx="382680" cy="4143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613480" y="4535640"/>
              <a:ext cx="382680" cy="4143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230800" y="4535640"/>
              <a:ext cx="382680" cy="4143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30800" y="4950000"/>
              <a:ext cx="382680" cy="4140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613480" y="4950000"/>
              <a:ext cx="382680" cy="4140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996160" y="5364000"/>
              <a:ext cx="382320" cy="4143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378480" y="5364000"/>
              <a:ext cx="381240" cy="4143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378480" y="4535640"/>
              <a:ext cx="38124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996160" y="4535640"/>
              <a:ext cx="382320" cy="4143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996160" y="4950000"/>
              <a:ext cx="382320" cy="4140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78480" y="4950000"/>
              <a:ext cx="381240" cy="4140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59720" y="5364000"/>
              <a:ext cx="38232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42040" y="536400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142040" y="453564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759720" y="4535640"/>
              <a:ext cx="38232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59720" y="4950000"/>
              <a:ext cx="382320" cy="41400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142040" y="4950000"/>
              <a:ext cx="382680" cy="41400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524720" y="536400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07400" y="536400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07400" y="453564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524720" y="453564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524720" y="4950000"/>
              <a:ext cx="382680" cy="41400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07400" y="4950000"/>
              <a:ext cx="382680" cy="41400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230800" y="412128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13480" y="412128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13480" y="329256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30800" y="329256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30800" y="370692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13480" y="370692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996160" y="4121280"/>
              <a:ext cx="38232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378480" y="4121280"/>
              <a:ext cx="38124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78480" y="3292560"/>
              <a:ext cx="38124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96160" y="3292560"/>
              <a:ext cx="38232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96160" y="3706920"/>
              <a:ext cx="38232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78480" y="3706920"/>
              <a:ext cx="38124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59720" y="4121280"/>
              <a:ext cx="38232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142040" y="412128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142040" y="329256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759720" y="3292560"/>
              <a:ext cx="38232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759720" y="3706920"/>
              <a:ext cx="38232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42040" y="370692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524720" y="412128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07400" y="412128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07400" y="329256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24720" y="329256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524720" y="370692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907400" y="370692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230800" y="287820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13480" y="287820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613480" y="205092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30800" y="205092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30800" y="2465280"/>
              <a:ext cx="382680" cy="412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613480" y="2465280"/>
              <a:ext cx="382680" cy="412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96160" y="2878200"/>
              <a:ext cx="38232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78480" y="2878200"/>
              <a:ext cx="38124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78480" y="2050920"/>
              <a:ext cx="38124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996160" y="2050920"/>
              <a:ext cx="38232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96160" y="2465280"/>
              <a:ext cx="382320" cy="412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378480" y="2465280"/>
              <a:ext cx="381240" cy="412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59720" y="2878200"/>
              <a:ext cx="38232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42040" y="287820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142040" y="205092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59720" y="2050920"/>
              <a:ext cx="38232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759720" y="2465280"/>
              <a:ext cx="382320" cy="412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142040" y="2465280"/>
              <a:ext cx="382680" cy="412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24720" y="287820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907400" y="287820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907400" y="2050920"/>
              <a:ext cx="382680" cy="41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524720" y="2050920"/>
              <a:ext cx="382680" cy="41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524720" y="2465280"/>
              <a:ext cx="382680" cy="412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907400" y="2465280"/>
              <a:ext cx="382680" cy="412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48120" y="1719360"/>
              <a:ext cx="382680" cy="33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5230800" y="1719360"/>
              <a:ext cx="0" cy="42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68840" y="573732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56200" y="5737320"/>
              <a:ext cx="76320" cy="82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86520" y="573732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104240" y="573732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85120" y="5742000"/>
              <a:ext cx="777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21560" y="573732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250120" y="573732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573880" y="5322960"/>
              <a:ext cx="75960" cy="82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343560" y="532296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61240" y="5322960"/>
              <a:ext cx="75960" cy="82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91200" y="5322960"/>
              <a:ext cx="75960" cy="8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108920" y="532296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873920" y="532296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91240" y="532764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26240" y="5322960"/>
              <a:ext cx="76320" cy="8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256600" y="532296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343560" y="490860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61240" y="490860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91200" y="4910040"/>
              <a:ext cx="75960" cy="8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08920" y="490860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73920" y="490860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491240" y="4913280"/>
              <a:ext cx="76320" cy="8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726240" y="4910040"/>
              <a:ext cx="76320" cy="8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256600" y="490860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73880" y="449424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343560" y="449424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08920" y="449424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73920" y="449424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491240" y="450072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726240" y="4495680"/>
              <a:ext cx="76320" cy="8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256600" y="449424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573880" y="407988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343560" y="407988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61240" y="407988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91200" y="4081320"/>
              <a:ext cx="75960" cy="8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08920" y="407988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873920" y="407988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491240" y="408636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726240" y="4081320"/>
              <a:ext cx="76320" cy="8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256600" y="407988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73880" y="366552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343560" y="366552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61240" y="366552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91200" y="3666960"/>
              <a:ext cx="75960" cy="8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08920" y="366552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873920" y="366552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91240" y="367200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26240" y="3666960"/>
              <a:ext cx="76320" cy="8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256600" y="366552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43560" y="325116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961240" y="325116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191200" y="325296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08920" y="325116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873920" y="325116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491240" y="325764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26240" y="325296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256600" y="325116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73880" y="2836800"/>
              <a:ext cx="75960" cy="8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343560" y="2836800"/>
              <a:ext cx="76320" cy="8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961240" y="2836800"/>
              <a:ext cx="75960" cy="8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91200" y="283860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108920" y="2836800"/>
              <a:ext cx="75960" cy="8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873920" y="2836800"/>
              <a:ext cx="76320" cy="8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91240" y="284328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726240" y="283860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256600" y="2836800"/>
              <a:ext cx="76320" cy="8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573880" y="242424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343560" y="242424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961240" y="242424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191200" y="242424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108920" y="242424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873920" y="242424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91240" y="242892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726240" y="242424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256600" y="242424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568840" y="200988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338880" y="200988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56200" y="200988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104240" y="200988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867800" y="200988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85120" y="2014560"/>
              <a:ext cx="777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21560" y="2009880"/>
              <a:ext cx="75960" cy="8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250120" y="200988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465760" y="5409000"/>
              <a:ext cx="313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330880" y="1494360"/>
              <a:ext cx="3618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73440" y="5841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54680" y="5841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235560" y="584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603840" y="5842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002360" y="58456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378560" y="58456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759440" y="584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127720" y="5842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889160" y="5213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81240" y="4796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857480" y="4380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879800" y="3989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875120" y="3545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89160" y="3126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95640" y="2691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87720" y="2300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895640" y="1889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849920" y="1574640"/>
              <a:ext cx="3016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232240" y="4809960"/>
              <a:ext cx="2689560" cy="97956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 flipV="1">
              <a:off x="5230440" y="4459320"/>
              <a:ext cx="468360" cy="1324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224320" y="2049480"/>
              <a:ext cx="1154160" cy="372420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38880" y="5737320"/>
              <a:ext cx="76320" cy="82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73880" y="4908600"/>
              <a:ext cx="75960" cy="82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867800" y="573732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91200" y="4495680"/>
              <a:ext cx="75960" cy="8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86520" y="2009880"/>
              <a:ext cx="75960" cy="8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61240" y="449424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573880" y="325116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408120" y="98316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Black"/>
              </a:rPr>
              <a:t>Wolfe Helico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8440" y="4195440"/>
            <a:ext cx="3157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x </a:t>
            </a: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3.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2.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.t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600.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200.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1.8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6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202000" y="2043000"/>
            <a:ext cx="2322360" cy="3730680"/>
            <a:chOff x="5202000" y="2043000"/>
            <a:chExt cx="2322360" cy="3730680"/>
          </a:xfrm>
        </p:grpSpPr>
        <p:sp>
          <p:nvSpPr>
            <p:cNvPr id="667" name=""/>
            <p:cNvSpPr/>
            <p:nvPr/>
          </p:nvSpPr>
          <p:spPr>
            <a:xfrm flipH="1" flipV="1">
              <a:off x="5223960" y="3276720"/>
              <a:ext cx="1528920" cy="2496960"/>
            </a:xfrm>
            <a:prstGeom prst="line">
              <a:avLst/>
            </a:prstGeom>
            <a:ln w="1908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5202000" y="2043000"/>
              <a:ext cx="2322360" cy="3710160"/>
            </a:xfrm>
            <a:prstGeom prst="line">
              <a:avLst/>
            </a:prstGeom>
            <a:ln w="1908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 flipV="1">
              <a:off x="5256000" y="2685960"/>
              <a:ext cx="1887480" cy="3075120"/>
            </a:xfrm>
            <a:prstGeom prst="line">
              <a:avLst/>
            </a:prstGeom>
            <a:ln w="1908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5226120" y="3898800"/>
              <a:ext cx="1138320" cy="1819440"/>
            </a:xfrm>
            <a:prstGeom prst="line">
              <a:avLst/>
            </a:prstGeom>
            <a:ln w="1908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6135840" y="5108400"/>
            <a:ext cx="288720" cy="717840"/>
            <a:chOff x="6135840" y="5108400"/>
            <a:chExt cx="288720" cy="717840"/>
          </a:xfrm>
        </p:grpSpPr>
        <p:sp>
          <p:nvSpPr>
            <p:cNvPr id="672" name=""/>
            <p:cNvSpPr/>
            <p:nvPr/>
          </p:nvSpPr>
          <p:spPr>
            <a:xfrm>
              <a:off x="6326280" y="5727600"/>
              <a:ext cx="98280" cy="98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135840" y="5108400"/>
              <a:ext cx="98280" cy="98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74" name=""/>
          <p:cNvGraphicFramePr/>
          <p:nvPr/>
        </p:nvGraphicFramePr>
        <p:xfrm>
          <a:off x="173160" y="2236680"/>
          <a:ext cx="4646520" cy="184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60" y="2236680"/>
                    <a:ext cx="46465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78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5367240" y="4857840"/>
            <a:ext cx="1014480" cy="919080"/>
          </a:xfrm>
          <a:custGeom>
            <a:avLst/>
            <a:gdLst/>
            <a:ahLst/>
            <a:rect l="l" t="t" r="r" b="b"/>
            <a:pathLst>
              <a:path w="639" h="579">
                <a:moveTo>
                  <a:pt x="0" y="0"/>
                </a:moveTo>
                <a:lnTo>
                  <a:pt x="516" y="189"/>
                </a:lnTo>
                <a:lnTo>
                  <a:pt x="639" y="579"/>
                </a:lnTo>
                <a:lnTo>
                  <a:pt x="210" y="5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408120" y="98316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Black"/>
              </a:rPr>
              <a:t>Wolfe Helico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98440" y="4195440"/>
            <a:ext cx="3157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x </a:t>
            </a: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3.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2.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.t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600.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200.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1.8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6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442360" y="5446800"/>
            <a:ext cx="30636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078520" y="5778360"/>
            <a:ext cx="359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230800" y="5364000"/>
            <a:ext cx="382680" cy="414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613480" y="5364000"/>
            <a:ext cx="382680" cy="414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613480" y="453564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230800" y="4535640"/>
            <a:ext cx="382680" cy="414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230800" y="4950000"/>
            <a:ext cx="382680" cy="414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613480" y="4950000"/>
            <a:ext cx="382680" cy="414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996160" y="5364000"/>
            <a:ext cx="382320" cy="414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378480" y="5364000"/>
            <a:ext cx="38124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378480" y="4535640"/>
            <a:ext cx="38124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996160" y="453564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996160" y="4950000"/>
            <a:ext cx="382320" cy="414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78480" y="4950000"/>
            <a:ext cx="381240" cy="414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759720" y="536400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142040" y="536400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42040" y="453564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759720" y="453564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759720" y="4950000"/>
            <a:ext cx="382320" cy="414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142040" y="4950000"/>
            <a:ext cx="382680" cy="414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524720" y="536400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907400" y="536400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907400" y="453564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524720" y="453564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24720" y="4950000"/>
            <a:ext cx="382680" cy="414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907400" y="4950000"/>
            <a:ext cx="382680" cy="414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230800" y="412128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613480" y="412128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613480" y="329256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30800" y="329256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230800" y="370692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613480" y="370692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996160" y="412128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378480" y="4121280"/>
            <a:ext cx="38124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378480" y="3292560"/>
            <a:ext cx="38124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996160" y="329256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996160" y="370692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378480" y="3706920"/>
            <a:ext cx="38124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759720" y="412128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142040" y="412128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142040" y="329256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759720" y="329256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759720" y="370692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142040" y="370692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24720" y="412128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907400" y="412128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907400" y="329256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524720" y="329256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524720" y="370692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907400" y="370692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230800" y="287820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613480" y="287820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613480" y="205092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230800" y="205092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230800" y="2465280"/>
            <a:ext cx="382680" cy="412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13480" y="2465280"/>
            <a:ext cx="382680" cy="412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996160" y="287820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378480" y="2878200"/>
            <a:ext cx="38124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378480" y="2050920"/>
            <a:ext cx="38124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996160" y="205092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996160" y="2465280"/>
            <a:ext cx="382320" cy="412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78480" y="2465280"/>
            <a:ext cx="381240" cy="412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59720" y="287820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142040" y="287820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142040" y="205092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59720" y="205092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59720" y="2465280"/>
            <a:ext cx="382320" cy="412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142040" y="2465280"/>
            <a:ext cx="382680" cy="412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524720" y="287820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907400" y="287820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907400" y="2050920"/>
            <a:ext cx="38268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24720" y="2050920"/>
            <a:ext cx="38268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24720" y="2465280"/>
            <a:ext cx="382680" cy="412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907400" y="2465280"/>
            <a:ext cx="382680" cy="412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848120" y="1719360"/>
            <a:ext cx="382680" cy="33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230800" y="1719360"/>
            <a:ext cx="0" cy="42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568840" y="573732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956200" y="5737320"/>
            <a:ext cx="76320" cy="82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186520" y="573732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104240" y="573732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485120" y="5742000"/>
            <a:ext cx="777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721560" y="573732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250120" y="573732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73880" y="5322960"/>
            <a:ext cx="75960" cy="82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343560" y="532296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961240" y="5322960"/>
            <a:ext cx="75960" cy="82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191200" y="5322960"/>
            <a:ext cx="75960" cy="8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108920" y="532296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873920" y="532296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491240" y="532764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726240" y="5322960"/>
            <a:ext cx="76320" cy="8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256600" y="532296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343560" y="490860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961240" y="490860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191200" y="4910040"/>
            <a:ext cx="7596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108920" y="490860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873920" y="490860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491240" y="4913280"/>
            <a:ext cx="76320" cy="8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726240" y="4910040"/>
            <a:ext cx="7632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256600" y="490860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573880" y="449424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343560" y="449424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108920" y="449424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873920" y="449424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491240" y="450072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726240" y="4495680"/>
            <a:ext cx="7632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256600" y="449424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573880" y="407988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343560" y="407988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961240" y="407988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191200" y="4081320"/>
            <a:ext cx="7596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108920" y="407988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873920" y="407988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491240" y="408636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726240" y="4081320"/>
            <a:ext cx="7632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256600" y="407988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573880" y="366552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343560" y="366552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961240" y="366552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191200" y="3666960"/>
            <a:ext cx="7596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108920" y="366552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873920" y="366552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491240" y="367200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726240" y="3666960"/>
            <a:ext cx="7632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256600" y="366552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343560" y="325116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961240" y="325116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191200" y="325296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108920" y="325116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873920" y="325116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491240" y="325764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726240" y="325296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256600" y="325116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573880" y="2836800"/>
            <a:ext cx="75960" cy="8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343560" y="2836800"/>
            <a:ext cx="76320" cy="8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961240" y="2836800"/>
            <a:ext cx="75960" cy="8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191200" y="283860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108920" y="2836800"/>
            <a:ext cx="75960" cy="8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873920" y="2836800"/>
            <a:ext cx="76320" cy="8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491240" y="284328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726240" y="283860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256600" y="2836800"/>
            <a:ext cx="76320" cy="8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573880" y="242424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343560" y="242424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961240" y="242424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191200" y="242424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108920" y="242424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873920" y="242424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491240" y="242892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726240" y="242424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256600" y="242424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568840" y="200988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338880" y="200988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956200" y="200988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104240" y="200988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867800" y="200988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485120" y="2014560"/>
            <a:ext cx="777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721560" y="2009880"/>
            <a:ext cx="75960" cy="8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8250120" y="200988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465760" y="5409000"/>
            <a:ext cx="313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330880" y="1494360"/>
            <a:ext cx="361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473440" y="584100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854680" y="584100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235560" y="584424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603840" y="584244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002360" y="584568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378560" y="584568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759440" y="584424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127720" y="584244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889160" y="521388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881240" y="479628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857480" y="438048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879800" y="398988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75120" y="354528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889160" y="312624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895640" y="269136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887720" y="230076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895640" y="188964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849920" y="1574640"/>
            <a:ext cx="301680" cy="33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232240" y="4809960"/>
            <a:ext cx="2689560" cy="97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 flipV="1">
            <a:off x="5230440" y="4459320"/>
            <a:ext cx="468360" cy="1324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224320" y="2049480"/>
            <a:ext cx="1154160" cy="372420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338880" y="5737320"/>
            <a:ext cx="76320" cy="82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573880" y="4908600"/>
            <a:ext cx="75960" cy="82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867800" y="573732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191200" y="4495680"/>
            <a:ext cx="7596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186520" y="2009880"/>
            <a:ext cx="75960" cy="8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961240" y="449424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573880" y="325116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173160" y="2236680"/>
          <a:ext cx="4646520" cy="184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60" y="2236680"/>
                    <a:ext cx="46465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4" name=""/>
          <p:cNvSpPr/>
          <p:nvPr/>
        </p:nvSpPr>
        <p:spPr>
          <a:xfrm>
            <a:off x="6554880" y="2572920"/>
            <a:ext cx="1407600" cy="1604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1,1) -&gt; $ 5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1,2) -&gt; $ 7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2,0) -&gt; $ 6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2,1) -&gt; $ 8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3,0) -&gt; $ 9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77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8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680200" y="3223440"/>
            <a:ext cx="40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uito Obrigad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4520" y="2322000"/>
            <a:ext cx="18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72720" y="93492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Organização e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19240" y="3868560"/>
            <a:ext cx="8397720" cy="285840"/>
            <a:chOff x="219240" y="3868560"/>
            <a:chExt cx="8397720" cy="285840"/>
          </a:xfrm>
        </p:grpSpPr>
        <p:sp>
          <p:nvSpPr>
            <p:cNvPr id="54" name=""/>
            <p:cNvSpPr/>
            <p:nvPr/>
          </p:nvSpPr>
          <p:spPr>
            <a:xfrm>
              <a:off x="606600" y="3875040"/>
              <a:ext cx="8010360" cy="239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9240" y="3868560"/>
              <a:ext cx="324000" cy="285840"/>
            </a:xfrm>
            <a:prstGeom prst="rightArrow">
              <a:avLst>
                <a:gd name="adj1" fmla="val 50000"/>
                <a:gd name="adj2" fmla="val 28338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" name=""/>
          <p:cNvGraphicFramePr/>
          <p:nvPr/>
        </p:nvGraphicFramePr>
        <p:xfrm>
          <a:off x="306360" y="1792440"/>
          <a:ext cx="8645400" cy="458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60" y="1792440"/>
                    <a:ext cx="86454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7920" y="1127160"/>
            <a:ext cx="43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Programação (Linear) Inte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0440" y="1762200"/>
            <a:ext cx="3690720" cy="41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Uma família deseja sair de férias e reservou R$ 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12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.000,00 para as despesas de alugue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No lugar onde a família deseja ficar existem para locação, por temporada, Aptos de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quartos a R$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4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.000,00 e Casas de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quarto a R$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3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.000,00.  A família precisa de pelo menos 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casa pois têm um cachorro. Qual a melhor combinação de Aptos e Casas que maximiza o número de quart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76760" y="2066760"/>
            <a:ext cx="392436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Aptos +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4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Aptos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3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Casas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asas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ptos, Cas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variáveis intei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37920" y="1127160"/>
            <a:ext cx="43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Programação (Linear) Inte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63640" y="2068560"/>
            <a:ext cx="327348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Arial Black"/>
              </a:rPr>
              <a:t>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b</a:t>
            </a:r>
            <a:r>
              <a:rPr b="0" lang="en-US" sz="1600" spc="-1" strike="noStrike" baseline="-25000">
                <a:solidFill>
                  <a:srgbClr val="9933ff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b</a:t>
            </a:r>
            <a:r>
              <a:rPr b="0" lang="en-US" sz="1600" spc="-1" strike="noStrike" baseline="-25000">
                <a:solidFill>
                  <a:srgbClr val="9933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m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m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b</a:t>
            </a:r>
            <a:r>
              <a:rPr b="0" lang="en-US" sz="1600" spc="-1" strike="noStrike" baseline="-25000">
                <a:solidFill>
                  <a:srgbClr val="9933ff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, ... ,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variáveis intei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76760" y="2066760"/>
            <a:ext cx="392436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Aptos +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4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Aptos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3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Casas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asas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ptos, Cas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variáveis intei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762440" y="1674720"/>
            <a:ext cx="0" cy="406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678640" y="54072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518240" y="54054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591240" y="5409720"/>
            <a:ext cx="0" cy="18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584680"/>
            <a:ext cx="37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99560" y="5027760"/>
            <a:ext cx="9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p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24560" y="558792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67760" y="557856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673160" y="391464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61040" y="426420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440" y="1674720"/>
            <a:ext cx="9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4720" y="1806480"/>
            <a:ext cx="297180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2 Aptos + 1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4 Aptos + 3 Casas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asas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Integer Aptos,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677840" y="34005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681080" y="444024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676400" y="497664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672080" y="287640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6880" y="21718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70400" y="27003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65720" y="32130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73640" y="37544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38720" y="4802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99560" y="5027760"/>
            <a:ext cx="9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p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440" y="1674720"/>
            <a:ext cx="9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338720" y="1674720"/>
            <a:ext cx="4376520" cy="4250520"/>
            <a:chOff x="4338720" y="1674720"/>
            <a:chExt cx="4376520" cy="4250520"/>
          </a:xfrm>
        </p:grpSpPr>
        <p:sp>
          <p:nvSpPr>
            <p:cNvPr id="105" name=""/>
            <p:cNvSpPr/>
            <p:nvPr/>
          </p:nvSpPr>
          <p:spPr>
            <a:xfrm>
              <a:off x="4559400" y="5499000"/>
              <a:ext cx="4155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762440" y="1674720"/>
              <a:ext cx="0" cy="4068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678640" y="5407200"/>
              <a:ext cx="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7518240" y="5405400"/>
              <a:ext cx="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6591240" y="5409720"/>
              <a:ext cx="0" cy="18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668480" y="236052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62720" y="5584680"/>
              <a:ext cx="37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24560" y="558792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67760" y="5578560"/>
              <a:ext cx="49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673160" y="391464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668480" y="236052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61040" y="4264200"/>
              <a:ext cx="51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677840" y="340056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681080" y="444024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676400" y="497664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672080" y="2876400"/>
              <a:ext cx="17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76880" y="21718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70400" y="27003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65720" y="32130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73640" y="37544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38720" y="48020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62440" y="4981680"/>
              <a:ext cx="2752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676840" y="2352240"/>
              <a:ext cx="0" cy="314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6591240" y="2347560"/>
              <a:ext cx="0" cy="314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7520040" y="2347560"/>
              <a:ext cx="0" cy="314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43720" y="492912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72520" y="493380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29320" y="492912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62440" y="4438800"/>
              <a:ext cx="2752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43720" y="438624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72520" y="439092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29320" y="438624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62440" y="3909960"/>
              <a:ext cx="2752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43720" y="385776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520" y="386244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29320" y="385776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62440" y="3395520"/>
              <a:ext cx="2752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43720" y="334332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72520" y="334800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29320" y="334332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62440" y="2357280"/>
              <a:ext cx="2752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43720" y="230508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72520" y="230976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29320" y="230508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67120" y="2871720"/>
              <a:ext cx="2752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48400" y="2819520"/>
              <a:ext cx="9540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77200" y="282420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34000" y="2819520"/>
              <a:ext cx="9540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676400" y="549432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761000" y="5409720"/>
              <a:ext cx="0" cy="18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10240" y="493380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10240" y="439092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10240" y="386244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10240" y="334800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10240" y="230976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14920" y="282420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43720" y="544356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72520" y="544824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29320" y="544356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08440" y="5450040"/>
              <a:ext cx="9540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4720" y="1806480"/>
            <a:ext cx="297180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2 Aptos + 1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4 Aptos + 3 Casas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asas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Integer Aptos,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6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762440" y="3409920"/>
            <a:ext cx="2057400" cy="1562040"/>
          </a:xfrm>
          <a:custGeom>
            <a:avLst/>
            <a:gdLst/>
            <a:ahLst/>
            <a:rect l="l" t="t" r="r" b="b"/>
            <a:pathLst>
              <a:path w="1296" h="984">
                <a:moveTo>
                  <a:pt x="0" y="0"/>
                </a:moveTo>
                <a:lnTo>
                  <a:pt x="1296" y="984"/>
                </a:lnTo>
                <a:lnTo>
                  <a:pt x="0" y="984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72160" y="4975200"/>
            <a:ext cx="2755800" cy="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99560" y="5027760"/>
            <a:ext cx="9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p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440" y="1674720"/>
            <a:ext cx="9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76840" y="3406680"/>
            <a:ext cx="2741400" cy="20923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4720" y="1806480"/>
            <a:ext cx="297180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2 Aptos + 1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 Aptos +3 Casas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Casas </a:t>
            </a:r>
            <a:r>
              <a:rPr b="0" lang="en-US" sz="1600" spc="-1" strike="noStrike">
                <a:solidFill>
                  <a:srgbClr val="99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1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Integer Aptos,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19680" y="2408400"/>
            <a:ext cx="2684520" cy="306036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338720" y="1674720"/>
            <a:ext cx="4376520" cy="4250520"/>
            <a:chOff x="4338720" y="1674720"/>
            <a:chExt cx="4376520" cy="4250520"/>
          </a:xfrm>
        </p:grpSpPr>
        <p:sp>
          <p:nvSpPr>
            <p:cNvPr id="179" name=""/>
            <p:cNvSpPr/>
            <p:nvPr/>
          </p:nvSpPr>
          <p:spPr>
            <a:xfrm>
              <a:off x="4559400" y="5499000"/>
              <a:ext cx="4155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762440" y="1674720"/>
              <a:ext cx="0" cy="4068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678640" y="5407200"/>
              <a:ext cx="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7518240" y="5405400"/>
              <a:ext cx="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591240" y="5409720"/>
              <a:ext cx="0" cy="18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668480" y="236052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62720" y="5584680"/>
              <a:ext cx="37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24560" y="558792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67760" y="5578560"/>
              <a:ext cx="49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673160" y="391464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668480" y="236052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61040" y="4264200"/>
              <a:ext cx="51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677840" y="340056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4681080" y="444024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676400" y="497664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672080" y="2876400"/>
              <a:ext cx="17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76880" y="21718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70400" y="27003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65720" y="32130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73640" y="37544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38720" y="48020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62440" y="4981680"/>
              <a:ext cx="2752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676840" y="2352240"/>
              <a:ext cx="0" cy="314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591240" y="2347560"/>
              <a:ext cx="0" cy="314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520040" y="2347560"/>
              <a:ext cx="0" cy="314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43720" y="492912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72520" y="493380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629320" y="492912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62440" y="4438800"/>
              <a:ext cx="2752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43720" y="438624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72520" y="439092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29320" y="438624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62440" y="3909960"/>
              <a:ext cx="2752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43720" y="385776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72520" y="386244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29320" y="385776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62440" y="3395520"/>
              <a:ext cx="2752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543720" y="334332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72520" y="334800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629320" y="334332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62440" y="2357280"/>
              <a:ext cx="2752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43720" y="230508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2520" y="230976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29320" y="230508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67120" y="2871720"/>
              <a:ext cx="2752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48400" y="2819520"/>
              <a:ext cx="9540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77200" y="282420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34000" y="2819520"/>
              <a:ext cx="9540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676400" y="549432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761000" y="5409720"/>
              <a:ext cx="0" cy="18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10240" y="493380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10240" y="439092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10240" y="386244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10240" y="334800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10240" y="230976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4920" y="282420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3720" y="544356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72520" y="544824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29320" y="544356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08440" y="5450040"/>
              <a:ext cx="9540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4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762440" y="3409920"/>
            <a:ext cx="2057400" cy="1562040"/>
          </a:xfrm>
          <a:custGeom>
            <a:avLst/>
            <a:gdLst/>
            <a:ahLst/>
            <a:rect l="l" t="t" r="r" b="b"/>
            <a:pathLst>
              <a:path w="1296" h="984">
                <a:moveTo>
                  <a:pt x="0" y="0"/>
                </a:moveTo>
                <a:lnTo>
                  <a:pt x="1296" y="984"/>
                </a:lnTo>
                <a:lnTo>
                  <a:pt x="0" y="984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72160" y="4975200"/>
            <a:ext cx="2755800" cy="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999560" y="5027760"/>
            <a:ext cx="9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p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440" y="1674720"/>
            <a:ext cx="9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76840" y="3406680"/>
            <a:ext cx="2741400" cy="20923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4720" y="1806480"/>
            <a:ext cx="297180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2 Aptos + 1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 Aptos +3 Casas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Casas </a:t>
            </a:r>
            <a:r>
              <a:rPr b="0" lang="en-US" sz="1600" spc="-1" strike="noStrike">
                <a:solidFill>
                  <a:srgbClr val="99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1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Integer Aptos,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19680" y="2408400"/>
            <a:ext cx="2684520" cy="306036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762440" y="1674720"/>
            <a:ext cx="0" cy="4068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678640" y="54072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518240" y="54054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591240" y="5409720"/>
            <a:ext cx="0" cy="18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62720" y="5584680"/>
            <a:ext cx="37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24560" y="558792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67760" y="557856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673160" y="391464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61040" y="426420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677840" y="34005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681080" y="444024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676400" y="497664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672080" y="287640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76880" y="21718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70400" y="27003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65720" y="32130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73640" y="37544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38720" y="4802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62440" y="498168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676840" y="2352240"/>
            <a:ext cx="0" cy="314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591240" y="2347560"/>
            <a:ext cx="0" cy="314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7520040" y="2347560"/>
            <a:ext cx="0" cy="314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43720" y="492912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72520" y="493380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29320" y="492912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62440" y="443880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43720" y="438624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472520" y="439092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29320" y="438624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62440" y="390996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543720" y="385776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472520" y="386244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29320" y="385776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62440" y="339552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43720" y="334332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72520" y="334800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29320" y="334332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62440" y="235728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543720" y="230508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472520" y="230976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29320" y="230508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67120" y="287172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48400" y="2819520"/>
            <a:ext cx="9540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77200" y="282420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34000" y="2819520"/>
            <a:ext cx="9540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676400" y="54943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761000" y="5409720"/>
            <a:ext cx="0" cy="18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10240" y="493380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10240" y="439092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10240" y="386244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10240" y="334800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10240" y="230976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14920" y="282420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43720" y="544356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72520" y="544824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629320" y="544356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08440" y="5450040"/>
            <a:ext cx="9540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75320" y="3532320"/>
            <a:ext cx="1689120" cy="193500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86720" y="4916520"/>
            <a:ext cx="126720" cy="127080"/>
          </a:xfrm>
          <a:prstGeom prst="ellipse">
            <a:avLst/>
          </a:prstGeom>
          <a:solidFill>
            <a:srgbClr val="ff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83480" y="2114640"/>
            <a:ext cx="1827000" cy="1255680"/>
          </a:xfrm>
          <a:prstGeom prst="wedgeRoundRectCallout">
            <a:avLst>
              <a:gd name="adj1" fmla="val -43569"/>
              <a:gd name="adj2" fmla="val 169467"/>
              <a:gd name="adj3" fmla="val 16667"/>
            </a:avLst>
          </a:prstGeom>
          <a:solidFill>
            <a:srgbClr val="cc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Casas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Apto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1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4762440" y="3409920"/>
            <a:ext cx="2057400" cy="1562040"/>
          </a:xfrm>
          <a:custGeom>
            <a:avLst/>
            <a:gdLst/>
            <a:ahLst/>
            <a:rect l="l" t="t" r="r" b="b"/>
            <a:pathLst>
              <a:path w="1296" h="984">
                <a:moveTo>
                  <a:pt x="0" y="0"/>
                </a:moveTo>
                <a:lnTo>
                  <a:pt x="1296" y="984"/>
                </a:lnTo>
                <a:lnTo>
                  <a:pt x="0" y="984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72160" y="4975200"/>
            <a:ext cx="2755800" cy="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999560" y="5027760"/>
            <a:ext cx="9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p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440" y="1674720"/>
            <a:ext cx="9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76840" y="3406680"/>
            <a:ext cx="2741400" cy="20923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4720" y="1806480"/>
            <a:ext cx="297180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2 Aptos + 1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 Aptos +3 Casas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Casas </a:t>
            </a:r>
            <a:r>
              <a:rPr b="0" lang="en-US" sz="1600" spc="-1" strike="noStrike">
                <a:solidFill>
                  <a:srgbClr val="99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1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Integer Aptos,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19680" y="2408400"/>
            <a:ext cx="2684520" cy="306036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762440" y="1674720"/>
            <a:ext cx="0" cy="4068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678640" y="54072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518240" y="54054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6591240" y="5409720"/>
            <a:ext cx="0" cy="18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62720" y="5584680"/>
            <a:ext cx="37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24560" y="558792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67760" y="557856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673160" y="391464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361040" y="426420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677840" y="34005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681080" y="444024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4676400" y="497664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4672080" y="287640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376880" y="21718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70400" y="27003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65720" y="32130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73640" y="37544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38720" y="4802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62440" y="498168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676840" y="2352240"/>
            <a:ext cx="0" cy="314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591240" y="2347560"/>
            <a:ext cx="0" cy="314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7520040" y="2347560"/>
            <a:ext cx="0" cy="314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43720" y="4929120"/>
            <a:ext cx="9504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72520" y="493380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9320" y="4929120"/>
            <a:ext cx="9504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762440" y="443880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543720" y="438624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472520" y="439092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629320" y="4386240"/>
            <a:ext cx="9504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62440" y="390996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543720" y="385776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72520" y="386244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29320" y="385776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62440" y="339552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543720" y="334332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472520" y="334800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629320" y="334332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62440" y="235728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543720" y="230508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472520" y="230976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29320" y="230508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67120" y="287172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48400" y="2819520"/>
            <a:ext cx="9540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77200" y="282420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4000" y="2819520"/>
            <a:ext cx="9540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4676400" y="54943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761000" y="5409720"/>
            <a:ext cx="0" cy="18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710240" y="4933800"/>
            <a:ext cx="9504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10240" y="4390920"/>
            <a:ext cx="9504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710240" y="3862440"/>
            <a:ext cx="95040" cy="950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10240" y="3348000"/>
            <a:ext cx="9504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0240" y="230976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14920" y="282420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543720" y="544356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472520" y="544824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29320" y="544356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08440" y="5450040"/>
            <a:ext cx="9540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575320" y="3532320"/>
            <a:ext cx="1689120" cy="193500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86720" y="4916520"/>
            <a:ext cx="126720" cy="127080"/>
          </a:xfrm>
          <a:prstGeom prst="ellipse">
            <a:avLst/>
          </a:prstGeom>
          <a:solidFill>
            <a:srgbClr val="ff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9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Sato</cp:lastModifiedBy>
  <cp:lastPrinted>2000-07-03T14:27:54Z</cp:lastPrinted>
  <dcterms:modified xsi:type="dcterms:W3CDTF">2004-01-11T18:20:15Z</dcterms:modified>
  <cp:revision>202</cp:revision>
  <dc:subject/>
  <dc:title>Mercados Digitais</dc:title>
</cp:coreProperties>
</file>