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E4F-16A7-44E4-BC90-2CFC834C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090-C629-44D8-BD97-CE52DBAD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5E4-CC88-4F37-8A0F-3BFC2456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52E-2E6C-402E-9667-7C3AD1AD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107-CEA8-4B0D-BD62-65CBB832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ED4-FD55-4FB2-8599-1CD05EA9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FB8-002B-4E82-B534-0D8BF81D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CDA-CE96-4775-9B4C-40D64BF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B1E-4DF1-4542-83D8-809BFB0D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989-1607-4545-8C17-312B5AD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736-8DF0-4C84-9287-552D1A8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943-5E21-49C3-9B6E-143F7526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169-6AB3-4D80-BAA5-3CCFC5BAE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044880" y="5181480"/>
            <a:ext cx="490320" cy="765360"/>
          </a:xfrm>
          <a:custGeom>
            <a:avLst/>
            <a:gdLst/>
            <a:ahLst/>
            <a:rect l="l" t="t" r="r" b="b"/>
            <a:pathLst>
              <a:path w="309" h="482">
                <a:moveTo>
                  <a:pt x="0" y="0"/>
                </a:moveTo>
                <a:lnTo>
                  <a:pt x="309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03320" y="3225960"/>
            <a:ext cx="1550880" cy="2720880"/>
          </a:xfrm>
          <a:custGeom>
            <a:avLst/>
            <a:gdLst/>
            <a:ahLst/>
            <a:rect l="l" t="t" r="r" b="b"/>
            <a:pathLst>
              <a:path w="977" h="1714">
                <a:moveTo>
                  <a:pt x="8" y="0"/>
                </a:moveTo>
                <a:lnTo>
                  <a:pt x="977" y="868"/>
                </a:lnTo>
                <a:lnTo>
                  <a:pt x="968" y="1714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71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00680" y="2454120"/>
            <a:ext cx="3682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te que todos os pontos viáveis do problema estão em uma das regiões, ou seja, com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9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044880" y="5181480"/>
            <a:ext cx="490320" cy="765360"/>
          </a:xfrm>
          <a:custGeom>
            <a:avLst/>
            <a:gdLst/>
            <a:ahLst/>
            <a:rect l="l" t="t" r="r" b="b"/>
            <a:pathLst>
              <a:path w="309" h="482">
                <a:moveTo>
                  <a:pt x="0" y="0"/>
                </a:moveTo>
                <a:lnTo>
                  <a:pt x="309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03320" y="3225960"/>
            <a:ext cx="1550880" cy="2720880"/>
          </a:xfrm>
          <a:custGeom>
            <a:avLst/>
            <a:gdLst/>
            <a:ahLst/>
            <a:rect l="l" t="t" r="r" b="b"/>
            <a:pathLst>
              <a:path w="977" h="1714">
                <a:moveTo>
                  <a:pt x="8" y="0"/>
                </a:moveTo>
                <a:lnTo>
                  <a:pt x="977" y="868"/>
                </a:lnTo>
                <a:lnTo>
                  <a:pt x="968" y="1714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806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00680" y="2454120"/>
            <a:ext cx="368280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sub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9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05280" y="2843280"/>
            <a:ext cx="2799000" cy="157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898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00680" y="2454120"/>
            <a:ext cx="368280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scolha um sub-prob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8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 flipV="1">
            <a:off x="3035160" y="1986120"/>
            <a:ext cx="1800" cy="396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805280" y="2843280"/>
            <a:ext cx="2799000" cy="157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4880" y="5181480"/>
            <a:ext cx="490320" cy="765360"/>
          </a:xfrm>
          <a:custGeom>
            <a:avLst/>
            <a:gdLst/>
            <a:ahLst/>
            <a:rect l="l" t="t" r="r" b="b"/>
            <a:pathLst>
              <a:path w="309" h="482">
                <a:moveTo>
                  <a:pt x="0" y="0"/>
                </a:moveTo>
                <a:lnTo>
                  <a:pt x="309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989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900680" y="2454120"/>
            <a:ext cx="3682800" cy="26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1070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4951440" y="4782960"/>
            <a:ext cx="2217600" cy="1256040"/>
          </a:xfrm>
          <a:prstGeom prst="wedgeRoundRectCallout">
            <a:avLst>
              <a:gd name="adj1" fmla="val -133175"/>
              <a:gd name="adj2" fmla="val -21300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 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3039840" y="1982520"/>
            <a:ext cx="4680" cy="396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965320" y="507348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697120" y="1673280"/>
            <a:ext cx="3606840" cy="1746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24280" y="1747800"/>
            <a:ext cx="33796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960480" y="4148280"/>
            <a:ext cx="3448080" cy="2699280"/>
            <a:chOff x="960480" y="4148280"/>
            <a:chExt cx="3448080" cy="2699280"/>
          </a:xfrm>
        </p:grpSpPr>
        <p:sp>
          <p:nvSpPr>
            <p:cNvPr id="1084" name=""/>
            <p:cNvSpPr/>
            <p:nvPr/>
          </p:nvSpPr>
          <p:spPr>
            <a:xfrm>
              <a:off x="960480" y="4148280"/>
              <a:ext cx="3187800" cy="2063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28880" y="4222800"/>
              <a:ext cx="3379680" cy="26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Max  8 M + 5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s.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1 M + 1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6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9 M + 5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906800" y="4148280"/>
            <a:ext cx="3448080" cy="2699280"/>
            <a:chOff x="4906800" y="4148280"/>
            <a:chExt cx="3448080" cy="2699280"/>
          </a:xfrm>
        </p:grpSpPr>
        <p:sp>
          <p:nvSpPr>
            <p:cNvPr id="1087" name=""/>
            <p:cNvSpPr/>
            <p:nvPr/>
          </p:nvSpPr>
          <p:spPr>
            <a:xfrm>
              <a:off x="4906800" y="4148280"/>
              <a:ext cx="3187800" cy="2063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75200" y="4222800"/>
              <a:ext cx="3379680" cy="26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Max  8 M + 5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s.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1 M + 1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6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9 M + 5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3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 flipH="1">
            <a:off x="3433680" y="3421080"/>
            <a:ext cx="997200" cy="70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37000" y="3414600"/>
            <a:ext cx="996840" cy="70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031920" y="359856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014080" y="35697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016080" y="5499000"/>
            <a:ext cx="519120" cy="447840"/>
          </a:xfrm>
          <a:custGeom>
            <a:avLst/>
            <a:gdLst/>
            <a:ahLst/>
            <a:rect l="l" t="t" r="r" b="b"/>
            <a:pathLst>
              <a:path w="327" h="282">
                <a:moveTo>
                  <a:pt x="0" y="0"/>
                </a:moveTo>
                <a:lnTo>
                  <a:pt x="154" y="0"/>
                </a:lnTo>
                <a:lnTo>
                  <a:pt x="327" y="282"/>
                </a:lnTo>
                <a:lnTo>
                  <a:pt x="18" y="2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102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ou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900680" y="2454120"/>
            <a:ext cx="36828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3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4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008000" y="503712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016080" y="5499000"/>
            <a:ext cx="519120" cy="447840"/>
          </a:xfrm>
          <a:custGeom>
            <a:avLst/>
            <a:gdLst/>
            <a:ahLst/>
            <a:rect l="l" t="t" r="r" b="b"/>
            <a:pathLst>
              <a:path w="327" h="282">
                <a:moveTo>
                  <a:pt x="0" y="0"/>
                </a:moveTo>
                <a:lnTo>
                  <a:pt x="154" y="0"/>
                </a:lnTo>
                <a:lnTo>
                  <a:pt x="327" y="282"/>
                </a:lnTo>
                <a:lnTo>
                  <a:pt x="18" y="2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19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ou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00680" y="2454120"/>
            <a:ext cx="3682800" cy="26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3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97400" y="4782960"/>
            <a:ext cx="2217960" cy="1256040"/>
          </a:xfrm>
          <a:prstGeom prst="wedgeRoundRectCallout">
            <a:avLst>
              <a:gd name="adj1" fmla="val -106476"/>
              <a:gd name="adj2" fmla="val -2939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Invi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724200" y="4734000"/>
            <a:ext cx="0" cy="28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8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3016080" y="5499000"/>
            <a:ext cx="519120" cy="447840"/>
          </a:xfrm>
          <a:custGeom>
            <a:avLst/>
            <a:gdLst/>
            <a:ahLst/>
            <a:rect l="l" t="t" r="r" b="b"/>
            <a:pathLst>
              <a:path w="327" h="282">
                <a:moveTo>
                  <a:pt x="0" y="0"/>
                </a:moveTo>
                <a:lnTo>
                  <a:pt x="154" y="0"/>
                </a:lnTo>
                <a:lnTo>
                  <a:pt x="327" y="282"/>
                </a:lnTo>
                <a:lnTo>
                  <a:pt x="18" y="2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287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ou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900680" y="2454120"/>
            <a:ext cx="368280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4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02384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300320" y="549900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1372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200400" y="543564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630680" y="4708440"/>
            <a:ext cx="2217960" cy="1255680"/>
          </a:xfrm>
          <a:prstGeom prst="wedgeRoundRectCallout">
            <a:avLst>
              <a:gd name="adj1" fmla="val -107694"/>
              <a:gd name="adj2" fmla="val 1308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4.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 40.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7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1385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1388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2012760" y="3514680"/>
            <a:ext cx="996840" cy="70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016080" y="3508200"/>
            <a:ext cx="99720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38720" y="3692160"/>
            <a:ext cx="6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20520" y="366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204840" y="4227480"/>
            <a:ext cx="2711520" cy="679320"/>
            <a:chOff x="204840" y="4227480"/>
            <a:chExt cx="2711520" cy="679320"/>
          </a:xfrm>
        </p:grpSpPr>
        <p:sp>
          <p:nvSpPr>
            <p:cNvPr id="1399" name=""/>
            <p:cNvSpPr/>
            <p:nvPr/>
          </p:nvSpPr>
          <p:spPr>
            <a:xfrm>
              <a:off x="20484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324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3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2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Invi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119400" y="4227480"/>
            <a:ext cx="2711520" cy="679320"/>
            <a:chOff x="3119400" y="4227480"/>
            <a:chExt cx="2711520" cy="679320"/>
          </a:xfrm>
        </p:grpSpPr>
        <p:sp>
          <p:nvSpPr>
            <p:cNvPr id="1402" name=""/>
            <p:cNvSpPr/>
            <p:nvPr/>
          </p:nvSpPr>
          <p:spPr>
            <a:xfrm>
              <a:off x="311940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18780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0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1412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1415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2012760" y="3514680"/>
            <a:ext cx="996840" cy="70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016080" y="3508200"/>
            <a:ext cx="99720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38720" y="3692160"/>
            <a:ext cx="6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20520" y="366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4840" y="4227480"/>
            <a:ext cx="2711520" cy="679320"/>
            <a:chOff x="204840" y="4227480"/>
            <a:chExt cx="2711520" cy="679320"/>
          </a:xfrm>
        </p:grpSpPr>
        <p:sp>
          <p:nvSpPr>
            <p:cNvPr id="1426" name=""/>
            <p:cNvSpPr/>
            <p:nvPr/>
          </p:nvSpPr>
          <p:spPr>
            <a:xfrm>
              <a:off x="204840" y="4227480"/>
              <a:ext cx="2595600" cy="679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2880" y="4302000"/>
              <a:ext cx="264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SP3 = PO + [ C 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 2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Invi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3119400" y="4227480"/>
            <a:ext cx="2711520" cy="679320"/>
            <a:chOff x="3119400" y="4227480"/>
            <a:chExt cx="2711520" cy="679320"/>
          </a:xfrm>
        </p:grpSpPr>
        <p:sp>
          <p:nvSpPr>
            <p:cNvPr id="1429" name=""/>
            <p:cNvSpPr/>
            <p:nvPr/>
          </p:nvSpPr>
          <p:spPr>
            <a:xfrm>
              <a:off x="311940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18780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3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9240" y="4129200"/>
            <a:ext cx="8397720" cy="285480"/>
            <a:chOff x="219240" y="4129200"/>
            <a:chExt cx="8397720" cy="285480"/>
          </a:xfrm>
        </p:grpSpPr>
        <p:sp>
          <p:nvSpPr>
            <p:cNvPr id="54" name=""/>
            <p:cNvSpPr/>
            <p:nvPr/>
          </p:nvSpPr>
          <p:spPr>
            <a:xfrm>
              <a:off x="606600" y="4135320"/>
              <a:ext cx="8010360" cy="239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240" y="4129200"/>
              <a:ext cx="324000" cy="285480"/>
            </a:xfrm>
            <a:prstGeom prst="rightArrow">
              <a:avLst>
                <a:gd name="adj1" fmla="val 50000"/>
                <a:gd name="adj2" fmla="val 28373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16080" y="5499000"/>
            <a:ext cx="519120" cy="447840"/>
          </a:xfrm>
          <a:custGeom>
            <a:avLst/>
            <a:gdLst/>
            <a:ahLst/>
            <a:rect l="l" t="t" r="r" b="b"/>
            <a:pathLst>
              <a:path w="327" h="282">
                <a:moveTo>
                  <a:pt x="0" y="0"/>
                </a:moveTo>
                <a:lnTo>
                  <a:pt x="154" y="0"/>
                </a:lnTo>
                <a:lnTo>
                  <a:pt x="327" y="282"/>
                </a:lnTo>
                <a:lnTo>
                  <a:pt x="18" y="2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440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900680" y="2295360"/>
            <a:ext cx="368280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100980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3030480" y="1991880"/>
            <a:ext cx="0" cy="395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030480" y="5499000"/>
            <a:ext cx="0" cy="433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53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00680" y="2295360"/>
            <a:ext cx="368280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1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01448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3030480" y="1991880"/>
            <a:ext cx="0" cy="395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30480" y="5499000"/>
            <a:ext cx="0" cy="433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627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900680" y="2295360"/>
            <a:ext cx="368280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630680" y="4708440"/>
            <a:ext cx="2217960" cy="1255680"/>
          </a:xfrm>
          <a:prstGeom prst="wedgeRoundRectCallout">
            <a:avLst>
              <a:gd name="adj1" fmla="val -107694"/>
              <a:gd name="adj2" fmla="val 1308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960640" y="543564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3535200" y="1978200"/>
            <a:ext cx="0" cy="3954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9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720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900680" y="2295360"/>
            <a:ext cx="368280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00980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470400" y="5888160"/>
            <a:ext cx="126720" cy="1267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630680" y="4708440"/>
            <a:ext cx="2217960" cy="1255680"/>
          </a:xfrm>
          <a:prstGeom prst="wedgeRoundRectCallout">
            <a:avLst>
              <a:gd name="adj1" fmla="val -96027"/>
              <a:gd name="adj2" fmla="val 47597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0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1812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1815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2012760" y="3514680"/>
            <a:ext cx="996840" cy="70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016080" y="3508200"/>
            <a:ext cx="99720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38720" y="3692160"/>
            <a:ext cx="6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620520" y="366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204840" y="4227480"/>
            <a:ext cx="2711520" cy="679320"/>
            <a:chOff x="204840" y="4227480"/>
            <a:chExt cx="2711520" cy="679320"/>
          </a:xfrm>
        </p:grpSpPr>
        <p:sp>
          <p:nvSpPr>
            <p:cNvPr id="1826" name=""/>
            <p:cNvSpPr/>
            <p:nvPr/>
          </p:nvSpPr>
          <p:spPr>
            <a:xfrm>
              <a:off x="204840" y="4227480"/>
              <a:ext cx="2595600" cy="679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72880" y="4302000"/>
              <a:ext cx="264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SP3 = SP1 + [ C 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 2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Invi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3119400" y="4227480"/>
            <a:ext cx="2711520" cy="679320"/>
            <a:chOff x="3119400" y="4227480"/>
            <a:chExt cx="2711520" cy="679320"/>
          </a:xfrm>
        </p:grpSpPr>
        <p:sp>
          <p:nvSpPr>
            <p:cNvPr id="1829" name=""/>
            <p:cNvSpPr/>
            <p:nvPr/>
          </p:nvSpPr>
          <p:spPr>
            <a:xfrm>
              <a:off x="311940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18780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 flipH="1">
            <a:off x="3365280" y="4923000"/>
            <a:ext cx="99684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368960" y="4916520"/>
            <a:ext cx="99684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963880" y="51001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945680" y="507168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557360" y="56358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71920" y="5635800"/>
            <a:ext cx="2595600" cy="67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540320" y="57103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P5 = SP4 + [ M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 4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M=4, C=1,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$=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625760" y="57103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1847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1850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2134800" y="3508200"/>
            <a:ext cx="99684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644120" y="3634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754200" y="4213080"/>
            <a:ext cx="2710800" cy="679320"/>
            <a:chOff x="754200" y="4213080"/>
            <a:chExt cx="2710800" cy="679320"/>
          </a:xfrm>
        </p:grpSpPr>
        <p:sp>
          <p:nvSpPr>
            <p:cNvPr id="1859" name=""/>
            <p:cNvSpPr/>
            <p:nvPr/>
          </p:nvSpPr>
          <p:spPr>
            <a:xfrm>
              <a:off x="754200" y="4213080"/>
              <a:ext cx="259524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22240" y="4287600"/>
              <a:ext cx="264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1" name=""/>
          <p:cNvSpPr/>
          <p:nvPr/>
        </p:nvSpPr>
        <p:spPr>
          <a:xfrm flipH="1">
            <a:off x="2023560" y="4908600"/>
            <a:ext cx="180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127240" y="5057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/>
          <p:nvPr/>
        </p:nvSpPr>
        <p:spPr>
          <a:xfrm>
            <a:off x="1003320" y="3225960"/>
            <a:ext cx="1550880" cy="2720880"/>
          </a:xfrm>
          <a:custGeom>
            <a:avLst/>
            <a:gdLst/>
            <a:ahLst/>
            <a:rect l="l" t="t" r="r" b="b"/>
            <a:pathLst>
              <a:path w="977" h="1714">
                <a:moveTo>
                  <a:pt x="8" y="0"/>
                </a:moveTo>
                <a:lnTo>
                  <a:pt x="977" y="868"/>
                </a:lnTo>
                <a:lnTo>
                  <a:pt x="968" y="1714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2543040" y="1991880"/>
            <a:ext cx="0" cy="39546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876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890960" y="1709640"/>
            <a:ext cx="28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gora, o ramo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900680" y="2454120"/>
            <a:ext cx="36828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65280" y="452124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978440" y="4203720"/>
            <a:ext cx="2217600" cy="1255680"/>
          </a:xfrm>
          <a:prstGeom prst="wedgeRoundRectCallout">
            <a:avLst>
              <a:gd name="adj1" fmla="val -157231"/>
              <a:gd name="adj2" fmla="val -20291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6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1967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9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1970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3, C = 3, $ =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2134800" y="3508200"/>
            <a:ext cx="99684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644120" y="3634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754200" y="4213080"/>
            <a:ext cx="2710800" cy="679320"/>
            <a:chOff x="754200" y="4213080"/>
            <a:chExt cx="2710800" cy="679320"/>
          </a:xfrm>
        </p:grpSpPr>
        <p:sp>
          <p:nvSpPr>
            <p:cNvPr id="1979" name=""/>
            <p:cNvSpPr/>
            <p:nvPr/>
          </p:nvSpPr>
          <p:spPr>
            <a:xfrm>
              <a:off x="754200" y="4213080"/>
              <a:ext cx="259524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2240" y="4287600"/>
              <a:ext cx="264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H="1">
            <a:off x="2023560" y="4908600"/>
            <a:ext cx="180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127240" y="5057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8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1993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4979880" y="2819520"/>
            <a:ext cx="2465640" cy="685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038560" y="2898720"/>
            <a:ext cx="287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P2: PO + [ M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 3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M = 3, C = 3, $ =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2134800" y="3508200"/>
            <a:ext cx="99684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44120" y="3634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754200" y="4213080"/>
            <a:ext cx="2710800" cy="679320"/>
            <a:chOff x="754200" y="4213080"/>
            <a:chExt cx="2710800" cy="679320"/>
          </a:xfrm>
        </p:grpSpPr>
        <p:sp>
          <p:nvSpPr>
            <p:cNvPr id="2004" name=""/>
            <p:cNvSpPr/>
            <p:nvPr/>
          </p:nvSpPr>
          <p:spPr>
            <a:xfrm>
              <a:off x="754200" y="4213080"/>
              <a:ext cx="259524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22240" y="4287600"/>
              <a:ext cx="264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6" name=""/>
          <p:cNvSpPr/>
          <p:nvPr/>
        </p:nvSpPr>
        <p:spPr>
          <a:xfrm flipH="1">
            <a:off x="2023560" y="4908600"/>
            <a:ext cx="180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127240" y="5057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SP6 = SP4 + [ M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=5, C=0, $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373640" y="4267800"/>
            <a:ext cx="1606320" cy="398880"/>
          </a:xfr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Soluçã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7800" y="1924200"/>
            <a:ext cx="392436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Fábrica ABC Móveis fabrica Mesas e Cadeiras. Cada Mesa requer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h de mão-de-obra e 9 ft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de madeira. Cada Cadeira requer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h de mão-de-obra e requer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ft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de madeira. No momento, dispõe-se de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6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h de mão-de-obra e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4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ft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de madeira. Os lucros são de $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8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por cada Mesa e $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por cada Cadeira. Quantas Mesas e Cadeiras devem ser fabricadas para maximizar o lucr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8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5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6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ão-de-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9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45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adei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/>
          <p:nvPr/>
        </p:nvSpPr>
        <p:spPr>
          <a:xfrm>
            <a:off x="1245600" y="115560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Obs: </a:t>
            </a: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898280" y="2158560"/>
            <a:ext cx="5269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No LINDO: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Integer ou INT = 0 ou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General Integer ou GIN = 0, 1, 2, 3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Exemplo: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x  8M + 5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M + 1C &lt;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M + 5C &lt;=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IN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I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698840" y="50428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No WINQSB: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Integer = 0, 1, 2, 3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Binary = 0 ou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2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2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134440" y="293760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ercícios em S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704320" y="371880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m Trabalh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3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3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8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5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6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ão-de-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9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45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adei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66640" y="1442880"/>
            <a:ext cx="3765600" cy="4920480"/>
            <a:chOff x="566640" y="1442880"/>
            <a:chExt cx="3765600" cy="4920480"/>
          </a:xfrm>
        </p:grpSpPr>
        <p:sp>
          <p:nvSpPr>
            <p:cNvPr id="67" name=""/>
            <p:cNvSpPr/>
            <p:nvPr/>
          </p:nvSpPr>
          <p:spPr>
            <a:xfrm>
              <a:off x="1884240" y="6026040"/>
              <a:ext cx="3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89320" y="6026040"/>
              <a:ext cx="4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7960" y="6026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6640" y="1442880"/>
              <a:ext cx="3765600" cy="4911120"/>
              <a:chOff x="566640" y="1442880"/>
              <a:chExt cx="3765600" cy="4911120"/>
            </a:xfrm>
          </p:grpSpPr>
          <p:sp>
            <p:nvSpPr>
              <p:cNvPr id="71" name=""/>
              <p:cNvSpPr/>
              <p:nvPr/>
            </p:nvSpPr>
            <p:spPr>
              <a:xfrm>
                <a:off x="3944880" y="5533920"/>
                <a:ext cx="38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1800" y="1442880"/>
                <a:ext cx="405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90680" y="6016680"/>
                <a:ext cx="45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7800" y="48848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6640" y="30528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4560" y="3494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9880" y="39639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77800" y="4446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68440" y="53290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4560" y="26416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4560" y="22226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2240" y="5950080"/>
                <a:ext cx="326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009800" y="1631520"/>
                <a:ext cx="1440" cy="45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542960" y="5870520"/>
                <a:ext cx="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541600" y="5869080"/>
                <a:ext cx="144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043000" y="5873760"/>
                <a:ext cx="180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23760" y="3240000"/>
                <a:ext cx="1605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928440" y="458136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923760" y="3240000"/>
                <a:ext cx="1605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933120" y="4137120"/>
                <a:ext cx="160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934920" y="503568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931680" y="549900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927000" y="368460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11240" y="5502240"/>
                <a:ext cx="25509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541520" y="1991880"/>
                <a:ext cx="1440" cy="3954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2043000" y="1972800"/>
                <a:ext cx="1800" cy="3970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543040" y="1959120"/>
                <a:ext cx="1800" cy="3984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98720" y="54579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98760" y="546264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96880" y="54579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11240" y="5033880"/>
                <a:ext cx="25509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98720" y="4989600"/>
                <a:ext cx="871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98760" y="49928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96880" y="4989600"/>
                <a:ext cx="8748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11240" y="4578480"/>
                <a:ext cx="2550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98720" y="453240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98760" y="453708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96880" y="453240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11240" y="4133880"/>
                <a:ext cx="255096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98720" y="408780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98760" y="40924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96880" y="408780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11240" y="3236760"/>
                <a:ext cx="25509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98720" y="319104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98760" y="319572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96880" y="319104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14480" y="3681360"/>
                <a:ext cx="25527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03400" y="363528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03440" y="363996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01920" y="363528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931680" y="594504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1009800" y="5873760"/>
                <a:ext cx="144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61920" y="546264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61920" y="49928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61920" y="453708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61920" y="40924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61920" y="319572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66960" y="363996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98720" y="590220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98760" y="59054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96880" y="590220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60480" y="59072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931680" y="282240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931680" y="282240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17720" y="2819520"/>
                <a:ext cx="255240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4840" y="27748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06680" y="277812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03360" y="27748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69840" y="277812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925200" y="241128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25200" y="241128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12680" y="2408400"/>
                <a:ext cx="255132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00160" y="23637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00200" y="23670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98680" y="23637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63720" y="23670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919080" y="199080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919080" y="199080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04760" y="1987560"/>
                <a:ext cx="255276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92240" y="194328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94080" y="194616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90760" y="194328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57240" y="194616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036960" y="5864040"/>
                <a:ext cx="0" cy="16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537000" y="5867280"/>
                <a:ext cx="144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3035160" y="1986120"/>
                <a:ext cx="1800" cy="395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537000" y="1967040"/>
                <a:ext cx="1440" cy="3970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492360" y="545148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90880" y="545148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92360" y="4983120"/>
                <a:ext cx="8748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90880" y="4983120"/>
                <a:ext cx="871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92360" y="452592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990880" y="452592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92360" y="408132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90880" y="408132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92360" y="31845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90880" y="31845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97400" y="36291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95560" y="36291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92360" y="589608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90880" y="589608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98840" y="276876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97360" y="276876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94160" y="235728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92320" y="235728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86240" y="19368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84400" y="19368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2480" y="1811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79680" y="60102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89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6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8760" y="40924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98720" y="319104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98760" y="319572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6880" y="319104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03400" y="363528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3440" y="363996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04840" y="27748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6680" y="277812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90760" y="27748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9840" y="277812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00160" y="23637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0200" y="23670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98680" y="23637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63720" y="23670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92240" y="194328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94080" y="194616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0760" y="194328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57240" y="194616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54514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498312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00240" y="501156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452592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90880" y="452592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408132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90880" y="408132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31845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90880" y="31845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7400" y="36291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95560" y="36291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98840" y="276876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97360" y="276876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235728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92320" y="235728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86240" y="19368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84400" y="19368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0" y="54594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0" y="499104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0" y="453384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0" y="408924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0" y="31924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57480" y="36370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0" y="59040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59280" y="277668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54600" y="236520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46680" y="194472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32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6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406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81400" y="2359080"/>
            <a:ext cx="2044440" cy="1255680"/>
          </a:xfrm>
          <a:prstGeom prst="wedgeRoundRectCallout">
            <a:avLst>
              <a:gd name="adj1" fmla="val -24458"/>
              <a:gd name="adj2" fmla="val 147722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1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420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501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81400" y="2359080"/>
            <a:ext cx="2044440" cy="1255680"/>
          </a:xfrm>
          <a:prstGeom prst="wedgeRoundRectCallout">
            <a:avLst>
              <a:gd name="adj1" fmla="val -24458"/>
              <a:gd name="adj2" fmla="val 147722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Lucro = $ 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4906800"/>
            <a:ext cx="2044800" cy="1256040"/>
          </a:xfrm>
          <a:prstGeom prst="wedgeRoundRectCallout">
            <a:avLst>
              <a:gd name="adj1" fmla="val -209393"/>
              <a:gd name="adj2" fmla="val -4077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63840" y="4960800"/>
            <a:ext cx="12708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340240" y="2869560"/>
            <a:ext cx="2005200" cy="1400040"/>
          </a:xfrm>
          <a:custGeom>
            <a:avLst/>
            <a:gdLst>
              <a:gd name="textAreaLeft" fmla="*/ 648000 w 2005200"/>
              <a:gd name="textAreaRight" fmla="*/ 1659240 w 2005200"/>
              <a:gd name="textAreaTop" fmla="*/ 870840 h 1400040"/>
              <a:gd name="textAreaBottom" fmla="*/ 115812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17172"/>
                </a:moveTo>
                <a:lnTo>
                  <a:pt x="13443" y="17172"/>
                </a:lnTo>
                <a:lnTo>
                  <a:pt x="13443" y="6979"/>
                </a:lnTo>
                <a:lnTo>
                  <a:pt x="9714" y="6979"/>
                </a:lnTo>
                <a:lnTo>
                  <a:pt x="15657" y="0"/>
                </a:lnTo>
                <a:lnTo>
                  <a:pt x="21600" y="6979"/>
                </a:lnTo>
                <a:lnTo>
                  <a:pt x="17871" y="6979"/>
                </a:lnTo>
                <a:lnTo>
                  <a:pt x="17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81640" y="288648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runc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519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600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95360" y="2359080"/>
            <a:ext cx="2217960" cy="1255680"/>
          </a:xfrm>
          <a:prstGeom prst="wedgeRoundRectCallout">
            <a:avLst>
              <a:gd name="adj1" fmla="val -22583"/>
              <a:gd name="adj2" fmla="val 147722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olução Relax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3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009800" y="1992240"/>
            <a:ext cx="1530360" cy="3954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30480" y="1992240"/>
            <a:ext cx="966960" cy="3954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615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696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16080" y="1994040"/>
            <a:ext cx="69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827360" y="1987560"/>
            <a:ext cx="691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42360" y="160596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83960" y="1599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88680" y="7984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Sato</cp:lastModifiedBy>
  <cp:lastPrinted>2000-07-03T14:27:54Z</cp:lastPrinted>
  <dcterms:modified xsi:type="dcterms:W3CDTF">2004-01-11T18:46:03Z</dcterms:modified>
  <cp:revision>205</cp:revision>
  <dc:subject/>
  <dc:title>Mercados Digitais</dc:title>
</cp:coreProperties>
</file>