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media/image4.jpeg" ContentType="image/jpeg"/>
  <Override PartName="/ppt/media/image2.png" ContentType="image/png"/>
  <Override PartName="/ppt/media/image6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9371-B67D-49F3-9670-F1DBB11C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389F-4C15-47EB-B9DB-325D1E15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A716-75F8-4401-84E7-D771A1AC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1C06-6B44-495D-8251-0BE8A877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613F-F086-4338-B1DE-4395A5E4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1904-584B-4269-826A-968AAD43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7A10-F7CC-4A33-8B1E-F6DF4CC7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4C4F-6D97-42BD-B60D-358320A2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EFCE-A3C1-4D7F-BE2D-37D0CF76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7487-D5F3-44C7-AC06-DD239051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A134-E6D4-4529-AE6B-928861DD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AE24-E0FA-47DC-A1CA-B423FC0C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0803-60B2-4758-B2AD-ED9FEF07C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4560" y="510840"/>
            <a:ext cx="186768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B-730 Aula 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squ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3880" y="49968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TA-MP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04640" y="3465360"/>
            <a:ext cx="8355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960" y="1417680"/>
            <a:ext cx="8255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o Ying Lu é proprietário de uma confecção e necessita planejar a produção deste 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r. Lu pode produzir uniformes, ternos ou jeans, com lucros de 20, 30 e 40 respectiv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onsiderando o esforço de vendas, design, encomenda de gabaritos, deve-se produzi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u 0 uniformes ou mais que 1000 unifor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u 0 ternos ou mais que 2000 ter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u 0 jeans ou mais que 1500 jea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Em termos de despezas para produçã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Tecido: uniformes = $ 1.50, ternos = $ 3.00 e jeans = $ 5.00 sendo disponível $ 60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Mão de obra: uniformes = $ 3.00, ternos = $ 2.50 e jeans = $ 4.0 sendo disponível $ 60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9720" y="3544920"/>
            <a:ext cx="3200400" cy="33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ax 20 u + 30 t + 40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.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1.5 u + 3 t + 5 j </a:t>
            </a:r>
            <a:r>
              <a:rPr b="1" lang="en-US" sz="1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 6000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3 u + 2.5 t + 4 j </a:t>
            </a:r>
            <a:r>
              <a:rPr b="1" lang="en-US" sz="1400" spc="-1" strike="noStrike">
                <a:solidFill>
                  <a:srgbClr val="99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 6000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u - 5000 * Yu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0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- u + 5000 Yu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4000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t - 5000 * Yt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0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- t + 5000 Yt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3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j - 5000 * Yj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0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- j + 5000 Yj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350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u, t, j inte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Yu, Yt, Yj binary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867120" y="3838680"/>
            <a:ext cx="4611600" cy="2235240"/>
            <a:chOff x="3867120" y="3838680"/>
            <a:chExt cx="4611600" cy="2235240"/>
          </a:xfrm>
        </p:grpSpPr>
        <p:pic>
          <p:nvPicPr>
            <p:cNvPr id="177" name="ououpr" descr=""/>
            <p:cNvPicPr/>
            <p:nvPr/>
          </p:nvPicPr>
          <p:blipFill>
            <a:blip r:embed="rId1"/>
            <a:stretch/>
          </p:blipFill>
          <p:spPr>
            <a:xfrm>
              <a:off x="3868560" y="3844800"/>
              <a:ext cx="4610160" cy="22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867120" y="3838680"/>
              <a:ext cx="4603680" cy="222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81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76560" y="799200"/>
            <a:ext cx="66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Adaptado do Exemplo 6, pg. 478 do Win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614520" y="1601640"/>
            <a:ext cx="4047840" cy="3421080"/>
            <a:chOff x="614520" y="1601640"/>
            <a:chExt cx="4047840" cy="3421080"/>
          </a:xfrm>
        </p:grpSpPr>
        <p:pic>
          <p:nvPicPr>
            <p:cNvPr id="185" name="ououres" descr=""/>
            <p:cNvPicPr/>
            <p:nvPr/>
          </p:nvPicPr>
          <p:blipFill>
            <a:blip r:embed="rId1"/>
            <a:stretch/>
          </p:blipFill>
          <p:spPr>
            <a:xfrm>
              <a:off x="614520" y="1603440"/>
              <a:ext cx="4047840" cy="34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20640" y="1601640"/>
              <a:ext cx="4025880" cy="340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867120" y="3838680"/>
            <a:ext cx="4611600" cy="2235240"/>
            <a:chOff x="3867120" y="3838680"/>
            <a:chExt cx="4611600" cy="2235240"/>
          </a:xfrm>
        </p:grpSpPr>
        <p:pic>
          <p:nvPicPr>
            <p:cNvPr id="188" name="ououpr" descr=""/>
            <p:cNvPicPr/>
            <p:nvPr/>
          </p:nvPicPr>
          <p:blipFill>
            <a:blip r:embed="rId2"/>
            <a:stretch/>
          </p:blipFill>
          <p:spPr>
            <a:xfrm>
              <a:off x="3868560" y="3844800"/>
              <a:ext cx="4610160" cy="22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867120" y="3838680"/>
              <a:ext cx="4603680" cy="222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428840" y="2079720"/>
            <a:ext cx="606240" cy="23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36760" y="2592360"/>
            <a:ext cx="606240" cy="23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94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76560" y="799200"/>
            <a:ext cx="66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Adaptado do Exemplo 6, pg. 478 do Win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717560" y="3165480"/>
            <a:ext cx="590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Black"/>
              </a:rPr>
              <a:t>Condições do 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Black"/>
              </a:rPr>
              <a:t>Se A então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0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132280" y="78012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Adaptado da pg. 480 do Win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3400" y="3747960"/>
            <a:ext cx="6069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omo estabelecer a condição: "Se Viajar, então Livro = 0 e CD = 0"?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Livro + CD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M * ( 1 - YV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V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M *  YV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YV = bina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 = número grande (por exemplo 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0120" y="5427720"/>
            <a:ext cx="81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so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YV = 1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, Livro + CD = 0 e V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50 não restringe V.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6880" y="5823000"/>
            <a:ext cx="8013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so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 Yu = 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, Livro + CD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50, liberando consumo de Livros e CDs  e V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0 obriga V a ser 0.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4640" y="3465360"/>
            <a:ext cx="8355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5440" y="1576440"/>
            <a:ext cx="7133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io Patinhas está planejando as suas féri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s opções são: Viajar ou ficar em casa lendo Livros e ouvindo C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 dinheiro não é problema mas o tempo é. Tio Patinhas dispõe de 40 h de féri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e Viajar, Tio Patinhas vai ter 100 pontos de satisfa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da livro, que o Tio Patinhas demora 10 h para ler, dá 20 pontos de satisfa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da CD, que o Tio Patinhas demora 2 h para ouvir, dá 2 pontos de satisfa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e Viajar, Tio Patinhas não poderá ler livros, nem ouvir CDs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1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72400" y="3747960"/>
            <a:ext cx="76345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ax 100 V + 20 Livro + 2 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.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 Livro + 2 CD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4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[limitação de temp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Livro + CD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50 * ( 1 - YV )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[Se V = 1 então Livro = 0 e CD = 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V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50 * YV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YV = bina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Livro, CD = inte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4640" y="3465360"/>
            <a:ext cx="8355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5440" y="1576440"/>
            <a:ext cx="7133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io Patinhas está planejando as suas féri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s opções são: Viajar ou ficar em casa lendo Livros e ouvindo C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 dinheiro não é problema mas o tempo é. Tio Patinhas dispõe de 40 h de féri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e Viajar, Tio Patinhas vai ter 100 pontos de satisfa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da livro, que o Tio Patinhas demora 10 h para ler, dá 20 pontos de satisfa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da CD, que o Tio Patinhas demora 2 h para ouvir, dá 2 pontos de satisfa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e Viajar, Tio Patinhas não poderá ler livros, nem ouvir CDs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1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2280" y="78012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Adaptado da pg. 480 do Win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72400" y="3747960"/>
            <a:ext cx="76345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ax 100 V + 20 Livro + 2 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.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 Livro + 2 CD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4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[limitação de temp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Livro + CD + 50 YV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50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[Se V = 1 então Livro = 0 e CD = 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V  - 50 YV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YV = bina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Livro, CD = inte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4640" y="3465360"/>
            <a:ext cx="8355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05440" y="1576440"/>
            <a:ext cx="7133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io Patinhas está planejando as suas féri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s opções são: Viajar ou ficar em casa lendo Livros e ouvindo C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 dinheiro não é problema mas o tempo é. Tio Patinhas dispõe de 40 h de féri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e Viajar, Tio Patinhas vai ter 100 pontos de satisfa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da livro, que o Tio Patinhas demora 10 h para ler, dá 20 pontos de satisfa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da CD, que o Tio Patinhas demora 2 h para ouvir, dá 2 pontos de satisfa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e Viajar, Tio Patinhas não poderá ler livros, nem ouvir CDs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2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2280" y="78012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Adaptado da pg. 480 do Win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82480" y="3747960"/>
            <a:ext cx="3838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ax 100 V + 20 Livro + 2 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.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 Livro + 2 CD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4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Livro + CD + 50 YV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5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V  - 50 YV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YV = bina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Livro, CD = inte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4640" y="3465360"/>
            <a:ext cx="8355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5440" y="1576440"/>
            <a:ext cx="7133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io Patinhas está planejando as suas féri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s opções são: Viajar ou ficar em casa lendo Livros e ouvindo C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 dinheiro não é problema mas o tempo é. Tio Patinhas dispõe de 40 h de féri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e Viajar, Tio Patinhas vai ter 100 pontos de satisfa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da livro, que o Tio Patinhas demora 10 h para ler, dá 20 pontos de satisfa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da CD, que o Tio Patinhas demora 2 h para ouvir, dá 2 pontos de satisfa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e Viajar, Tio Patinhas não poderá ler livros, nem ouvir CDs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viagpr1" descr=""/>
          <p:cNvPicPr/>
          <p:nvPr/>
        </p:nvPicPr>
        <p:blipFill>
          <a:blip r:embed="rId1"/>
          <a:stretch/>
        </p:blipFill>
        <p:spPr>
          <a:xfrm>
            <a:off x="4083120" y="4336920"/>
            <a:ext cx="4038480" cy="13906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34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2280" y="78012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Adaptado da pg. 480 do Win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viagpr1" descr=""/>
          <p:cNvPicPr/>
          <p:nvPr/>
        </p:nvPicPr>
        <p:blipFill>
          <a:blip r:embed="rId1"/>
          <a:stretch/>
        </p:blipFill>
        <p:spPr>
          <a:xfrm>
            <a:off x="4083120" y="4336920"/>
            <a:ext cx="4038480" cy="1390680"/>
          </a:xfrm>
          <a:prstGeom prst="rect">
            <a:avLst/>
          </a:prstGeom>
          <a:ln w="0">
            <a:noFill/>
          </a:ln>
        </p:spPr>
      </p:pic>
      <p:grpSp>
        <p:nvGrpSpPr>
          <p:cNvPr id="238" name=""/>
          <p:cNvGrpSpPr/>
          <p:nvPr/>
        </p:nvGrpSpPr>
        <p:grpSpPr>
          <a:xfrm>
            <a:off x="1212840" y="1833480"/>
            <a:ext cx="4432320" cy="2210040"/>
            <a:chOff x="1212840" y="1833480"/>
            <a:chExt cx="4432320" cy="2210040"/>
          </a:xfrm>
        </p:grpSpPr>
        <p:pic>
          <p:nvPicPr>
            <p:cNvPr id="239" name="viagres1" descr=""/>
            <p:cNvPicPr/>
            <p:nvPr/>
          </p:nvPicPr>
          <p:blipFill>
            <a:blip r:embed="rId2"/>
            <a:stretch/>
          </p:blipFill>
          <p:spPr>
            <a:xfrm>
              <a:off x="1216080" y="1833480"/>
              <a:ext cx="4429080" cy="22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1212840" y="1833480"/>
              <a:ext cx="4429080" cy="219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460600" y="2101680"/>
            <a:ext cx="533520" cy="24480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44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132280" y="78012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Adaptado da pg. 480 do Win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viagpr1" descr=""/>
          <p:cNvPicPr/>
          <p:nvPr/>
        </p:nvPicPr>
        <p:blipFill>
          <a:blip r:embed="rId1"/>
          <a:stretch/>
        </p:blipFill>
        <p:spPr>
          <a:xfrm>
            <a:off x="4083120" y="4336920"/>
            <a:ext cx="4038480" cy="139068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4068720" y="1992240"/>
            <a:ext cx="4032360" cy="1373400"/>
            <a:chOff x="4068720" y="1992240"/>
            <a:chExt cx="4032360" cy="1373400"/>
          </a:xfrm>
        </p:grpSpPr>
        <p:pic>
          <p:nvPicPr>
            <p:cNvPr id="249" name="viagpr2" descr=""/>
            <p:cNvPicPr/>
            <p:nvPr/>
          </p:nvPicPr>
          <p:blipFill>
            <a:blip r:embed="rId2"/>
            <a:stretch/>
          </p:blipFill>
          <p:spPr>
            <a:xfrm>
              <a:off x="4076640" y="1994040"/>
              <a:ext cx="4019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068720" y="1992240"/>
              <a:ext cx="4032360" cy="137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324400" y="4460760"/>
            <a:ext cx="533520" cy="244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2320" y="2101680"/>
            <a:ext cx="533520" cy="244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599080" y="2352600"/>
            <a:ext cx="0" cy="210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56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32280" y="78012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Adaptado da pg. 480 do Win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4068720" y="1992240"/>
            <a:ext cx="4032360" cy="1373400"/>
            <a:chOff x="4068720" y="1992240"/>
            <a:chExt cx="4032360" cy="1373400"/>
          </a:xfrm>
        </p:grpSpPr>
        <p:pic>
          <p:nvPicPr>
            <p:cNvPr id="260" name="viagpr2" descr=""/>
            <p:cNvPicPr/>
            <p:nvPr/>
          </p:nvPicPr>
          <p:blipFill>
            <a:blip r:embed="rId1"/>
            <a:stretch/>
          </p:blipFill>
          <p:spPr>
            <a:xfrm>
              <a:off x="4076640" y="1994040"/>
              <a:ext cx="4019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4068720" y="1992240"/>
              <a:ext cx="4032360" cy="137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5332320" y="2101680"/>
            <a:ext cx="533520" cy="244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544760" y="3719520"/>
            <a:ext cx="4433760" cy="2255760"/>
            <a:chOff x="1544760" y="3719520"/>
            <a:chExt cx="4433760" cy="2255760"/>
          </a:xfrm>
        </p:grpSpPr>
        <p:pic>
          <p:nvPicPr>
            <p:cNvPr id="264" name="viagres2" descr=""/>
            <p:cNvPicPr/>
            <p:nvPr/>
          </p:nvPicPr>
          <p:blipFill>
            <a:blip r:embed="rId2"/>
            <a:stretch/>
          </p:blipFill>
          <p:spPr>
            <a:xfrm>
              <a:off x="1549440" y="3719520"/>
              <a:ext cx="4429080" cy="22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1544760" y="3724200"/>
              <a:ext cx="4414680" cy="225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786040" y="4216320"/>
            <a:ext cx="533520" cy="24444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69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32280" y="78012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Adaptado da pg. 480 do Win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4520" y="2322000"/>
            <a:ext cx="180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72720" y="93492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Organização e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19240" y="4390920"/>
            <a:ext cx="8397720" cy="285840"/>
            <a:chOff x="219240" y="4390920"/>
            <a:chExt cx="8397720" cy="285840"/>
          </a:xfrm>
        </p:grpSpPr>
        <p:sp>
          <p:nvSpPr>
            <p:cNvPr id="54" name=""/>
            <p:cNvSpPr/>
            <p:nvPr/>
          </p:nvSpPr>
          <p:spPr>
            <a:xfrm>
              <a:off x="606600" y="4397400"/>
              <a:ext cx="8010360" cy="239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9240" y="4390920"/>
              <a:ext cx="324000" cy="285840"/>
            </a:xfrm>
            <a:prstGeom prst="rightArrow">
              <a:avLst>
                <a:gd name="adj1" fmla="val 50000"/>
                <a:gd name="adj2" fmla="val 28338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" name=""/>
          <p:cNvGraphicFramePr/>
          <p:nvPr/>
        </p:nvGraphicFramePr>
        <p:xfrm>
          <a:off x="306360" y="1792440"/>
          <a:ext cx="8645400" cy="458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60" y="1792440"/>
                    <a:ext cx="864540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162160" y="3063960"/>
            <a:ext cx="497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Black"/>
              </a:rPr>
              <a:t>Inclusã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Black"/>
              </a:rPr>
              <a:t>Custos Fix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7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441520" y="826920"/>
            <a:ext cx="44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Como considerar Custos Fix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11440" y="1632600"/>
            <a:ext cx="5822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                            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Fili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            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raçatuba        Bauru        Campinas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  Dis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CF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         $100.000       $90.000       $8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Lucro p/ Serv.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$200            $180            $1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Mão-de-Obra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      50                40                55         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Material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          $15              $25              $20       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$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75800" y="3413160"/>
            <a:ext cx="6280920" cy="29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ejam: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,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B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e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o número de serviços prestados em Araçatub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Bauru e Campinas, respectivamen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ejam: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YA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= 1 se vai ser aberto filial em Araçatuba CF = $1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0 se não vai ser abe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Idem,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YB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e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YC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Nestas condiçõe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  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* Y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          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B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* Y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          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* Y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onde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é um número gran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8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721800" y="1171080"/>
            <a:ext cx="7126200" cy="2325960"/>
            <a:chOff x="721800" y="1171080"/>
            <a:chExt cx="7126200" cy="2325960"/>
          </a:xfrm>
        </p:grpSpPr>
        <p:sp>
          <p:nvSpPr>
            <p:cNvPr id="285" name=""/>
            <p:cNvSpPr/>
            <p:nvPr/>
          </p:nvSpPr>
          <p:spPr>
            <a:xfrm>
              <a:off x="1332000" y="1171080"/>
              <a:ext cx="6516000" cy="16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                                                   </a:t>
              </a:r>
              <a:r>
                <a:rPr b="0" lang="en-US" sz="1600" spc="-1" strike="noStrike">
                  <a:solidFill>
                    <a:srgbClr val="ff3300"/>
                  </a:solidFill>
                  <a:latin typeface="Arial Black"/>
                </a:rPr>
                <a:t>Filia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Araçatuba (A)      Bauru (B)        Campinas (C)         Disp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3300"/>
                  </a:solidFill>
                  <a:latin typeface="Arial Black"/>
                </a:rPr>
                <a:t>CF                     $100.000            $90.000          $80.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3300"/>
                  </a:solidFill>
                  <a:latin typeface="Arial Black"/>
                </a:rPr>
                <a:t>Lucro p/ Serv.          $200                 $180               $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 Black"/>
                </a:rPr>
                <a:t>Mão-de-Obra                50                    40                    55              25.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 Black"/>
                </a:rPr>
                <a:t>Material                     $15                  $25                  $20            $10.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1800" y="2746440"/>
              <a:ext cx="11912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A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9933ff"/>
                  </a:solidFill>
                  <a:latin typeface="Arial Black"/>
                </a:rPr>
                <a:t>G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* Y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B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9933ff"/>
                  </a:solidFill>
                  <a:latin typeface="Arial Black"/>
                </a:rPr>
                <a:t>G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* Y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C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9933ff"/>
                  </a:solidFill>
                  <a:latin typeface="Arial Black"/>
                </a:rPr>
                <a:t>G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* Y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125000" y="3925080"/>
            <a:ext cx="70495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x  </a:t>
            </a:r>
            <a:r>
              <a:rPr b="0" lang="en-US" sz="1600" spc="-1" strike="noStrike">
                <a:solidFill>
                  <a:srgbClr val="993300"/>
                </a:solidFill>
                <a:latin typeface="Arial Black"/>
              </a:rPr>
              <a:t>200*A + 180*B + 150*C - 100.000*YA - 90.000*YB - 80.000*Y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*A + 40*B + 55*C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25.000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[Mão de Obr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15*A + 25*B + 20*C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10.000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[Materia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 -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1.0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*YA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B -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1.0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*YB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 -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1.0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*Y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100.000*YA + 90.000*YB + 80.000*YC </a:t>
            </a:r>
            <a:r>
              <a:rPr b="0" lang="en-US" sz="1600" spc="-1" strike="noStrike">
                <a:solidFill>
                  <a:srgbClr val="ff3399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 200.000</a:t>
            </a: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[Cash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A + B + C </a:t>
            </a:r>
            <a:r>
              <a:rPr b="0" lang="en-US" sz="1600" spc="-1" strike="noStrike">
                <a:solidFill>
                  <a:srgbClr val="ff3399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 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6240" y="3665520"/>
            <a:ext cx="86277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9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125000" y="3925080"/>
            <a:ext cx="70495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x  </a:t>
            </a:r>
            <a:r>
              <a:rPr b="0" lang="en-US" sz="1600" spc="-1" strike="noStrike">
                <a:solidFill>
                  <a:srgbClr val="993300"/>
                </a:solidFill>
                <a:latin typeface="Arial Black"/>
              </a:rPr>
              <a:t>200*A + 180*B + 150*C - 100.000*YA - 90.000*YB - 80.000*Y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*A + 40*B + 55*C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25.000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[Mão de Obr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15*A + 25*B + 20*C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10.000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[Materia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 -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1.0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*YA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B -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1.0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*YB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 -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1.0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*Y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100.000*YA + 90.000*YB + 80.000*YC </a:t>
            </a:r>
            <a:r>
              <a:rPr b="0" lang="en-US" sz="1600" spc="-1" strike="noStrike">
                <a:solidFill>
                  <a:srgbClr val="ff3399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 200.000</a:t>
            </a: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[Cash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A + B + C </a:t>
            </a:r>
            <a:r>
              <a:rPr b="0" lang="en-US" sz="1600" spc="-1" strike="noStrike">
                <a:solidFill>
                  <a:srgbClr val="ff3399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 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filialp" descr=""/>
          <p:cNvPicPr/>
          <p:nvPr/>
        </p:nvPicPr>
        <p:blipFill>
          <a:blip r:embed="rId1"/>
          <a:stretch/>
        </p:blipFill>
        <p:spPr>
          <a:xfrm>
            <a:off x="1285920" y="900000"/>
            <a:ext cx="6838920" cy="22384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97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filialp" descr=""/>
          <p:cNvPicPr/>
          <p:nvPr/>
        </p:nvPicPr>
        <p:blipFill>
          <a:blip r:embed="rId1"/>
          <a:stretch/>
        </p:blipFill>
        <p:spPr>
          <a:xfrm>
            <a:off x="1285920" y="900000"/>
            <a:ext cx="6838920" cy="2238480"/>
          </a:xfrm>
          <a:prstGeom prst="rect">
            <a:avLst/>
          </a:prstGeom>
          <a:ln w="0">
            <a:noFill/>
          </a:ln>
        </p:spPr>
      </p:pic>
      <p:pic>
        <p:nvPicPr>
          <p:cNvPr id="300" name="filialr" descr=""/>
          <p:cNvPicPr/>
          <p:nvPr/>
        </p:nvPicPr>
        <p:blipFill>
          <a:blip r:embed="rId2"/>
          <a:stretch/>
        </p:blipFill>
        <p:spPr>
          <a:xfrm>
            <a:off x="2162160" y="3152880"/>
            <a:ext cx="5124600" cy="3324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03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0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04640" y="2038320"/>
            <a:ext cx="6696360" cy="20574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4343400" y="4462560"/>
            <a:ext cx="4038480" cy="15904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318120" y="124056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yd’s Fabr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57800" y="4476600"/>
            <a:ext cx="4024080" cy="15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7600" y="2023920"/>
            <a:ext cx="6691320" cy="206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1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328680" y="1114560"/>
            <a:ext cx="7381800" cy="25714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4309920" y="3776760"/>
            <a:ext cx="4448160" cy="26193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370160" y="482688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tle Try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3360" y="1119240"/>
            <a:ext cx="7394760" cy="256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09920" y="3786120"/>
            <a:ext cx="4453200" cy="260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2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80200" y="3223440"/>
            <a:ext cx="40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uito Obrigad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433440" y="3319560"/>
            <a:ext cx="8354880" cy="1308600"/>
            <a:chOff x="433440" y="3319560"/>
            <a:chExt cx="8354880" cy="1308600"/>
          </a:xfrm>
        </p:grpSpPr>
        <p:sp>
          <p:nvSpPr>
            <p:cNvPr id="59" name=""/>
            <p:cNvSpPr/>
            <p:nvPr/>
          </p:nvSpPr>
          <p:spPr>
            <a:xfrm>
              <a:off x="1331640" y="3468600"/>
              <a:ext cx="65160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in  55 TCI + MF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s.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( 68-55 ) TCI + 0.09 MFI  </a:t>
              </a:r>
              <a:r>
                <a:rPr b="1" lang="en-US" sz="1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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 250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[retorno mínimo desejado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55 TCI </a:t>
              </a:r>
              <a:r>
                <a:rPr b="1" lang="en-US" sz="1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 0.40 ( 55 TCI + MFI)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[até 40% na TCI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55 TCI </a:t>
              </a:r>
              <a:r>
                <a:rPr b="1" lang="en-US" sz="1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 750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[limite de recursos disponíveis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3440" y="3319560"/>
              <a:ext cx="8354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1008720" y="1648800"/>
            <a:ext cx="6785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helley Mednick é nova no setor de investimentos financei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ara começar, pretende investir o mínimo possível da economia que possu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helley considera: ações da TCI e fundo de aplicações MF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ções da TCI custam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$ 5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e a projeção de 1 ano indica preço futuro de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$ 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plicações na MFI possui projeção de renda anual de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helley possui a meta de ter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$ 25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de retorno neste 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helley gostaria de aplicar, no máximo,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0%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na TCS, até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$ 75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24200" y="875160"/>
            <a:ext cx="70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xemplo 5.4, pg. 170 do Lawrence e Pastern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26960" y="3462480"/>
            <a:ext cx="651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in  55 TCI + MF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.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3 TCI + 0.09 MFI 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25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[retorno mínimo desejad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3 TCI – 0.40 MFI 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0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[até 40% na TCI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5 TCI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75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[limite de recursos disponívei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3440" y="3319560"/>
            <a:ext cx="8354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360" y="4727520"/>
            <a:ext cx="8354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shellprob" descr=""/>
          <p:cNvPicPr/>
          <p:nvPr/>
        </p:nvPicPr>
        <p:blipFill>
          <a:blip r:embed="rId1"/>
          <a:stretch/>
        </p:blipFill>
        <p:spPr>
          <a:xfrm>
            <a:off x="2633760" y="4869000"/>
            <a:ext cx="3733560" cy="1390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08720" y="1648800"/>
            <a:ext cx="6785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helley Mednick é nova no setor de investimentos financei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ara começar, pretende investir o mínimo possível da economia que possu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helley considera: ações da TCI e fundo de aplicações MF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ções da TCI custam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$ 5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e a projeção de 1 ano indica preço futuro de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$ 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plicações na MFI possui projeção de renda anual de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helley possui a meta de ter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$ 25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de retorno neste 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helley gostaria de aplicar, no máximo,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0%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na TCS, até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$ 75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4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24200" y="875160"/>
            <a:ext cx="70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xemplo 5.4, pg. 170 do Lawrence e Pastern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615680" y="1542960"/>
            <a:ext cx="651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in  55 TCI + MF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.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3 TCI + 0.09 MFI 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25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[retorno mínimo desejad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3 TCI – 0.40 MFI 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0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[até 40% na TCI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5 TCI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75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[limite de recursos disponívei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3440" y="2741760"/>
            <a:ext cx="8354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5760" y="4367160"/>
            <a:ext cx="8354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shellprob" descr=""/>
          <p:cNvPicPr/>
          <p:nvPr/>
        </p:nvPicPr>
        <p:blipFill>
          <a:blip r:embed="rId1"/>
          <a:stretch/>
        </p:blipFill>
        <p:spPr>
          <a:xfrm>
            <a:off x="2763720" y="2835360"/>
            <a:ext cx="3733920" cy="139068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2630520" y="4502160"/>
            <a:ext cx="4152960" cy="1866600"/>
            <a:chOff x="2630520" y="4502160"/>
            <a:chExt cx="4152960" cy="1866600"/>
          </a:xfrm>
        </p:grpSpPr>
        <p:pic>
          <p:nvPicPr>
            <p:cNvPr id="82" name="shellres" descr=""/>
            <p:cNvPicPr/>
            <p:nvPr/>
          </p:nvPicPr>
          <p:blipFill>
            <a:blip r:embed="rId2"/>
            <a:stretch/>
          </p:blipFill>
          <p:spPr>
            <a:xfrm>
              <a:off x="2630520" y="4502160"/>
              <a:ext cx="4143600" cy="18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2641680" y="4502160"/>
              <a:ext cx="4141800" cy="186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6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24200" y="875160"/>
            <a:ext cx="70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xemplo 5.4, pg. 170 do Lawrence e Pastern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714760" y="3130200"/>
            <a:ext cx="2337840" cy="1984680"/>
            <a:chOff x="2714760" y="3130200"/>
            <a:chExt cx="2337840" cy="1984680"/>
          </a:xfrm>
        </p:grpSpPr>
        <p:sp>
          <p:nvSpPr>
            <p:cNvPr id="90" name=""/>
            <p:cNvSpPr/>
            <p:nvPr/>
          </p:nvSpPr>
          <p:spPr>
            <a:xfrm flipH="1" flipV="1">
              <a:off x="4855680" y="3137040"/>
              <a:ext cx="1800" cy="19778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3114720" y="3133440"/>
              <a:ext cx="1440" cy="7650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506760" y="3130200"/>
              <a:ext cx="1440" cy="10429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311640" y="3132000"/>
              <a:ext cx="1440" cy="9115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686040" y="3133440"/>
              <a:ext cx="0" cy="11682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914560" y="3133800"/>
              <a:ext cx="0" cy="6364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2714760" y="3133440"/>
              <a:ext cx="0" cy="4921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876840" y="3133800"/>
              <a:ext cx="0" cy="13032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067280" y="3133800"/>
              <a:ext cx="0" cy="14205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467240" y="3133440"/>
              <a:ext cx="0" cy="17096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254480" y="3134880"/>
              <a:ext cx="3240" cy="15620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4667400" y="3133800"/>
              <a:ext cx="2880" cy="18511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5047920" y="3134880"/>
              <a:ext cx="4680" cy="18860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615680" y="1542960"/>
            <a:ext cx="651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in  55 TCI + MF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.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3 TCI + 0.09 MFI 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250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[retorno mínimo desejad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3 TCI – 0.40 MFI 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0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[até 40% na TCI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55 TCI </a:t>
            </a:r>
            <a:r>
              <a:rPr b="1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750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[limite de recursos disponívei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24200" y="875160"/>
            <a:ext cx="70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xemplo 5.4, pg. 170 do Lawrence e Pastern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3440" y="2741760"/>
            <a:ext cx="8354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95440" y="6032520"/>
            <a:ext cx="50659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525760" y="2973240"/>
            <a:ext cx="0" cy="3246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29600" y="28396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F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60120" y="554148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14560" y="5946840"/>
            <a:ext cx="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00480" y="5951520"/>
            <a:ext cx="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87840" y="5951520"/>
            <a:ext cx="0" cy="1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0520" y="5948280"/>
            <a:ext cx="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62560" y="5948280"/>
            <a:ext cx="324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53160" y="5948280"/>
            <a:ext cx="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40160" y="5948280"/>
            <a:ext cx="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22840" y="5950080"/>
            <a:ext cx="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94360" y="5948280"/>
            <a:ext cx="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81720" y="5948280"/>
            <a:ext cx="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9080" y="5948280"/>
            <a:ext cx="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444400" y="51465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450880" y="4226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447640" y="3340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67320" y="50090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86400" y="4094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86400" y="3199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74880" y="6094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55760" y="6096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35160" y="6091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77880" y="60948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69920" y="6101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46360" y="6094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68440" y="60948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86200" y="6102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90920" y="6109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36720" y="6102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05000" y="61077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33680" y="3505320"/>
            <a:ext cx="3676680" cy="2533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533680" y="4362120"/>
            <a:ext cx="4191120" cy="16765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105520" y="2968200"/>
            <a:ext cx="0" cy="30704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2533320" y="5028840"/>
            <a:ext cx="3848040" cy="1009800"/>
          </a:xfrm>
          <a:prstGeom prst="line">
            <a:avLst/>
          </a:prstGeom>
          <a:ln w="19080">
            <a:solidFill>
              <a:srgbClr val="cc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552760" y="5257440"/>
            <a:ext cx="3029040" cy="762120"/>
          </a:xfrm>
          <a:prstGeom prst="line">
            <a:avLst/>
          </a:prstGeom>
          <a:ln w="19080">
            <a:solidFill>
              <a:srgbClr val="cc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2495520" y="4800240"/>
            <a:ext cx="4610160" cy="1219320"/>
          </a:xfrm>
          <a:prstGeom prst="line">
            <a:avLst/>
          </a:prstGeom>
          <a:ln w="19080">
            <a:solidFill>
              <a:srgbClr val="cc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772080" y="4809960"/>
            <a:ext cx="2180880" cy="581040"/>
          </a:xfrm>
          <a:prstGeom prst="line">
            <a:avLst/>
          </a:prstGeom>
          <a:ln w="19080">
            <a:solidFill>
              <a:srgbClr val="cc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5057640"/>
            <a:ext cx="114480" cy="11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4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17560" y="3165480"/>
            <a:ext cx="590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Black"/>
              </a:rPr>
              <a:t>Condições do 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Black"/>
              </a:rPr>
              <a:t>Ou A ou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5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76560" y="799200"/>
            <a:ext cx="66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Adaptado do Exemplo 6, pg. 478 do Win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2320" y="3747960"/>
            <a:ext cx="696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omo estabelecer a condição: "ou 0 uniformes ou mais que 1.000 uniformes"?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u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M * Y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1000 - u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M * ( 1 - Yu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Yu = bina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 = número grande (por exemplo 50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0120" y="5427720"/>
            <a:ext cx="811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so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Yu = 1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, u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5000 que vai apresentar folga , mas 1000 - u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0, de modo que 1.000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u.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6880" y="5823000"/>
            <a:ext cx="8013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so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 Yu = 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, u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0 , ou seja u não vai ser produzido  e 1000 - u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5000, ou seja 1000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5000.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4640" y="3465360"/>
            <a:ext cx="8355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960" y="1417680"/>
            <a:ext cx="8255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o Ying Lu é proprietário de uma confecção e necessita planejar a produção deste 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r. Lu pode produzir uniformes, ternos ou jeans, com lucros de 20, 30 e 40 respectiv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onsiderando o esforço de vendas, design, encomenda de gabaritos, deve-se produzi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u 0 uniformes ou mais que 1000 unifor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u 0 ternos ou mais que 2000 ter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u 0 jeans ou mais que 1500 jea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Em termos de despezas para produçã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Tecido: uniformes = $ 1.50, ternos = $ 3.00 e jeans = $ 5.00 sendo disponível $ 60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Mão de obra: uniformes = $ 3.00, ternos = $ 2.50 e jeans = $ 4.0 sendo disponível $ 60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6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04640" y="3465360"/>
            <a:ext cx="8355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0960" y="1417680"/>
            <a:ext cx="8255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o Ying Lu é proprietário de uma confecção e necessita planejar a produção deste 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r. Lu pode produzir uniformes, ternos ou jeans, com lucros de 20, 30 e 40 respectiv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onsiderando o esforço de vendas, design, encomenda de gabaritos, deve-se produzi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u 0 uniformes ou mais que 1000 unifor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u 0 ternos ou mais que 2000 ter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u 0 jeans ou mais que 1500 jea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Em termos de despezas para produçã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Tecido: uniformes = $ 1.50, ternos = $ 3.00 e jeans = $ 5.00 sendo disponível $ 60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Mão de obra: uniformes = $ 3.00, ternos = $ 2.50 e jeans = $ 4.0 sendo disponível $ 60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9720" y="3544920"/>
            <a:ext cx="7342200" cy="28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ax 20 u + 30 t + 40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.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1.5 u + 3 t + 5 j </a:t>
            </a:r>
            <a:r>
              <a:rPr b="1" lang="en-US" sz="1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 6000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[tecid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3 u + 2.5 t + 4 j </a:t>
            </a:r>
            <a:r>
              <a:rPr b="1" lang="en-US" sz="1400" spc="-1" strike="noStrike">
                <a:solidFill>
                  <a:srgbClr val="99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 6000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[mão de obra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u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5000 * Yu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[u = 0 ou u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100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1000 - u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5000 * ( 1 - Yu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t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5000 * Yt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[t = 0 ou t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200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2000 - t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5000 * ( 1 - Yt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j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5000 * Yj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[j = 0 ou j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150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1500 - j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5000 * ( 1 - Yj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u, t, j inte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Yu, Yt, Yj binary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7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76560" y="799200"/>
            <a:ext cx="66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Adaptado do Exemplo 6, pg. 478 do Win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Otto Gottlieb</cp:lastModifiedBy>
  <cp:lastPrinted>2000-07-03T14:27:54Z</cp:lastPrinted>
  <dcterms:modified xsi:type="dcterms:W3CDTF">2004-03-10T20:48:56Z</dcterms:modified>
  <cp:revision>208</cp:revision>
  <dc:subject/>
  <dc:title>Mercados Digitais</dc:title>
</cp:coreProperties>
</file>