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B5E-6DB5-4C23-9BEC-AFBB094A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48B-9C94-4538-9135-3EF60A8D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F34-E4A5-4BC3-8A1D-C95374D7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10C-75B0-42E6-8635-A243FBDD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9B8-67BD-483F-BE3D-42A8F34D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1D9-BA85-4BC5-9309-F00AA1E2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D3B-AD98-4F7E-8D71-422E561D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99E-5CEA-4A44-8BEC-E5F470B3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8F0-E69F-4B6D-9686-7BAC35E6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B05-3026-4AA1-BCF8-52291070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E1A-7C61-4172-98BF-978413A5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2B7-EB5E-46C2-8438-4BAE89E1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E2B9-06AD-41F3-B55E-65BC191C5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72320" y="4546440"/>
            <a:ext cx="634680" cy="86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1440" y="4564440"/>
            <a:ext cx="42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11440" y="5353200"/>
            <a:ext cx="3278160" cy="825480"/>
          </a:xfrm>
          <a:prstGeom prst="wedgeRoundRectCallout">
            <a:avLst>
              <a:gd name="adj1" fmla="val 50435"/>
              <a:gd name="adj2" fmla="val -142500"/>
              <a:gd name="adj3" fmla="val 16667"/>
            </a:avLst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37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é o fluxo de 3 para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resultando custo 28 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5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865080" y="2106720"/>
            <a:ext cx="2670120" cy="1212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02040" y="4870440"/>
            <a:ext cx="25279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Restrições na 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200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9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865080" y="2106720"/>
            <a:ext cx="2670120" cy="1212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02040" y="4870440"/>
            <a:ext cx="252792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Restrições na 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200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=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4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836640" y="3319560"/>
            <a:ext cx="2655720" cy="1428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94400" y="4799160"/>
            <a:ext cx="2298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Restrições no 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100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9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836640" y="3319560"/>
            <a:ext cx="2655720" cy="1428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94400" y="4799160"/>
            <a:ext cx="22989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Restrições no 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=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9933ff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9933ff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9933ff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= 750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4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66000" y="4870440"/>
            <a:ext cx="529884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Custo Total do Transporte (a ser minimizad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35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30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40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 32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7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4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42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25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                         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40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 15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 20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 28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028880" y="3254400"/>
            <a:ext cx="659376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200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[Produção no Nó 1]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1000 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[Produção no Nó 2]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ff0000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= 800 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[Produção no Nó 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110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[Consumo no Nó 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400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[Consumo no Nó 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750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[Consumo no Nó 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+ x</a:t>
            </a:r>
            <a:r>
              <a:rPr b="0" lang="pt-BR" sz="1600" spc="-1" strike="noStrike" baseline="-25000">
                <a:solidFill>
                  <a:srgbClr val="0000ff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= 75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[Consumo no Nó 7]</a:t>
            </a:r>
            <a:r>
              <a:rPr b="0" lang="pt-BR" sz="1600" spc="-1" strike="noStrike" baseline="-25000">
                <a:solidFill>
                  <a:srgbClr val="99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48720" y="1911240"/>
            <a:ext cx="5298840" cy="14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Min 35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1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3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1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4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1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 32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1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7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4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42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25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2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          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4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34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 15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35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 20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36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+  28 x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 Black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9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5048280" y="2029320"/>
            <a:ext cx="2700360" cy="2560320"/>
            <a:chOff x="5048280" y="2029320"/>
            <a:chExt cx="2700360" cy="2560320"/>
          </a:xfrm>
        </p:grpSpPr>
        <p:sp>
          <p:nvSpPr>
            <p:cNvPr id="600" name=""/>
            <p:cNvSpPr/>
            <p:nvPr/>
          </p:nvSpPr>
          <p:spPr>
            <a:xfrm flipV="1">
              <a:off x="5062680" y="2120400"/>
              <a:ext cx="234000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048280" y="2403360"/>
              <a:ext cx="2382840" cy="527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49720" y="2409840"/>
              <a:ext cx="2698920" cy="1386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48280" y="2409840"/>
              <a:ext cx="2254320" cy="2108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5268960" y="2165040"/>
              <a:ext cx="2104920" cy="12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283360" y="2987640"/>
              <a:ext cx="211932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67160" y="3363840"/>
              <a:ext cx="245268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275440" y="3357720"/>
              <a:ext cx="201132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048280" y="2179800"/>
              <a:ext cx="2354400" cy="21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062680" y="3002040"/>
              <a:ext cx="2340000" cy="126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051520" y="3852360"/>
              <a:ext cx="2682720" cy="42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59440" y="4270320"/>
              <a:ext cx="2227320" cy="3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4080" y="2029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03760" y="2251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22520" y="3609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83120" y="23673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65400" y="2845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89200" y="3205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25800" y="2601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21000" y="2699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75120" y="3415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30440" y="3682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46320" y="3905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30520" y="4217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792600" y="2190960"/>
            <a:ext cx="1539720" cy="2361960"/>
            <a:chOff x="3792600" y="2190960"/>
            <a:chExt cx="1539720" cy="2361960"/>
          </a:xfrm>
        </p:grpSpPr>
        <p:sp>
          <p:nvSpPr>
            <p:cNvPr id="625" name=""/>
            <p:cNvSpPr/>
            <p:nvPr/>
          </p:nvSpPr>
          <p:spPr>
            <a:xfrm>
              <a:off x="3916800" y="21909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Clev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87320" y="313740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Detro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92600" y="403272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992840" y="23511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18200" y="3313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95720" y="42148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7284960" y="1903680"/>
            <a:ext cx="1401840" cy="2982600"/>
            <a:chOff x="7284960" y="1903680"/>
            <a:chExt cx="1401840" cy="2982600"/>
          </a:xfrm>
        </p:grpSpPr>
        <p:sp>
          <p:nvSpPr>
            <p:cNvPr id="632" name=""/>
            <p:cNvSpPr/>
            <p:nvPr/>
          </p:nvSpPr>
          <p:spPr>
            <a:xfrm>
              <a:off x="7613280" y="1903680"/>
              <a:ext cx="77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Bos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1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39200" y="2703960"/>
              <a:ext cx="102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Richm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907040" y="358668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Atla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85200" y="4366080"/>
              <a:ext cx="87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St. Lou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97640" y="205884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34360" y="29019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84960" y="4514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54760" y="378612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761040" y="1781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3800" y="2347920"/>
            <a:ext cx="24181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03800" y="3567240"/>
            <a:ext cx="241812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Depósi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Richmond       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Atlanta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St. Louis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10800" y="5091120"/>
            <a:ext cx="538524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Custo de Transpor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Richmond    Atlanta   St. Lou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35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3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    4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4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    42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15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    2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3479040" y="7524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1040" y="1781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03800" y="2347920"/>
            <a:ext cx="24181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03800" y="3567240"/>
            <a:ext cx="241812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Depósi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Richmond       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Atlanta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St. Louis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10800" y="5091120"/>
            <a:ext cx="538524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Custo de Transpor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Richmond    Atlanta   St. Lou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35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3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    4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4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    42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15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    2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Carltnet" descr=""/>
          <p:cNvPicPr/>
          <p:nvPr/>
        </p:nvPicPr>
        <p:blipFill>
          <a:blip r:embed="rId1"/>
          <a:stretch/>
        </p:blipFill>
        <p:spPr>
          <a:xfrm>
            <a:off x="3745080" y="1566720"/>
            <a:ext cx="4714560" cy="36385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57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Carltab" descr=""/>
          <p:cNvPicPr/>
          <p:nvPr/>
        </p:nvPicPr>
        <p:blipFill>
          <a:blip r:embed="rId1"/>
          <a:stretch/>
        </p:blipFill>
        <p:spPr>
          <a:xfrm>
            <a:off x="3462480" y="1919160"/>
            <a:ext cx="5048280" cy="1571760"/>
          </a:xfrm>
          <a:prstGeom prst="rect">
            <a:avLst/>
          </a:prstGeom>
          <a:ln w="0">
            <a:noFill/>
          </a:ln>
        </p:spPr>
      </p:pic>
      <p:pic>
        <p:nvPicPr>
          <p:cNvPr id="660" name="Carltsol" descr=""/>
          <p:cNvPicPr/>
          <p:nvPr/>
        </p:nvPicPr>
        <p:blipFill>
          <a:blip r:embed="rId2"/>
          <a:stretch/>
        </p:blipFill>
        <p:spPr>
          <a:xfrm>
            <a:off x="3672000" y="3665520"/>
            <a:ext cx="4657680" cy="14288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761040" y="1781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03800" y="2347920"/>
            <a:ext cx="24181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3800" y="3567240"/>
            <a:ext cx="241812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Depósi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Richmond       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Atlanta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St. Louis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10800" y="5091120"/>
            <a:ext cx="538524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Custo de Transpor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Richmond    Atlanta   St. Lou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35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3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    4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4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    42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15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    2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6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479040" y="7524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3280" y="4651200"/>
            <a:ext cx="8397720" cy="285840"/>
            <a:chOff x="233280" y="4651200"/>
            <a:chExt cx="8397720" cy="285840"/>
          </a:xfrm>
        </p:grpSpPr>
        <p:sp>
          <p:nvSpPr>
            <p:cNvPr id="54" name=""/>
            <p:cNvSpPr/>
            <p:nvPr/>
          </p:nvSpPr>
          <p:spPr>
            <a:xfrm>
              <a:off x="620640" y="4657680"/>
              <a:ext cx="8010360" cy="23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3280" y="4651200"/>
              <a:ext cx="324000" cy="285840"/>
            </a:xfrm>
            <a:prstGeom prst="rightArrow">
              <a:avLst>
                <a:gd name="adj1" fmla="val 50000"/>
                <a:gd name="adj2" fmla="val 28338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445920" y="8478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bo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76880" y="15987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52560" y="2620800"/>
            <a:ext cx="1459080" cy="763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782800" y="3580920"/>
            <a:ext cx="1544760" cy="235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84720" y="2698920"/>
            <a:ext cx="2365200" cy="129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282920" y="2712960"/>
            <a:ext cx="2268720" cy="1689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2813040" y="2743200"/>
            <a:ext cx="1428840" cy="1054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57600" y="2593800"/>
            <a:ext cx="1569960" cy="928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270320" y="2063880"/>
            <a:ext cx="2351160" cy="65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49800" y="2678040"/>
            <a:ext cx="2762280" cy="104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383000" y="2091960"/>
            <a:ext cx="223848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4411800" y="2842920"/>
            <a:ext cx="2282760" cy="70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00640" y="3568680"/>
            <a:ext cx="253836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79760" y="3564000"/>
            <a:ext cx="2198880" cy="8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01040" y="2723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04480" y="2872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6680" y="2495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73960" y="2784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62920" y="311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148560" y="3724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02680" y="329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20040" y="236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66280" y="3053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82120" y="3638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929840" y="221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66120" y="3366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914280" y="22816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Kan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55320" y="374688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Louisv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227480" y="26398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51320" y="351468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67000" y="1802160"/>
            <a:ext cx="76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Detro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053120" y="260244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Mia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203600" y="34848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Dal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648840" y="426420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New Orle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47040" y="1957320"/>
            <a:ext cx="11412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683400" y="280044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534000" y="441324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004160" y="368460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84240" y="23864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Den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35000" y="353268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tla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719440" y="2560680"/>
            <a:ext cx="114120" cy="1141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744640" y="375120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Transtab" descr=""/>
          <p:cNvPicPr/>
          <p:nvPr/>
        </p:nvPicPr>
        <p:blipFill>
          <a:blip r:embed="rId1"/>
          <a:stretch/>
        </p:blipFill>
        <p:spPr>
          <a:xfrm>
            <a:off x="554040" y="4505400"/>
            <a:ext cx="5210280" cy="174312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15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776880" y="15987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52560" y="2620800"/>
            <a:ext cx="1459080" cy="763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782800" y="3580920"/>
            <a:ext cx="1544760" cy="235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84720" y="2698920"/>
            <a:ext cx="2365200" cy="129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82920" y="2712960"/>
            <a:ext cx="2268720" cy="1689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2813040" y="2743200"/>
            <a:ext cx="1428840" cy="1054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757600" y="2593800"/>
            <a:ext cx="1569960" cy="928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270320" y="2063880"/>
            <a:ext cx="2351160" cy="65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249800" y="2678040"/>
            <a:ext cx="2762280" cy="104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383000" y="2091960"/>
            <a:ext cx="223848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411800" y="2842920"/>
            <a:ext cx="2282760" cy="70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400640" y="3568680"/>
            <a:ext cx="253836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79760" y="3564000"/>
            <a:ext cx="2198880" cy="8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901040" y="2723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704480" y="2872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26680" y="2495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73960" y="2784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62920" y="311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48560" y="3724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02680" y="329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20040" y="236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066280" y="3053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082120" y="3638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929840" y="221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866120" y="3366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14280" y="22816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Kan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955320" y="374688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Louisv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27480" y="26398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351320" y="351468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67000" y="1802160"/>
            <a:ext cx="76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Detro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053120" y="260244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Mia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203600" y="34848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Dal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48840" y="426420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New Orle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647040" y="1957320"/>
            <a:ext cx="11412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683400" y="280044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534000" y="441324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004160" y="368460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84240" y="23864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Den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35000" y="353268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tla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19440" y="2560680"/>
            <a:ext cx="114120" cy="1141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744640" y="375120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Transsol" descr=""/>
          <p:cNvPicPr/>
          <p:nvPr/>
        </p:nvPicPr>
        <p:blipFill>
          <a:blip r:embed="rId1"/>
          <a:stretch/>
        </p:blipFill>
        <p:spPr>
          <a:xfrm>
            <a:off x="468360" y="4608360"/>
            <a:ext cx="4629240" cy="1600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61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45920" y="8478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bo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76880" y="15987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Transsol" descr=""/>
          <p:cNvPicPr/>
          <p:nvPr/>
        </p:nvPicPr>
        <p:blipFill>
          <a:blip r:embed="rId1"/>
          <a:stretch/>
        </p:blipFill>
        <p:spPr>
          <a:xfrm>
            <a:off x="468360" y="4608360"/>
            <a:ext cx="4629240" cy="1600200"/>
          </a:xfrm>
          <a:prstGeom prst="rect">
            <a:avLst/>
          </a:prstGeom>
          <a:ln w="0">
            <a:noFill/>
          </a:ln>
        </p:spPr>
      </p:pic>
      <p:pic>
        <p:nvPicPr>
          <p:cNvPr id="766" name="Transgrf" descr=""/>
          <p:cNvPicPr/>
          <p:nvPr/>
        </p:nvPicPr>
        <p:blipFill>
          <a:blip r:embed="rId2"/>
          <a:stretch/>
        </p:blipFill>
        <p:spPr>
          <a:xfrm>
            <a:off x="2538360" y="1554120"/>
            <a:ext cx="4686480" cy="29815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69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445920" y="8478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bo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7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328560" y="8953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 Black"/>
              </a:rPr>
              <a:t>Fluxo em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71080" y="2109960"/>
            <a:ext cx="55476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00"/>
                </a:solidFill>
                <a:latin typeface="Arial Black"/>
              </a:rPr>
              <a:t>Problemas Princip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Transporte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nspor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Transbord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nsship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Atribuição ou Designaçã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Assign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Caminho Mínim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Shortest-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Fluxo Máximo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Maximum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Árvore de Cobertura Mínima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Spanning T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Caixeiro Viajante </a:t>
            </a:r>
            <a:r>
              <a:rPr b="0" lang="pt-BR" sz="1800" spc="-1" strike="noStrike">
                <a:solidFill>
                  <a:srgbClr val="990000"/>
                </a:solidFill>
                <a:latin typeface="Arial Black"/>
              </a:rPr>
              <a:t>(Traveling Sales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elanet" descr=""/>
          <p:cNvPicPr/>
          <p:nvPr/>
        </p:nvPicPr>
        <p:blipFill>
          <a:blip r:embed="rId1"/>
          <a:stretch/>
        </p:blipFill>
        <p:spPr>
          <a:xfrm>
            <a:off x="1903320" y="1033560"/>
            <a:ext cx="5658120" cy="5143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1880" y="1030320"/>
            <a:ext cx="5659560" cy="5153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8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Produç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Cleveland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Detroit         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Greensboro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pósi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Boston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Richmond       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Atlanta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St. Louis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2680" y="4876920"/>
            <a:ext cx="573588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Custo de Transpor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Boston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Richmond    Atlanta   St. Lou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Cleveland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3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3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4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Detroit   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40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    42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Greensboro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     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         20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048280" y="2029320"/>
            <a:ext cx="2700360" cy="2560320"/>
            <a:chOff x="5048280" y="2029320"/>
            <a:chExt cx="2700360" cy="2560320"/>
          </a:xfrm>
        </p:grpSpPr>
        <p:sp>
          <p:nvSpPr>
            <p:cNvPr id="76" name=""/>
            <p:cNvSpPr/>
            <p:nvPr/>
          </p:nvSpPr>
          <p:spPr>
            <a:xfrm flipV="1">
              <a:off x="5062680" y="2120400"/>
              <a:ext cx="234000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48280" y="2403360"/>
              <a:ext cx="2382840" cy="527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49720" y="2409840"/>
              <a:ext cx="2698920" cy="1386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48280" y="2409840"/>
              <a:ext cx="2254320" cy="2108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268960" y="2165040"/>
              <a:ext cx="2104920" cy="12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5283360" y="2987640"/>
              <a:ext cx="211932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7160" y="3363840"/>
              <a:ext cx="245268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75440" y="3357720"/>
              <a:ext cx="201132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048280" y="2179800"/>
              <a:ext cx="2354400" cy="21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062680" y="3002040"/>
              <a:ext cx="2340000" cy="126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051520" y="3852360"/>
              <a:ext cx="2682720" cy="42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59440" y="4270320"/>
              <a:ext cx="2227320" cy="3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94080" y="2029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03760" y="2251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22520" y="3609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83120" y="23673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65400" y="2845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89200" y="3205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5800" y="2601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21000" y="2699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75120" y="3415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30440" y="3682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46320" y="3905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30520" y="4217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92600" y="2190960"/>
            <a:ext cx="1539720" cy="2361960"/>
            <a:chOff x="3792600" y="2190960"/>
            <a:chExt cx="1539720" cy="2361960"/>
          </a:xfrm>
        </p:grpSpPr>
        <p:sp>
          <p:nvSpPr>
            <p:cNvPr id="101" name=""/>
            <p:cNvSpPr/>
            <p:nvPr/>
          </p:nvSpPr>
          <p:spPr>
            <a:xfrm>
              <a:off x="3916800" y="21909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Clev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87320" y="313740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Detro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92600" y="403272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92840" y="23511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18200" y="3313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95720" y="42148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284960" y="1903680"/>
            <a:ext cx="1401840" cy="2982600"/>
            <a:chOff x="7284960" y="1903680"/>
            <a:chExt cx="1401840" cy="2982600"/>
          </a:xfrm>
        </p:grpSpPr>
        <p:sp>
          <p:nvSpPr>
            <p:cNvPr id="108" name=""/>
            <p:cNvSpPr/>
            <p:nvPr/>
          </p:nvSpPr>
          <p:spPr>
            <a:xfrm>
              <a:off x="7613280" y="1903680"/>
              <a:ext cx="77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Bos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1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9200" y="2703960"/>
              <a:ext cx="102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Richm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07040" y="358668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Atla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85200" y="4366080"/>
              <a:ext cx="87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St. Lou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7640" y="205884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34360" y="29019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84960" y="4514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54760" y="378612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792600" y="1903680"/>
            <a:ext cx="4894200" cy="2982600"/>
            <a:chOff x="3792600" y="1903680"/>
            <a:chExt cx="4894200" cy="2982600"/>
          </a:xfrm>
        </p:grpSpPr>
        <p:sp>
          <p:nvSpPr>
            <p:cNvPr id="121" name=""/>
            <p:cNvSpPr/>
            <p:nvPr/>
          </p:nvSpPr>
          <p:spPr>
            <a:xfrm flipV="1">
              <a:off x="5062680" y="2120400"/>
              <a:ext cx="23400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48280" y="2403360"/>
              <a:ext cx="238284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49720" y="2409840"/>
              <a:ext cx="2698920" cy="13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48280" y="2409840"/>
              <a:ext cx="225432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68960" y="2165040"/>
              <a:ext cx="2104920" cy="12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283360" y="2987640"/>
              <a:ext cx="211932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67160" y="3363840"/>
              <a:ext cx="245268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5440" y="3357720"/>
              <a:ext cx="201132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048280" y="2179800"/>
              <a:ext cx="2354400" cy="21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062680" y="3002040"/>
              <a:ext cx="234000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051520" y="3852360"/>
              <a:ext cx="268272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59440" y="4270320"/>
              <a:ext cx="222732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080" y="2029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03760" y="2251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22520" y="3609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83120" y="23673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65400" y="2845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89200" y="3205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25800" y="2601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21000" y="2699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75120" y="3415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30440" y="3682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46320" y="3905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30520" y="4217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6800" y="21909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lev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87320" y="313740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Detro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92600" y="403272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92840" y="23511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18200" y="3313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95720" y="42148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7284960" y="1903680"/>
              <a:ext cx="1401840" cy="2982600"/>
              <a:chOff x="7284960" y="1903680"/>
              <a:chExt cx="1401840" cy="2982600"/>
            </a:xfrm>
          </p:grpSpPr>
          <p:sp>
            <p:nvSpPr>
              <p:cNvPr id="152" name=""/>
              <p:cNvSpPr/>
              <p:nvPr/>
            </p:nvSpPr>
            <p:spPr>
              <a:xfrm>
                <a:off x="7613280" y="19036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Bost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639200" y="2703960"/>
                <a:ext cx="102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Richmo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907040" y="3586680"/>
                <a:ext cx="779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Atlan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585200" y="4366080"/>
                <a:ext cx="877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St. Lou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97640" y="205884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34360" y="290196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284960" y="451476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754760" y="378612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3706920" y="1903680"/>
            <a:ext cx="4979880" cy="4217760"/>
            <a:chOff x="3706920" y="1903680"/>
            <a:chExt cx="4979880" cy="4217760"/>
          </a:xfrm>
        </p:grpSpPr>
        <p:sp>
          <p:nvSpPr>
            <p:cNvPr id="166" name=""/>
            <p:cNvSpPr/>
            <p:nvPr/>
          </p:nvSpPr>
          <p:spPr>
            <a:xfrm flipV="1">
              <a:off x="5062680" y="2120400"/>
              <a:ext cx="23400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8280" y="2403360"/>
              <a:ext cx="238284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9720" y="2409840"/>
              <a:ext cx="2698920" cy="13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8280" y="2409840"/>
              <a:ext cx="225432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268960" y="2165040"/>
              <a:ext cx="2104920" cy="12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283360" y="2987640"/>
              <a:ext cx="211932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67160" y="3363840"/>
              <a:ext cx="245268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75440" y="3357720"/>
              <a:ext cx="201132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048280" y="2179800"/>
              <a:ext cx="2354400" cy="21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062680" y="3002040"/>
              <a:ext cx="234000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051520" y="3852360"/>
              <a:ext cx="268272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59440" y="4270320"/>
              <a:ext cx="2227320" cy="319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4080" y="2029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03760" y="2251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22520" y="3609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83120" y="23673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65400" y="2845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89200" y="3205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25800" y="2601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21000" y="2699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75120" y="3415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30440" y="3682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46320" y="3905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30520" y="4217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16800" y="21909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lev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87320" y="313740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Detro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2600" y="403272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92840" y="23511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18200" y="3313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5720" y="4214880"/>
              <a:ext cx="11448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7284960" y="1903680"/>
              <a:ext cx="1401840" cy="2982600"/>
              <a:chOff x="7284960" y="1903680"/>
              <a:chExt cx="1401840" cy="2982600"/>
            </a:xfrm>
          </p:grpSpPr>
          <p:sp>
            <p:nvSpPr>
              <p:cNvPr id="197" name=""/>
              <p:cNvSpPr/>
              <p:nvPr/>
            </p:nvSpPr>
            <p:spPr>
              <a:xfrm>
                <a:off x="7613280" y="19036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Bost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39200" y="2703960"/>
                <a:ext cx="102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Richmo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07040" y="3586680"/>
                <a:ext cx="779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Atlan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85200" y="4366080"/>
                <a:ext cx="877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St. Lou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97640" y="205884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434360" y="290196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284960" y="451476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54760" y="378612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706920" y="5556240"/>
              <a:ext cx="1965240" cy="565200"/>
            </a:xfrm>
            <a:prstGeom prst="wedgeRoundRectCallout">
              <a:avLst>
                <a:gd name="adj1" fmla="val 18495"/>
                <a:gd name="adj2" fmla="val -266851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Nó ou Vért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3706920" y="1903680"/>
            <a:ext cx="4979880" cy="4217760"/>
            <a:chOff x="3706920" y="1903680"/>
            <a:chExt cx="4979880" cy="4217760"/>
          </a:xfrm>
        </p:grpSpPr>
        <p:sp>
          <p:nvSpPr>
            <p:cNvPr id="212" name=""/>
            <p:cNvSpPr/>
            <p:nvPr/>
          </p:nvSpPr>
          <p:spPr>
            <a:xfrm flipV="1">
              <a:off x="5062680" y="2120400"/>
              <a:ext cx="234000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2403360"/>
              <a:ext cx="238284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49720" y="2409840"/>
              <a:ext cx="2698920" cy="13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48280" y="2409840"/>
              <a:ext cx="225432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268960" y="2165040"/>
              <a:ext cx="2104920" cy="12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283360" y="2987640"/>
              <a:ext cx="211932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67160" y="3363840"/>
              <a:ext cx="245268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75440" y="3357720"/>
              <a:ext cx="201132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048280" y="2179800"/>
              <a:ext cx="2354400" cy="21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062680" y="3002040"/>
              <a:ext cx="234000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051520" y="3852360"/>
              <a:ext cx="268272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59440" y="4270320"/>
              <a:ext cx="2227320" cy="319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4080" y="2029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03760" y="2251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22520" y="3609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83120" y="23673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65400" y="2845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89200" y="3205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25800" y="2601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21000" y="2699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75120" y="3415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0440" y="3682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46320" y="3905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30520" y="4217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16800" y="21909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lev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87320" y="313740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Detro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92600" y="403272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2840" y="23511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18200" y="3313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95720" y="42148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284960" y="1903680"/>
              <a:ext cx="1401840" cy="2982600"/>
              <a:chOff x="7284960" y="1903680"/>
              <a:chExt cx="1401840" cy="2982600"/>
            </a:xfrm>
          </p:grpSpPr>
          <p:sp>
            <p:nvSpPr>
              <p:cNvPr id="243" name=""/>
              <p:cNvSpPr/>
              <p:nvPr/>
            </p:nvSpPr>
            <p:spPr>
              <a:xfrm>
                <a:off x="7613280" y="19036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Bost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39200" y="2703960"/>
                <a:ext cx="102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Richmo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07040" y="3586680"/>
                <a:ext cx="779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Atlan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85200" y="4366080"/>
                <a:ext cx="877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St. Lou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7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397640" y="205884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34360" y="290196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84960" y="451476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54760" y="378612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706920" y="5556240"/>
              <a:ext cx="1965240" cy="565200"/>
            </a:xfrm>
            <a:prstGeom prst="wedgeRoundRectCallout">
              <a:avLst>
                <a:gd name="adj1" fmla="val 70597"/>
                <a:gd name="adj2" fmla="val -246629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 Black"/>
                </a:rPr>
                <a:t>Ramo ou Ar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5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7960" y="1752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55080" y="2133720"/>
            <a:ext cx="24728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Orig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2        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55080" y="3352680"/>
            <a:ext cx="24728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Desti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5       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6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7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66240" y="4876920"/>
            <a:ext cx="58363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 Black"/>
              </a:rPr>
              <a:t>Custo por Unidade de Flux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4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     5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          6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9933ff"/>
                </a:solidFill>
                <a:latin typeface="Arial Black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1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       35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3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40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2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37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40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          42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0000"/>
                </a:solidFill>
                <a:latin typeface="Arial Black"/>
              </a:rPr>
              <a:t>3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     15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          20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04400" y="2240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2600" y="32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31400" y="41407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12560" y="1938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3560" y="2810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11080" y="3692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07800" y="4443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062680" y="2120400"/>
            <a:ext cx="2340000" cy="282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48280" y="2403360"/>
            <a:ext cx="2382840" cy="52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49720" y="2409840"/>
            <a:ext cx="2698920" cy="138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48280" y="2409840"/>
            <a:ext cx="2254320" cy="2108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268960" y="2165040"/>
            <a:ext cx="210492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283360" y="2987640"/>
            <a:ext cx="211932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67160" y="3363840"/>
            <a:ext cx="24526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75440" y="3357720"/>
            <a:ext cx="2011320" cy="11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048280" y="2179800"/>
            <a:ext cx="2354400" cy="2101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062680" y="3002040"/>
            <a:ext cx="2340000" cy="1265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051520" y="3852360"/>
            <a:ext cx="2682720" cy="42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59440" y="4270320"/>
            <a:ext cx="2227320" cy="3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080" y="2029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03760" y="2251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22520" y="3609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83120" y="23673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65400" y="2845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89200" y="3205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25800" y="26010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21000" y="2699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7512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30440" y="368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46320" y="3905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30520" y="42170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92840" y="23511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18200" y="3313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95720" y="421488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7640" y="20588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34360" y="29019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84960" y="45147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4760" y="3786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87960" y="77148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Sato</cp:lastModifiedBy>
  <cp:lastPrinted>2000-07-03T14:27:54Z</cp:lastPrinted>
  <dcterms:modified xsi:type="dcterms:W3CDTF">2004-01-11T18:51:04Z</dcterms:modified>
  <cp:revision>205</cp:revision>
  <dc:subject/>
  <dc:title>Mercados Digitais</dc:title>
</cp:coreProperties>
</file>