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B16-A039-48D3-AD0A-3F688937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889-A0CC-43B4-A576-D5F02B2A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1C0-45B5-4CA5-AE02-0DBB7829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D67-4D2F-44C9-9A1F-8CE578CE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EAD-4D1A-4885-9010-1A2D1C3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BFC-CA16-4197-BF32-C60B67A2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503-70BB-4E75-9ABE-DBFFFBA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517-9F85-41AC-A625-61D559C2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9F2-316C-465A-A8C6-DA086FB4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86B-878A-4C2C-BB83-0E2B370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560-3333-435F-B39B-0EB03E2D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1A5-74F3-4237-A08F-7E042B4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8516-EEB8-4456-BA3A-8D46D463F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90680" y="15876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523880" y="2666880"/>
            <a:ext cx="419400" cy="419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81600" y="16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81600" y="1965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81600" y="232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1600" y="270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90680" y="15876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881600" y="16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81600" y="1965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81600" y="232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81600" y="270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90680" y="37782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857680" y="323856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90680" y="37782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60488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114800"/>
            <a:ext cx="419400" cy="419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90680" y="37782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60488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4000" y="5578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976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7836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90680" y="37782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60488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34000" y="5578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976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78360" y="558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90680" y="162576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 flipV="1">
            <a:off x="2857680" y="323856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76240" y="180972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6240" y="255276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33400" y="112392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390680" y="162576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240" y="180972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240" y="255276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33400" y="112392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90680" y="162576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33920" y="1962000"/>
            <a:ext cx="419040" cy="419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72080" y="1996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76240" y="180972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6240" y="255276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733400" y="112392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90680" y="162576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672080" y="1996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6240" y="443880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6240" y="518148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733400" y="375300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90680" y="425448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V="1">
            <a:off x="3924360" y="377208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38600" y="342900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6240" y="443880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6240" y="5181480"/>
            <a:ext cx="3905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733400" y="375300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390680" y="425448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 flipV="1">
            <a:off x="3924360" y="3772080"/>
            <a:ext cx="0" cy="2457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99960" y="4254480"/>
          <a:ext cx="876240" cy="1492200"/>
        </p:xfrm>
        <a:graphic>
          <a:graphicData uri="http://schemas.openxmlformats.org/drawingml/2006/table">
            <a:tbl>
              <a:tblPr/>
              <a:tblGrid>
                <a:gridCol w="87624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390680" y="3664080"/>
          <a:ext cx="2933640" cy="406440"/>
        </p:xfrm>
        <a:graphic>
          <a:graphicData uri="http://schemas.openxmlformats.org/drawingml/2006/table">
            <a:tbl>
              <a:tblPr/>
              <a:tblGrid>
                <a:gridCol w="733320"/>
                <a:gridCol w="733320"/>
                <a:gridCol w="733320"/>
                <a:gridCol w="7336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90680" y="425448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99960" y="4254480"/>
          <a:ext cx="876240" cy="1492200"/>
        </p:xfrm>
        <a:graphic>
          <a:graphicData uri="http://schemas.openxmlformats.org/drawingml/2006/table">
            <a:tbl>
              <a:tblPr/>
              <a:tblGrid>
                <a:gridCol w="87624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q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90680" y="3664080"/>
          <a:ext cx="2933640" cy="406440"/>
        </p:xfrm>
        <a:graphic>
          <a:graphicData uri="http://schemas.openxmlformats.org/drawingml/2006/table">
            <a:tbl>
              <a:tblPr/>
              <a:tblGrid>
                <a:gridCol w="733320"/>
                <a:gridCol w="733320"/>
                <a:gridCol w="733320"/>
                <a:gridCol w="7336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a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90440" y="4897440"/>
            <a:ext cx="8397720" cy="285840"/>
            <a:chOff x="190440" y="489744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577800" y="490392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440" y="489744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elanet" descr=""/>
          <p:cNvPicPr/>
          <p:nvPr/>
        </p:nvPicPr>
        <p:blipFill>
          <a:blip r:embed="rId1"/>
          <a:stretch/>
        </p:blipFill>
        <p:spPr>
          <a:xfrm>
            <a:off x="1903320" y="1033560"/>
            <a:ext cx="5658120" cy="5143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01880" y="1030320"/>
            <a:ext cx="5659560" cy="51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3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64360" y="213372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1680" y="2432160"/>
            <a:ext cx="2283120" cy="842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427640" y="2324160"/>
            <a:ext cx="2340000" cy="1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29080" y="2438280"/>
            <a:ext cx="2425680" cy="1833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48320" y="3305160"/>
            <a:ext cx="209052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662360" y="2366640"/>
            <a:ext cx="210528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46520" y="3392640"/>
            <a:ext cx="21211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427640" y="2366640"/>
            <a:ext cx="236844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441680" y="3362040"/>
            <a:ext cx="2254320" cy="93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430880" y="4284360"/>
            <a:ext cx="2334960" cy="1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8240" y="3647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60720" y="2137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1880" y="402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39120" y="2975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400" y="2426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8000" y="2656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43160" y="374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10840" y="3350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32080" y="3120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59480" y="228348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8920" y="32580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03320" y="41533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ar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71840" y="23796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97560" y="33415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75080" y="42433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6400" y="21834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X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1840" y="315648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Yah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8400" y="41407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Zo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91400" y="226044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11840" y="324792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16600" y="423216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Leadtab" descr=""/>
          <p:cNvPicPr/>
          <p:nvPr/>
        </p:nvPicPr>
        <p:blipFill>
          <a:blip r:embed="rId1"/>
          <a:stretch/>
        </p:blipFill>
        <p:spPr>
          <a:xfrm>
            <a:off x="1305000" y="5048280"/>
            <a:ext cx="1828800" cy="714240"/>
          </a:xfrm>
          <a:prstGeom prst="rect">
            <a:avLst/>
          </a:prstGeom>
          <a:ln w="0">
            <a:noFill/>
          </a:ln>
        </p:spPr>
      </p:pic>
      <p:pic>
        <p:nvPicPr>
          <p:cNvPr id="277" name="Leadersol" descr=""/>
          <p:cNvPicPr/>
          <p:nvPr/>
        </p:nvPicPr>
        <p:blipFill>
          <a:blip r:embed="rId2"/>
          <a:stretch/>
        </p:blipFill>
        <p:spPr>
          <a:xfrm>
            <a:off x="3670200" y="5051520"/>
            <a:ext cx="4515120" cy="914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03600" y="847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Atrib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603600" y="847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Atrib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4360" y="213372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Leadtab" descr=""/>
          <p:cNvPicPr/>
          <p:nvPr/>
        </p:nvPicPr>
        <p:blipFill>
          <a:blip r:embed="rId1"/>
          <a:stretch/>
        </p:blipFill>
        <p:spPr>
          <a:xfrm>
            <a:off x="1305000" y="5048280"/>
            <a:ext cx="1828800" cy="714240"/>
          </a:xfrm>
          <a:prstGeom prst="rect">
            <a:avLst/>
          </a:prstGeom>
          <a:ln w="0">
            <a:noFill/>
          </a:ln>
        </p:spPr>
      </p:pic>
      <p:pic>
        <p:nvPicPr>
          <p:cNvPr id="286" name="Leadersol" descr=""/>
          <p:cNvPicPr/>
          <p:nvPr/>
        </p:nvPicPr>
        <p:blipFill>
          <a:blip r:embed="rId2"/>
          <a:stretch/>
        </p:blipFill>
        <p:spPr>
          <a:xfrm>
            <a:off x="3670200" y="5051520"/>
            <a:ext cx="4515120" cy="914400"/>
          </a:xfrm>
          <a:prstGeom prst="rect">
            <a:avLst/>
          </a:prstGeom>
          <a:ln w="0">
            <a:noFill/>
          </a:ln>
        </p:spPr>
      </p:pic>
      <p:pic>
        <p:nvPicPr>
          <p:cNvPr id="287" name="Leadergrf" descr=""/>
          <p:cNvPicPr/>
          <p:nvPr/>
        </p:nvPicPr>
        <p:blipFill>
          <a:blip r:embed="rId3"/>
          <a:stretch/>
        </p:blipFill>
        <p:spPr>
          <a:xfrm>
            <a:off x="3584520" y="2205000"/>
            <a:ext cx="4657680" cy="2362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logo" descr=""/>
          <p:cNvPicPr/>
          <p:nvPr/>
        </p:nvPicPr>
        <p:blipFill>
          <a:blip r:embed="rId4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0" name="ASA_CO1" descr=""/>
          <p:cNvPicPr/>
          <p:nvPr/>
        </p:nvPicPr>
        <p:blipFill>
          <a:blip r:embed="rId5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1320" y="81000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4, pg 373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3840" y="1508040"/>
            <a:ext cx="76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Machineco possui 4 máquinas e 4 tarefas a serem realizadas. Dependendo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atribuição das tarefas, o tempo de execução é difer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438280" y="2292480"/>
          <a:ext cx="4057560" cy="2009520"/>
        </p:xfrm>
        <a:graphic>
          <a:graphicData uri="http://schemas.openxmlformats.org/drawingml/2006/table">
            <a:tbl>
              <a:tblPr/>
              <a:tblGrid>
                <a:gridCol w="812520"/>
                <a:gridCol w="809640"/>
                <a:gridCol w="812880"/>
                <a:gridCol w="809640"/>
                <a:gridCol w="8128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empo de Exec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Ta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Ta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Ta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Ta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Maq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Maq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Maq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Maq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25400" y="4689360"/>
            <a:ext cx="4599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ja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ij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1 se a maquina i é atribuída à tarefa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= 0 caso contrá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1320" y="81000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4, pg 373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6080" y="1508040"/>
            <a:ext cx="635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in z = 14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5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8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7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1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6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5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                     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+ 7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8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3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9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  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4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6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10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38280" y="2292480"/>
          <a:ext cx="4057920" cy="2009520"/>
        </p:xfrm>
        <a:graphic>
          <a:graphicData uri="http://schemas.openxmlformats.org/drawingml/2006/table">
            <a:tbl>
              <a:tblPr/>
              <a:tblGrid>
                <a:gridCol w="812880"/>
                <a:gridCol w="809640"/>
                <a:gridCol w="812880"/>
                <a:gridCol w="809640"/>
                <a:gridCol w="8128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empo de Exec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305400" y="5661000"/>
            <a:ext cx="21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3124080"/>
            <a:ext cx="0" cy="2419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629040" y="3124080"/>
            <a:ext cx="800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1320" y="6004080"/>
            <a:ext cx="28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Apenas 1 tarefa para Maq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1320" y="81000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4, pg 373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6080" y="1508040"/>
            <a:ext cx="635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in z = 14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5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8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7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1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6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5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                     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+ 7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8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3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9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  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4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6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10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438280" y="2292480"/>
          <a:ext cx="4057920" cy="2009520"/>
        </p:xfrm>
        <a:graphic>
          <a:graphicData uri="http://schemas.openxmlformats.org/drawingml/2006/table">
            <a:tbl>
              <a:tblPr/>
              <a:tblGrid>
                <a:gridCol w="812880"/>
                <a:gridCol w="809640"/>
                <a:gridCol w="812880"/>
                <a:gridCol w="809640"/>
                <a:gridCol w="8128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empo de Exec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a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q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305400" y="5661000"/>
            <a:ext cx="21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9680" y="3124080"/>
            <a:ext cx="0" cy="2419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29040" y="3124080"/>
            <a:ext cx="800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1320" y="6004080"/>
            <a:ext cx="28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Apenas 1 tarefa para Maq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6680" y="4457880"/>
            <a:ext cx="0" cy="1085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560" y="5680080"/>
            <a:ext cx="21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94640" y="6022800"/>
            <a:ext cx="28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Apenas 1 máquina faz Ta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1320" y="81000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4, pg 373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6080" y="1508040"/>
            <a:ext cx="635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in z = 14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5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8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7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1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6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5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                     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+ 7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8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3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9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4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  2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4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6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10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79640"/>
            <a:ext cx="21956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4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3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33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34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4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4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43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44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7320" y="326088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Restrição de Máqu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965400"/>
            <a:ext cx="21956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11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21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31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41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22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32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42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23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33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43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14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24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34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44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84200" y="432756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Restrição de Tare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5120" y="22701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180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9900ff"/>
                </a:solidFill>
                <a:latin typeface="Arial"/>
              </a:rPr>
              <a:t>ij</a:t>
            </a:r>
            <a:r>
              <a:rPr b="1" lang="pt-BR" sz="1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00ff"/>
                </a:solidFill>
                <a:latin typeface="Symbol"/>
                <a:ea typeface="Symbol"/>
              </a:rPr>
              <a:t></a:t>
            </a:r>
            <a:r>
              <a:rPr b="1" lang="pt-BR" sz="1600" spc="-1" strike="noStrike">
                <a:solidFill>
                  <a:srgbClr val="9900ff"/>
                </a:solidFill>
                <a:latin typeface="Arial"/>
              </a:rPr>
              <a:t> {0,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90680" y="15876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247840" y="1562040"/>
            <a:ext cx="419040" cy="419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1600" y="16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90680" y="15876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1523880" y="1924200"/>
            <a:ext cx="419400" cy="419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81600" y="16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81600" y="1965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2480" y="810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étodo Húng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90680" y="1587600"/>
          <a:ext cx="2933640" cy="1492200"/>
        </p:xfrm>
        <a:graphic>
          <a:graphicData uri="http://schemas.openxmlformats.org/drawingml/2006/table">
            <a:tbl>
              <a:tblPr/>
              <a:tblGrid>
                <a:gridCol w="733320"/>
                <a:gridCol w="733680"/>
                <a:gridCol w="733320"/>
                <a:gridCol w="7333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990880" y="2305080"/>
            <a:ext cx="419040" cy="419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81600" y="16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81600" y="1965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81600" y="232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11T22:24:44Z</dcterms:modified>
  <cp:revision>211</cp:revision>
  <dc:subject/>
  <dc:title>Mercados Digitais</dc:title>
</cp:coreProperties>
</file>