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A00-E9AF-4926-ADC0-53959CA8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5CD-9F0E-4B2B-B4E1-8DE3FA84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5F0-F25F-453F-A6C5-9ED156F3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2AB-467D-488B-8446-4BDF3A6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DD2-8773-4710-8AEC-EE2952E5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F60-229E-4DBF-B68F-026F0D17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FFA-C571-4A64-B09D-70627AA7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A8F-C011-4D75-93F6-AD7F696B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260-362D-4010-9B44-9204D13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FAE-6E2F-4C86-9782-53A5713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FBB-D048-4C27-989A-30A0C43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1F4-0007-4079-BA15-FBEFEC65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5343-C6CC-4947-A5BE-B2279F776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86200" y="835200"/>
            <a:ext cx="49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Árvore de Cobertura Mí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7400" y="1484280"/>
            <a:ext cx="74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Dados n nós, uma árvore de cobertura é um conjunto de n-1 ar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que conectam todos os nós, sem apresentar laç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9560" y="217008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A árvore de cobertura mínima é aquela cuja soma dos compr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dos arcos é a menor possí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1800" y="3772080"/>
            <a:ext cx="438120" cy="438120"/>
            <a:chOff x="361800" y="3772080"/>
            <a:chExt cx="438120" cy="438120"/>
          </a:xfrm>
        </p:grpSpPr>
        <p:sp>
          <p:nvSpPr>
            <p:cNvPr id="251" name=""/>
            <p:cNvSpPr/>
            <p:nvPr/>
          </p:nvSpPr>
          <p:spPr>
            <a:xfrm>
              <a:off x="361800" y="3772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2800" y="3832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352520" y="3772080"/>
            <a:ext cx="438120" cy="438120"/>
            <a:chOff x="1352520" y="3772080"/>
            <a:chExt cx="438120" cy="438120"/>
          </a:xfrm>
        </p:grpSpPr>
        <p:sp>
          <p:nvSpPr>
            <p:cNvPr id="254" name=""/>
            <p:cNvSpPr/>
            <p:nvPr/>
          </p:nvSpPr>
          <p:spPr>
            <a:xfrm>
              <a:off x="1352520" y="3772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33520" y="3832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793800" y="4005360"/>
            <a:ext cx="55872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4880" y="4140360"/>
            <a:ext cx="279360" cy="5918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170000" y="4172040"/>
            <a:ext cx="277920" cy="590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7280" y="430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95360" y="430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80920" y="3660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76240" y="4667400"/>
            <a:ext cx="438120" cy="438120"/>
            <a:chOff x="876240" y="4667400"/>
            <a:chExt cx="438120" cy="438120"/>
          </a:xfrm>
        </p:grpSpPr>
        <p:sp>
          <p:nvSpPr>
            <p:cNvPr id="263" name=""/>
            <p:cNvSpPr/>
            <p:nvPr/>
          </p:nvSpPr>
          <p:spPr>
            <a:xfrm>
              <a:off x="876240" y="4667400"/>
              <a:ext cx="438120" cy="438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5724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762280" y="3067200"/>
            <a:ext cx="438120" cy="438120"/>
            <a:chOff x="2762280" y="3067200"/>
            <a:chExt cx="438120" cy="438120"/>
          </a:xfrm>
        </p:grpSpPr>
        <p:sp>
          <p:nvSpPr>
            <p:cNvPr id="266" name=""/>
            <p:cNvSpPr/>
            <p:nvPr/>
          </p:nvSpPr>
          <p:spPr>
            <a:xfrm>
              <a:off x="2762280" y="306720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3280" y="312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753000" y="3067200"/>
            <a:ext cx="438120" cy="438120"/>
            <a:chOff x="3753000" y="3067200"/>
            <a:chExt cx="438120" cy="438120"/>
          </a:xfrm>
        </p:grpSpPr>
        <p:sp>
          <p:nvSpPr>
            <p:cNvPr id="269" name=""/>
            <p:cNvSpPr/>
            <p:nvPr/>
          </p:nvSpPr>
          <p:spPr>
            <a:xfrm>
              <a:off x="3753000" y="306720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34000" y="312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105000" y="3314880"/>
            <a:ext cx="743040" cy="742320"/>
            <a:chOff x="3105000" y="3314880"/>
            <a:chExt cx="743040" cy="742320"/>
          </a:xfrm>
        </p:grpSpPr>
        <p:sp>
          <p:nvSpPr>
            <p:cNvPr id="272" name=""/>
            <p:cNvSpPr/>
            <p:nvPr/>
          </p:nvSpPr>
          <p:spPr>
            <a:xfrm>
              <a:off x="3184200" y="3314880"/>
              <a:ext cx="5968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05000" y="3435840"/>
              <a:ext cx="278640" cy="5911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569400" y="3466080"/>
              <a:ext cx="278640" cy="5911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957760" y="3603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95840" y="3603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1040" y="2955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276720" y="3962520"/>
            <a:ext cx="438120" cy="438120"/>
            <a:chOff x="3276720" y="3962520"/>
            <a:chExt cx="438120" cy="438120"/>
          </a:xfrm>
        </p:grpSpPr>
        <p:sp>
          <p:nvSpPr>
            <p:cNvPr id="279" name=""/>
            <p:cNvSpPr/>
            <p:nvPr/>
          </p:nvSpPr>
          <p:spPr>
            <a:xfrm>
              <a:off x="3276720" y="3962520"/>
              <a:ext cx="438120" cy="438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7720" y="4022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743360" y="3048120"/>
            <a:ext cx="438120" cy="438120"/>
            <a:chOff x="4743360" y="3048120"/>
            <a:chExt cx="438120" cy="438120"/>
          </a:xfrm>
        </p:grpSpPr>
        <p:sp>
          <p:nvSpPr>
            <p:cNvPr id="282" name=""/>
            <p:cNvSpPr/>
            <p:nvPr/>
          </p:nvSpPr>
          <p:spPr>
            <a:xfrm>
              <a:off x="4743360" y="304812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24360" y="3108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34080" y="3048120"/>
            <a:ext cx="438120" cy="438120"/>
            <a:chOff x="5734080" y="3048120"/>
            <a:chExt cx="438120" cy="438120"/>
          </a:xfrm>
        </p:grpSpPr>
        <p:sp>
          <p:nvSpPr>
            <p:cNvPr id="285" name=""/>
            <p:cNvSpPr/>
            <p:nvPr/>
          </p:nvSpPr>
          <p:spPr>
            <a:xfrm>
              <a:off x="5734080" y="304812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15080" y="3108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086440" y="3295800"/>
            <a:ext cx="743040" cy="742320"/>
            <a:chOff x="5086440" y="3295800"/>
            <a:chExt cx="743040" cy="742320"/>
          </a:xfrm>
        </p:grpSpPr>
        <p:sp>
          <p:nvSpPr>
            <p:cNvPr id="288" name=""/>
            <p:cNvSpPr/>
            <p:nvPr/>
          </p:nvSpPr>
          <p:spPr>
            <a:xfrm>
              <a:off x="5165640" y="3295800"/>
              <a:ext cx="5968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86440" y="3416760"/>
              <a:ext cx="278640" cy="5911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550840" y="3447000"/>
              <a:ext cx="278640" cy="5911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938840" y="3584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76920" y="3584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2936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257800" y="3943440"/>
            <a:ext cx="438120" cy="438120"/>
            <a:chOff x="5257800" y="3943440"/>
            <a:chExt cx="438120" cy="438120"/>
          </a:xfrm>
        </p:grpSpPr>
        <p:sp>
          <p:nvSpPr>
            <p:cNvPr id="295" name=""/>
            <p:cNvSpPr/>
            <p:nvPr/>
          </p:nvSpPr>
          <p:spPr>
            <a:xfrm>
              <a:off x="5257800" y="3943440"/>
              <a:ext cx="438120" cy="438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8800" y="4003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781360" y="4933800"/>
            <a:ext cx="438120" cy="438120"/>
            <a:chOff x="2781360" y="4933800"/>
            <a:chExt cx="438120" cy="438120"/>
          </a:xfrm>
        </p:grpSpPr>
        <p:sp>
          <p:nvSpPr>
            <p:cNvPr id="298" name=""/>
            <p:cNvSpPr/>
            <p:nvPr/>
          </p:nvSpPr>
          <p:spPr>
            <a:xfrm>
              <a:off x="2781360" y="493380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62360" y="4993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772080" y="4933800"/>
            <a:ext cx="438120" cy="438120"/>
            <a:chOff x="3772080" y="4933800"/>
            <a:chExt cx="438120" cy="438120"/>
          </a:xfrm>
        </p:grpSpPr>
        <p:sp>
          <p:nvSpPr>
            <p:cNvPr id="301" name=""/>
            <p:cNvSpPr/>
            <p:nvPr/>
          </p:nvSpPr>
          <p:spPr>
            <a:xfrm>
              <a:off x="3772080" y="493380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53080" y="4993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124080" y="5181480"/>
            <a:ext cx="743040" cy="743040"/>
            <a:chOff x="3124080" y="5181480"/>
            <a:chExt cx="743040" cy="743040"/>
          </a:xfrm>
        </p:grpSpPr>
        <p:sp>
          <p:nvSpPr>
            <p:cNvPr id="304" name=""/>
            <p:cNvSpPr/>
            <p:nvPr/>
          </p:nvSpPr>
          <p:spPr>
            <a:xfrm>
              <a:off x="3203280" y="5181480"/>
              <a:ext cx="5968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24080" y="5302440"/>
              <a:ext cx="278640" cy="59148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588480" y="5333040"/>
              <a:ext cx="278640" cy="59148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6480" y="547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14920" y="547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00120" y="4822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295800" y="5829480"/>
            <a:ext cx="438120" cy="438120"/>
            <a:chOff x="3295800" y="5829480"/>
            <a:chExt cx="438120" cy="438120"/>
          </a:xfrm>
        </p:grpSpPr>
        <p:sp>
          <p:nvSpPr>
            <p:cNvPr id="311" name=""/>
            <p:cNvSpPr/>
            <p:nvPr/>
          </p:nvSpPr>
          <p:spPr>
            <a:xfrm>
              <a:off x="3295800" y="5829480"/>
              <a:ext cx="438120" cy="438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76800" y="588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762440" y="4915080"/>
            <a:ext cx="438120" cy="438120"/>
            <a:chOff x="4762440" y="4915080"/>
            <a:chExt cx="438120" cy="438120"/>
          </a:xfrm>
        </p:grpSpPr>
        <p:sp>
          <p:nvSpPr>
            <p:cNvPr id="314" name=""/>
            <p:cNvSpPr/>
            <p:nvPr/>
          </p:nvSpPr>
          <p:spPr>
            <a:xfrm>
              <a:off x="4762440" y="4915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43440" y="497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753160" y="4915080"/>
            <a:ext cx="438120" cy="438120"/>
            <a:chOff x="5753160" y="4915080"/>
            <a:chExt cx="438120" cy="438120"/>
          </a:xfrm>
        </p:grpSpPr>
        <p:sp>
          <p:nvSpPr>
            <p:cNvPr id="317" name=""/>
            <p:cNvSpPr/>
            <p:nvPr/>
          </p:nvSpPr>
          <p:spPr>
            <a:xfrm>
              <a:off x="5753160" y="49150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4160" y="497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105520" y="5162400"/>
            <a:ext cx="741960" cy="743040"/>
            <a:chOff x="5105520" y="5162400"/>
            <a:chExt cx="741960" cy="743040"/>
          </a:xfrm>
        </p:grpSpPr>
        <p:sp>
          <p:nvSpPr>
            <p:cNvPr id="320" name=""/>
            <p:cNvSpPr/>
            <p:nvPr/>
          </p:nvSpPr>
          <p:spPr>
            <a:xfrm>
              <a:off x="5184720" y="5162400"/>
              <a:ext cx="5968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520" y="5283360"/>
              <a:ext cx="278280" cy="59148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569200" y="5313960"/>
              <a:ext cx="278280" cy="59148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957920" y="545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545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81560" y="4803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76880" y="5810400"/>
            <a:ext cx="438120" cy="438120"/>
            <a:chOff x="5276880" y="5810400"/>
            <a:chExt cx="438120" cy="438120"/>
          </a:xfrm>
        </p:grpSpPr>
        <p:sp>
          <p:nvSpPr>
            <p:cNvPr id="327" name=""/>
            <p:cNvSpPr/>
            <p:nvPr/>
          </p:nvSpPr>
          <p:spPr>
            <a:xfrm>
              <a:off x="5276880" y="5810400"/>
              <a:ext cx="438120" cy="438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57880" y="5870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743880" y="4896000"/>
            <a:ext cx="438120" cy="438120"/>
            <a:chOff x="6743880" y="4896000"/>
            <a:chExt cx="438120" cy="438120"/>
          </a:xfrm>
        </p:grpSpPr>
        <p:sp>
          <p:nvSpPr>
            <p:cNvPr id="330" name=""/>
            <p:cNvSpPr/>
            <p:nvPr/>
          </p:nvSpPr>
          <p:spPr>
            <a:xfrm>
              <a:off x="6743880" y="489600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24880" y="495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734240" y="4896000"/>
            <a:ext cx="438120" cy="438120"/>
            <a:chOff x="7734240" y="4896000"/>
            <a:chExt cx="438120" cy="438120"/>
          </a:xfrm>
        </p:grpSpPr>
        <p:sp>
          <p:nvSpPr>
            <p:cNvPr id="333" name=""/>
            <p:cNvSpPr/>
            <p:nvPr/>
          </p:nvSpPr>
          <p:spPr>
            <a:xfrm>
              <a:off x="7734240" y="489600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15240" y="495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86600" y="5143680"/>
            <a:ext cx="743040" cy="742320"/>
            <a:chOff x="7086600" y="5143680"/>
            <a:chExt cx="743040" cy="742320"/>
          </a:xfrm>
        </p:grpSpPr>
        <p:sp>
          <p:nvSpPr>
            <p:cNvPr id="336" name=""/>
            <p:cNvSpPr/>
            <p:nvPr/>
          </p:nvSpPr>
          <p:spPr>
            <a:xfrm>
              <a:off x="7165800" y="5143680"/>
              <a:ext cx="5968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5264640"/>
              <a:ext cx="278640" cy="5911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51000" y="5294880"/>
              <a:ext cx="278640" cy="5911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939000" y="543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7080" y="543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62640" y="4784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257960" y="5791320"/>
            <a:ext cx="438120" cy="438120"/>
            <a:chOff x="7257960" y="5791320"/>
            <a:chExt cx="438120" cy="438120"/>
          </a:xfrm>
        </p:grpSpPr>
        <p:sp>
          <p:nvSpPr>
            <p:cNvPr id="343" name=""/>
            <p:cNvSpPr/>
            <p:nvPr/>
          </p:nvSpPr>
          <p:spPr>
            <a:xfrm>
              <a:off x="7257960" y="5791320"/>
              <a:ext cx="438120" cy="438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38960" y="5851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219480" y="3314880"/>
            <a:ext cx="533520" cy="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86440" y="3457440"/>
            <a:ext cx="266760" cy="51444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38560" y="5181480"/>
            <a:ext cx="533520" cy="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29360" y="5153040"/>
            <a:ext cx="533160" cy="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334120"/>
            <a:ext cx="247680" cy="51408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619600" y="5334120"/>
            <a:ext cx="228600" cy="49536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591320" y="5295960"/>
            <a:ext cx="238320" cy="50472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95960" y="5286240"/>
            <a:ext cx="247680" cy="52416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14920" y="3868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91400" y="3849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591160" y="3467160"/>
            <a:ext cx="238320" cy="50472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91200" y="3305160"/>
            <a:ext cx="533160" cy="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15280" y="5888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53600" y="5869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96960" y="5830920"/>
            <a:ext cx="5191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829480" y="2930400"/>
            <a:ext cx="1760400" cy="12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236920" y="3046320"/>
            <a:ext cx="216540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5222880" y="3754080"/>
            <a:ext cx="1573200" cy="13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43520" y="2930400"/>
            <a:ext cx="15591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73880" y="3075120"/>
            <a:ext cx="20160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253120" y="2930400"/>
            <a:ext cx="60480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53120" y="3782880"/>
            <a:ext cx="2322360" cy="3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43520" y="2930400"/>
            <a:ext cx="909720" cy="220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67120" y="853920"/>
            <a:ext cx="49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Árvore de Cobertura Mí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2800" y="1846440"/>
            <a:ext cx="770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Problema: Interconectar todas as 5 filias da ESPMicro: Aclimação, Brás, Cambuci, Diadema e Estoril, de modo que se gaste o mínimo de fibra óp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9440" y="3732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20320" y="2715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66400" y="344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97040" y="25279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cli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2160" y="2823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Br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18440" y="299556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29400" y="41194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89520" y="28717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68760" y="480888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ad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66200" y="429480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mbu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79480" y="381996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to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13640" y="506736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7960" y="3743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796080" y="4171680"/>
            <a:ext cx="793800" cy="9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96320" y="3148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6160" y="3346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3040" y="4324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41000" y="41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64840" y="3437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ESPMtab" descr=""/>
          <p:cNvPicPr/>
          <p:nvPr/>
        </p:nvPicPr>
        <p:blipFill>
          <a:blip r:embed="rId1"/>
          <a:stretch/>
        </p:blipFill>
        <p:spPr>
          <a:xfrm>
            <a:off x="1028880" y="2755800"/>
            <a:ext cx="3133440" cy="1057320"/>
          </a:xfrm>
          <a:prstGeom prst="rect">
            <a:avLst/>
          </a:prstGeom>
          <a:ln w="0">
            <a:noFill/>
          </a:ln>
        </p:spPr>
      </p:pic>
      <p:pic>
        <p:nvPicPr>
          <p:cNvPr id="390" name="ESPMsol" descr=""/>
          <p:cNvPicPr/>
          <p:nvPr/>
        </p:nvPicPr>
        <p:blipFill>
          <a:blip r:embed="rId2"/>
          <a:stretch/>
        </p:blipFill>
        <p:spPr>
          <a:xfrm>
            <a:off x="1681200" y="5462640"/>
            <a:ext cx="5753160" cy="8096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9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712800" y="1846440"/>
            <a:ext cx="770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Problema: Interconectar todas as 5 filias da ESPMicro: Aclimação, Brás, Cambuci, Diadema e Estoril, de modo que se gaste o mínimo de fibra óp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ESPMtab" descr=""/>
          <p:cNvPicPr/>
          <p:nvPr/>
        </p:nvPicPr>
        <p:blipFill>
          <a:blip r:embed="rId1"/>
          <a:stretch/>
        </p:blipFill>
        <p:spPr>
          <a:xfrm>
            <a:off x="1028880" y="2755800"/>
            <a:ext cx="3133440" cy="1057320"/>
          </a:xfrm>
          <a:prstGeom prst="rect">
            <a:avLst/>
          </a:prstGeom>
          <a:ln w="0">
            <a:noFill/>
          </a:ln>
        </p:spPr>
      </p:pic>
      <p:pic>
        <p:nvPicPr>
          <p:cNvPr id="397" name="ESPMgraf" descr=""/>
          <p:cNvPicPr/>
          <p:nvPr/>
        </p:nvPicPr>
        <p:blipFill>
          <a:blip r:embed="rId2"/>
          <a:stretch/>
        </p:blipFill>
        <p:spPr>
          <a:xfrm>
            <a:off x="1865160" y="3940200"/>
            <a:ext cx="1571760" cy="23241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829480" y="2930400"/>
            <a:ext cx="1760400" cy="12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236920" y="3046320"/>
            <a:ext cx="216540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5222880" y="3754080"/>
            <a:ext cx="1573200" cy="13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3520" y="2930400"/>
            <a:ext cx="15591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73880" y="3075120"/>
            <a:ext cx="20160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253120" y="2930400"/>
            <a:ext cx="60480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3120" y="3782880"/>
            <a:ext cx="2322360" cy="3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43520" y="2930400"/>
            <a:ext cx="909720" cy="220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9440" y="3732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20320" y="2715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6400" y="344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97040" y="25279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cli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72160" y="2823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Br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18440" y="299556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529400" y="41194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89520" y="28717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68760" y="480888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ad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66200" y="429480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mbu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79480" y="381996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to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13640" y="506736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87960" y="3743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796080" y="4171680"/>
            <a:ext cx="793800" cy="9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96320" y="3148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36160" y="3346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03040" y="4324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41000" y="41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64840" y="3437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2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7120" y="853920"/>
            <a:ext cx="49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Árvore de Cobertura Mí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04840" y="5157720"/>
            <a:ext cx="8397720" cy="285840"/>
            <a:chOff x="204840" y="5157720"/>
            <a:chExt cx="8397720" cy="285840"/>
          </a:xfrm>
        </p:grpSpPr>
        <p:sp>
          <p:nvSpPr>
            <p:cNvPr id="54" name=""/>
            <p:cNvSpPr/>
            <p:nvPr/>
          </p:nvSpPr>
          <p:spPr>
            <a:xfrm>
              <a:off x="592200" y="516420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4840" y="515772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23880" y="2666880"/>
            <a:ext cx="438120" cy="438120"/>
            <a:chOff x="1523880" y="2666880"/>
            <a:chExt cx="438120" cy="438120"/>
          </a:xfrm>
        </p:grpSpPr>
        <p:sp>
          <p:nvSpPr>
            <p:cNvPr id="63" name=""/>
            <p:cNvSpPr/>
            <p:nvPr/>
          </p:nvSpPr>
          <p:spPr>
            <a:xfrm>
              <a:off x="1523880" y="26668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04880" y="2727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305080" y="4076640"/>
            <a:ext cx="438120" cy="438120"/>
            <a:chOff x="2305080" y="4076640"/>
            <a:chExt cx="438120" cy="438120"/>
          </a:xfrm>
        </p:grpSpPr>
        <p:sp>
          <p:nvSpPr>
            <p:cNvPr id="66" name=""/>
            <p:cNvSpPr/>
            <p:nvPr/>
          </p:nvSpPr>
          <p:spPr>
            <a:xfrm>
              <a:off x="2305080" y="407664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86080" y="41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95360" y="3333600"/>
            <a:ext cx="441000" cy="438120"/>
            <a:chOff x="495360" y="3333600"/>
            <a:chExt cx="441000" cy="438120"/>
          </a:xfrm>
        </p:grpSpPr>
        <p:sp>
          <p:nvSpPr>
            <p:cNvPr id="69" name=""/>
            <p:cNvSpPr/>
            <p:nvPr/>
          </p:nvSpPr>
          <p:spPr>
            <a:xfrm>
              <a:off x="495360" y="333360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9480" y="33750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57680" y="2666880"/>
            <a:ext cx="438120" cy="438120"/>
            <a:chOff x="2857680" y="2666880"/>
            <a:chExt cx="438120" cy="438120"/>
          </a:xfrm>
        </p:grpSpPr>
        <p:sp>
          <p:nvSpPr>
            <p:cNvPr id="72" name=""/>
            <p:cNvSpPr/>
            <p:nvPr/>
          </p:nvSpPr>
          <p:spPr>
            <a:xfrm>
              <a:off x="2857680" y="266688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38680" y="2727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76680" y="4057560"/>
            <a:ext cx="438120" cy="438120"/>
            <a:chOff x="3676680" y="4057560"/>
            <a:chExt cx="438120" cy="438120"/>
          </a:xfrm>
        </p:grpSpPr>
        <p:sp>
          <p:nvSpPr>
            <p:cNvPr id="75" name=""/>
            <p:cNvSpPr/>
            <p:nvPr/>
          </p:nvSpPr>
          <p:spPr>
            <a:xfrm>
              <a:off x="3676680" y="4057560"/>
              <a:ext cx="438120" cy="4381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19880" y="41180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 flipV="1">
            <a:off x="857160" y="2952720"/>
            <a:ext cx="704880" cy="495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619440"/>
            <a:ext cx="1371600" cy="571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180960" y="3048120"/>
            <a:ext cx="590760" cy="10094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2876400"/>
            <a:ext cx="857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62280" y="4286160"/>
            <a:ext cx="8953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47880" y="3048120"/>
            <a:ext cx="59040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8400" y="3317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14720" y="2498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848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57240" y="2879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6480" y="3927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0920" y="322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880" y="37749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24840" y="4518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98160" y="1679400"/>
            <a:ext cx="154332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max z = 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s.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so,1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so,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,si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3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3,si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so,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so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so,1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so,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2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,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13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,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3,si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+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2,si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i,j</a:t>
            </a:r>
            <a:r>
              <a:rPr b="1" lang="pt-BR" sz="16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11120" y="274644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Limi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apa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73320" y="4365720"/>
            <a:ext cx="16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nserv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ssa/Ener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2760" y="83520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elanet" descr=""/>
          <p:cNvPicPr/>
          <p:nvPr/>
        </p:nvPicPr>
        <p:blipFill>
          <a:blip r:embed="rId1"/>
          <a:stretch/>
        </p:blipFill>
        <p:spPr>
          <a:xfrm>
            <a:off x="1903320" y="1033560"/>
            <a:ext cx="5658120" cy="5143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1880" y="1030320"/>
            <a:ext cx="5659560" cy="51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9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3800" y="2133720"/>
            <a:ext cx="234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ITAir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05320" y="1864080"/>
            <a:ext cx="5043960" cy="2104200"/>
            <a:chOff x="3505320" y="1864080"/>
            <a:chExt cx="5043960" cy="2104200"/>
          </a:xfrm>
        </p:grpSpPr>
        <p:sp>
          <p:nvSpPr>
            <p:cNvPr id="103" name=""/>
            <p:cNvSpPr/>
            <p:nvPr/>
          </p:nvSpPr>
          <p:spPr>
            <a:xfrm>
              <a:off x="4046400" y="2909880"/>
              <a:ext cx="10782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367320" y="2984400"/>
              <a:ext cx="1105200" cy="60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60960" y="2906640"/>
              <a:ext cx="113184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03960" y="2273400"/>
              <a:ext cx="11714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153040" y="2300400"/>
              <a:ext cx="109548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44080" y="2275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88400" y="2915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55400" y="2331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47320" y="2972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5320" y="2497680"/>
              <a:ext cx="76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Atiba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33640" y="244692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Baur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36960" y="284940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3720" y="286236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37360" y="22068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5360" y="186408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ão Jos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1280" y="366120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Rosei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84200" y="27676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Tauba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80200" y="35496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6040" y="29052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29840" y="3018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Itairgrf" descr=""/>
          <p:cNvPicPr/>
          <p:nvPr/>
        </p:nvPicPr>
        <p:blipFill>
          <a:blip r:embed="rId1"/>
          <a:stretch/>
        </p:blipFill>
        <p:spPr>
          <a:xfrm>
            <a:off x="3533760" y="3994200"/>
            <a:ext cx="470520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Itairtab" descr=""/>
          <p:cNvPicPr/>
          <p:nvPr/>
        </p:nvPicPr>
        <p:blipFill>
          <a:blip r:embed="rId2"/>
          <a:stretch/>
        </p:blipFill>
        <p:spPr>
          <a:xfrm>
            <a:off x="1533600" y="2655720"/>
            <a:ext cx="1457280" cy="1057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2760" y="83520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3800" y="2133720"/>
            <a:ext cx="234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ITAir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Itairtab" descr=""/>
          <p:cNvPicPr/>
          <p:nvPr/>
        </p:nvPicPr>
        <p:blipFill>
          <a:blip r:embed="rId1"/>
          <a:stretch/>
        </p:blipFill>
        <p:spPr>
          <a:xfrm>
            <a:off x="1533600" y="2655720"/>
            <a:ext cx="1457280" cy="1057320"/>
          </a:xfrm>
          <a:prstGeom prst="rect">
            <a:avLst/>
          </a:prstGeom>
          <a:ln w="0">
            <a:noFill/>
          </a:ln>
        </p:spPr>
      </p:pic>
      <p:pic>
        <p:nvPicPr>
          <p:cNvPr id="132" name="Itairsol" descr=""/>
          <p:cNvPicPr/>
          <p:nvPr/>
        </p:nvPicPr>
        <p:blipFill>
          <a:blip r:embed="rId2"/>
          <a:stretch/>
        </p:blipFill>
        <p:spPr>
          <a:xfrm>
            <a:off x="534960" y="4195800"/>
            <a:ext cx="3543480" cy="91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2760" y="83520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05320" y="1864080"/>
            <a:ext cx="5043960" cy="2104200"/>
            <a:chOff x="3505320" y="1864080"/>
            <a:chExt cx="5043960" cy="2104200"/>
          </a:xfrm>
        </p:grpSpPr>
        <p:sp>
          <p:nvSpPr>
            <p:cNvPr id="139" name=""/>
            <p:cNvSpPr/>
            <p:nvPr/>
          </p:nvSpPr>
          <p:spPr>
            <a:xfrm>
              <a:off x="4046400" y="2909880"/>
              <a:ext cx="10782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367320" y="2984400"/>
              <a:ext cx="1105200" cy="60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60960" y="2906640"/>
              <a:ext cx="113184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03960" y="2273400"/>
              <a:ext cx="11714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153040" y="2300400"/>
              <a:ext cx="109548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4080" y="2275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88400" y="2915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55400" y="2331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47320" y="2972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2497680"/>
              <a:ext cx="76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Atiba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33640" y="244692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Baur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36960" y="284940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03720" y="286236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37360" y="22068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5360" y="186408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ão Jos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1280" y="366120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Rosei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84200" y="27676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Tauba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80200" y="35496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6040" y="29052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29840" y="3018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45360" y="2133720"/>
            <a:ext cx="235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27960" y="3846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37000" y="3189240"/>
            <a:ext cx="201924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06760" y="3203280"/>
            <a:ext cx="207792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537000" y="3231720"/>
            <a:ext cx="204768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06760" y="3781080"/>
            <a:ext cx="2035080" cy="6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537000" y="3246120"/>
            <a:ext cx="2033640" cy="18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537000" y="3823920"/>
            <a:ext cx="2047680" cy="13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22600" y="5122800"/>
            <a:ext cx="209232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51400" y="4516200"/>
            <a:ext cx="2033280" cy="11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522600" y="5122440"/>
            <a:ext cx="207648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5729400"/>
            <a:ext cx="207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97800" y="44100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46400" y="434484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19680" y="397080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91320" y="403596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09760" y="3246480"/>
            <a:ext cx="113976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309760" y="3795840"/>
            <a:ext cx="113976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38560" y="4400640"/>
            <a:ext cx="111096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24160" y="4400640"/>
            <a:ext cx="113976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09760" y="4400640"/>
            <a:ext cx="1154160" cy="12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672160" y="4516200"/>
            <a:ext cx="1038240" cy="121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672160" y="4516200"/>
            <a:ext cx="10238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7760" y="4487760"/>
            <a:ext cx="9954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7760" y="3765600"/>
            <a:ext cx="1052640" cy="69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7760" y="3203640"/>
            <a:ext cx="1024200" cy="12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07440" y="3334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8200" y="3067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88680" y="4793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80680" y="4542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29920" y="4218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82120" y="3778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36200" y="3628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65880" y="4775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31040" y="4539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26360" y="3753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62720" y="4178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83440" y="3494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64640" y="545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02600" y="5128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8920" y="4831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6520" y="4985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26560" y="4183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00960" y="4350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99560" y="3867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04320" y="283752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3600" y="34056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Beatri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78560" y="370836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75320" y="44146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1800" y="31384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20360" y="477252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Di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89120" y="412956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in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531396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mí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50576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99080" y="566892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08600" y="28296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nt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4720" y="344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B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9520" y="370044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46640" y="440676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52760" y="3130560"/>
            <a:ext cx="11448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59360" y="470736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4160" y="405036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34520" y="5306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rn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67160" y="504972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70400" y="566100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2760" y="83520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45360" y="2133720"/>
            <a:ext cx="235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Matchgrf" descr=""/>
          <p:cNvPicPr/>
          <p:nvPr/>
        </p:nvPicPr>
        <p:blipFill>
          <a:blip r:embed="rId1"/>
          <a:stretch/>
        </p:blipFill>
        <p:spPr>
          <a:xfrm>
            <a:off x="2382840" y="2611440"/>
            <a:ext cx="4667400" cy="36291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3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2760" y="83520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Matchsol" descr=""/>
          <p:cNvPicPr/>
          <p:nvPr/>
        </p:nvPicPr>
        <p:blipFill>
          <a:blip r:embed="rId1"/>
          <a:stretch/>
        </p:blipFill>
        <p:spPr>
          <a:xfrm>
            <a:off x="2378160" y="2595600"/>
            <a:ext cx="4734000" cy="3610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45360" y="2133720"/>
            <a:ext cx="235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0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2760" y="83520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4-03-24T19:07:23Z</dcterms:modified>
  <cp:revision>212</cp:revision>
  <dc:subject/>
  <dc:title>Mercados Digitais</dc:title>
</cp:coreProperties>
</file>