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798-6503-4491-936E-90937C9A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F17-9A92-40BA-9A2A-D15C7986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10F-699E-41E8-9F2E-BF53CF0B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09F-D1B9-47C3-9C83-70FF29C0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7CB-910C-489E-A488-7DB37F86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FAF-22BB-4FAD-A805-C3C3C371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DDC-1BC2-49B3-A50C-D5430974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9BD-A097-4FB5-8277-E196B2B3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AD4-BB80-4167-9C1F-9E2E7301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062-4CA0-462C-9539-24F7AF4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A8B-6B92-4C21-8951-0DB1B34D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B1E-3B47-4B59-A2CB-70477A4E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B055-D7B4-47FE-B24E-6293AC79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4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7200" y="3352680"/>
            <a:ext cx="438120" cy="438120"/>
            <a:chOff x="457200" y="3352680"/>
            <a:chExt cx="438120" cy="438120"/>
          </a:xfrm>
        </p:grpSpPr>
        <p:sp>
          <p:nvSpPr>
            <p:cNvPr id="352" name=""/>
            <p:cNvSpPr/>
            <p:nvPr/>
          </p:nvSpPr>
          <p:spPr>
            <a:xfrm>
              <a:off x="45720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820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542960" y="262908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23960" y="268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42960" y="409572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2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76400" y="4076640"/>
            <a:ext cx="438480" cy="438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57760" y="413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857680" y="2629080"/>
            <a:ext cx="438120" cy="438120"/>
            <a:chOff x="2857680" y="2629080"/>
            <a:chExt cx="438120" cy="438120"/>
          </a:xfrm>
        </p:grpSpPr>
        <p:sp>
          <p:nvSpPr>
            <p:cNvPr id="361" name=""/>
            <p:cNvSpPr/>
            <p:nvPr/>
          </p:nvSpPr>
          <p:spPr>
            <a:xfrm>
              <a:off x="285768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868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924360" y="3352680"/>
            <a:ext cx="438120" cy="438120"/>
            <a:chOff x="3924360" y="3352680"/>
            <a:chExt cx="438120" cy="438120"/>
          </a:xfrm>
        </p:grpSpPr>
        <p:sp>
          <p:nvSpPr>
            <p:cNvPr id="364" name=""/>
            <p:cNvSpPr/>
            <p:nvPr/>
          </p:nvSpPr>
          <p:spPr>
            <a:xfrm>
              <a:off x="392436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536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762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2385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2576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1080" y="285768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00160" y="430524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24200" y="3009960"/>
            <a:ext cx="1028520" cy="1104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86080" y="324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14720" y="398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29080" y="390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10000" y="284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1960" y="3851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54520" y="3832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59440" y="1927080"/>
            <a:ext cx="33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2: Algoritmo de Dijk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7080" y="2533680"/>
            <a:ext cx="3903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Nós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[ 0</a:t>
            </a:r>
            <a:r>
              <a:rPr b="1" lang="pt-BR" sz="1800" spc="-1" strike="noStrike" baseline="30000">
                <a:solidFill>
                  <a:srgbClr val="3333cc"/>
                </a:solidFill>
                <a:latin typeface="Courier New"/>
              </a:rPr>
              <a:t>*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4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3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7   6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8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3352680"/>
            <a:ext cx="438120" cy="438120"/>
            <a:chOff x="457200" y="3352680"/>
            <a:chExt cx="438120" cy="438120"/>
          </a:xfrm>
        </p:grpSpPr>
        <p:sp>
          <p:nvSpPr>
            <p:cNvPr id="390" name=""/>
            <p:cNvSpPr/>
            <p:nvPr/>
          </p:nvSpPr>
          <p:spPr>
            <a:xfrm>
              <a:off x="45720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820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542960" y="262908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3960" y="268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42960" y="409572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2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76400" y="4076640"/>
            <a:ext cx="438480" cy="438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57760" y="413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857680" y="2629080"/>
            <a:ext cx="438120" cy="438120"/>
            <a:chOff x="2857680" y="2629080"/>
            <a:chExt cx="438120" cy="438120"/>
          </a:xfrm>
        </p:grpSpPr>
        <p:sp>
          <p:nvSpPr>
            <p:cNvPr id="399" name=""/>
            <p:cNvSpPr/>
            <p:nvPr/>
          </p:nvSpPr>
          <p:spPr>
            <a:xfrm>
              <a:off x="285768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3868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924360" y="3352680"/>
            <a:ext cx="438120" cy="438120"/>
            <a:chOff x="3924360" y="3352680"/>
            <a:chExt cx="438120" cy="438120"/>
          </a:xfrm>
        </p:grpSpPr>
        <p:sp>
          <p:nvSpPr>
            <p:cNvPr id="402" name=""/>
            <p:cNvSpPr/>
            <p:nvPr/>
          </p:nvSpPr>
          <p:spPr>
            <a:xfrm>
              <a:off x="392436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0536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762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32385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2576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81080" y="285768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00160" y="430524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24200" y="3009960"/>
            <a:ext cx="1028520" cy="1104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86080" y="324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14720" y="398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29080" y="390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10000" y="284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1960" y="3851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54520" y="3832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59440" y="1927080"/>
            <a:ext cx="33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2: Algoritmo de Dijk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11040" y="2533680"/>
            <a:ext cx="38685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Nós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[ 0</a:t>
            </a:r>
            <a:r>
              <a:rPr b="1" lang="pt-BR" sz="1800" spc="-1" strike="noStrike" baseline="30000">
                <a:solidFill>
                  <a:srgbClr val="3333cc"/>
                </a:solidFill>
                <a:latin typeface="Courier New"/>
              </a:rPr>
              <a:t>*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4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3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7   6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8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238880" y="354348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8248680" y="356220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39160" y="3029040"/>
            <a:ext cx="419040" cy="4190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2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57200" y="3352680"/>
            <a:ext cx="438120" cy="438120"/>
            <a:chOff x="457200" y="3352680"/>
            <a:chExt cx="438120" cy="438120"/>
          </a:xfrm>
        </p:grpSpPr>
        <p:sp>
          <p:nvSpPr>
            <p:cNvPr id="431" name=""/>
            <p:cNvSpPr/>
            <p:nvPr/>
          </p:nvSpPr>
          <p:spPr>
            <a:xfrm>
              <a:off x="45720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820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542960" y="262908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23960" y="268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42960" y="409572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2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76400" y="4076640"/>
            <a:ext cx="43848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57760" y="413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857680" y="2629080"/>
            <a:ext cx="438120" cy="438120"/>
            <a:chOff x="2857680" y="2629080"/>
            <a:chExt cx="438120" cy="438120"/>
          </a:xfrm>
        </p:grpSpPr>
        <p:sp>
          <p:nvSpPr>
            <p:cNvPr id="440" name=""/>
            <p:cNvSpPr/>
            <p:nvPr/>
          </p:nvSpPr>
          <p:spPr>
            <a:xfrm>
              <a:off x="285768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3868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924360" y="3352680"/>
            <a:ext cx="438120" cy="438120"/>
            <a:chOff x="3924360" y="3352680"/>
            <a:chExt cx="438120" cy="438120"/>
          </a:xfrm>
        </p:grpSpPr>
        <p:sp>
          <p:nvSpPr>
            <p:cNvPr id="443" name=""/>
            <p:cNvSpPr/>
            <p:nvPr/>
          </p:nvSpPr>
          <p:spPr>
            <a:xfrm>
              <a:off x="392436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0536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762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32385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2576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285768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00160" y="430524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24200" y="3009960"/>
            <a:ext cx="1028520" cy="1104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86080" y="324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14720" y="398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29080" y="390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10000" y="284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1960" y="3851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54520" y="3832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59440" y="1927080"/>
            <a:ext cx="33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2: Algoritmo de Dijk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17520" y="2533680"/>
            <a:ext cx="3810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Nós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[ 0</a:t>
            </a:r>
            <a:r>
              <a:rPr b="1" lang="pt-BR" sz="1800" spc="-1" strike="noStrike" baseline="30000">
                <a:solidFill>
                  <a:srgbClr val="3333cc"/>
                </a:solidFill>
                <a:latin typeface="Courier New"/>
              </a:rPr>
              <a:t>*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4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3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7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6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8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7714800" y="3886200"/>
            <a:ext cx="51444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35040" y="35082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210000" y="4286160"/>
            <a:ext cx="15238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8000" y="39085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600880" y="4743360"/>
            <a:ext cx="5140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01320" y="43466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7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3352680"/>
            <a:ext cx="438120" cy="4381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8200" y="3413160"/>
            <a:ext cx="2934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42960" y="2629080"/>
            <a:ext cx="438120" cy="4381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23960" y="268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42960" y="409572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2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76400" y="4076640"/>
            <a:ext cx="438480" cy="4381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57760" y="413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857680" y="2629080"/>
            <a:ext cx="438120" cy="438120"/>
            <a:chOff x="2857680" y="2629080"/>
            <a:chExt cx="438120" cy="438120"/>
          </a:xfrm>
        </p:grpSpPr>
        <p:sp>
          <p:nvSpPr>
            <p:cNvPr id="483" name=""/>
            <p:cNvSpPr/>
            <p:nvPr/>
          </p:nvSpPr>
          <p:spPr>
            <a:xfrm>
              <a:off x="285768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3868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924360" y="3352680"/>
            <a:ext cx="438120" cy="4381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05360" y="3413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762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32385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257640" y="3676680"/>
            <a:ext cx="704880" cy="4953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285768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00160" y="430524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24200" y="3009960"/>
            <a:ext cx="1028520" cy="11048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86080" y="324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14720" y="398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29080" y="390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10000" y="284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1960" y="3851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54520" y="3832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59440" y="1927080"/>
            <a:ext cx="33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2: Algoritmo de Dijk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17520" y="2533680"/>
            <a:ext cx="3810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Nós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[ 0</a:t>
            </a:r>
            <a:r>
              <a:rPr b="1" lang="pt-BR" sz="1800" spc="-1" strike="noStrike" baseline="30000">
                <a:solidFill>
                  <a:srgbClr val="3333cc"/>
                </a:solidFill>
                <a:latin typeface="Courier New"/>
              </a:rPr>
              <a:t>*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4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3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7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6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8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714800" y="3886200"/>
            <a:ext cx="51444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35040" y="35082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210000" y="4286160"/>
            <a:ext cx="15238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68000" y="39085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600880" y="4743360"/>
            <a:ext cx="5140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01320" y="43466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elanet" descr=""/>
          <p:cNvPicPr/>
          <p:nvPr/>
        </p:nvPicPr>
        <p:blipFill>
          <a:blip r:embed="rId1"/>
          <a:stretch/>
        </p:blipFill>
        <p:spPr>
          <a:xfrm>
            <a:off x="1903320" y="1033560"/>
            <a:ext cx="5658120" cy="51433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901880" y="1030320"/>
            <a:ext cx="5659560" cy="51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5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024360" y="94284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minh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4040" y="15843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35440" y="15768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Sea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58480" y="184356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u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42160" y="21286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51800" y="236412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rt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24750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91960" y="24073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84680" y="264780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48960" y="32598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06960" y="34434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385760" y="256104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heye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77200" y="287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360" y="30088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lt 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88080" y="317664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63240" y="37738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cr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08480" y="38988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42000" y="43218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kers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49800" y="44179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14520" y="41630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as V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54480" y="454824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64160" y="47836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rst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06920" y="5010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98320" y="51170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ing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235560" y="50115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2640" y="44676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buque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50280" y="464976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02400" y="50886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os 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19480" y="521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18720" y="59979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n Di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95680" y="59054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90240" y="609804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uc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40160" y="603576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8000" y="59695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l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956280" y="3302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70960" y="33274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23160" y="5526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ho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02280" y="5464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76440" y="1905120"/>
            <a:ext cx="25830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74560" y="1905120"/>
            <a:ext cx="87480" cy="54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376440" y="1919160"/>
            <a:ext cx="132732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60880" y="2525760"/>
            <a:ext cx="147312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46480" y="2525760"/>
            <a:ext cx="20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506760" y="3476520"/>
            <a:ext cx="79380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4300560" y="3233520"/>
            <a:ext cx="148572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5280" y="2712960"/>
            <a:ext cx="102564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859360" y="2236680"/>
            <a:ext cx="11448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02280" y="2193840"/>
            <a:ext cx="15591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47040" y="2930400"/>
            <a:ext cx="28872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589520" y="3376440"/>
            <a:ext cx="24588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04280" y="4705200"/>
            <a:ext cx="1587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3520" y="3247920"/>
            <a:ext cx="1746360" cy="14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194080" y="3203640"/>
            <a:ext cx="66492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94440" y="4618080"/>
            <a:ext cx="112536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291360" y="4705200"/>
            <a:ext cx="131292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404880" y="3925800"/>
            <a:ext cx="5868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90840" y="4487760"/>
            <a:ext cx="178920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274920" y="4503600"/>
            <a:ext cx="13032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90760" y="5253120"/>
            <a:ext cx="3603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651120" y="5961240"/>
            <a:ext cx="1630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95960" y="6119640"/>
            <a:ext cx="24670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89320" y="5267160"/>
            <a:ext cx="18907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51600" y="5511960"/>
            <a:ext cx="14436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675320" y="4618080"/>
            <a:ext cx="51912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260880" y="5079960"/>
            <a:ext cx="140004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4675320" y="5065560"/>
            <a:ext cx="16160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151600" y="4646520"/>
            <a:ext cx="55440" cy="8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5829480" y="2944800"/>
            <a:ext cx="17031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51600" y="5527800"/>
            <a:ext cx="263988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05400" y="177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80160" y="2302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58280" y="2973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731000" y="3781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02560" y="528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02240" y="2800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52640" y="2035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49640" y="2080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30600" y="2324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60920" y="3711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13200" y="3364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49760" y="3767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89880" y="3738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35760" y="483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60960" y="5182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46360" y="4229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78200" y="3032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35440" y="4070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4691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4120" y="5529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35320" y="600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242040" y="6105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03800" y="5686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367160" y="51962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89480" y="4821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10080" y="4590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89560" y="4474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9520" y="5586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00560" y="4966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305160" y="18604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07240" y="60800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1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024360" y="94284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minh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4040" y="15843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Fairnet" descr=""/>
          <p:cNvPicPr/>
          <p:nvPr/>
        </p:nvPicPr>
        <p:blipFill>
          <a:blip r:embed="rId1"/>
          <a:stretch/>
        </p:blipFill>
        <p:spPr>
          <a:xfrm>
            <a:off x="2643120" y="2112840"/>
            <a:ext cx="4114800" cy="4048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6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376440" y="1919160"/>
            <a:ext cx="1341720" cy="765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62440" y="2698920"/>
            <a:ext cx="1068480" cy="5331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04280" y="4705200"/>
            <a:ext cx="158760" cy="14288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43520" y="3247920"/>
            <a:ext cx="1746360" cy="14716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689880" y="3738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24360" y="94284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minh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34040" y="15843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35440" y="15768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Sea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658480" y="184356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u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42160" y="21286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51800" y="236412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rt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98960" y="24750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91960" y="24073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B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48960" y="32598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06960" y="34434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85760" y="256104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heye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77200" y="287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360" y="30088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Salt 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63240" y="37738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cr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08480" y="38988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42000" y="43218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kers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49800" y="44179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14520" y="41630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as V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54480" y="454824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64160" y="47836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rst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06920" y="5010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998320" y="51170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ing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35560" y="50115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2640" y="44676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Albuque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102400" y="50886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os 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19480" y="521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18720" y="59979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n Di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95680" y="59054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90240" y="609804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uc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40160" y="603576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938000" y="59695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l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56280" y="3302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770960" y="33274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23160" y="5526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ho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02280" y="5464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76440" y="1905120"/>
            <a:ext cx="25830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274560" y="1905120"/>
            <a:ext cx="87480" cy="54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60880" y="2525760"/>
            <a:ext cx="147312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46480" y="2525760"/>
            <a:ext cx="20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3506760" y="3476520"/>
            <a:ext cx="79380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4300560" y="3233520"/>
            <a:ext cx="148572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5859360" y="2236680"/>
            <a:ext cx="11448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02280" y="2193840"/>
            <a:ext cx="15591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547040" y="2930400"/>
            <a:ext cx="28872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7589520" y="3376440"/>
            <a:ext cx="24588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194080" y="3203640"/>
            <a:ext cx="66492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194440" y="4618080"/>
            <a:ext cx="112536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291360" y="4705200"/>
            <a:ext cx="131292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404880" y="3925800"/>
            <a:ext cx="5868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90840" y="4487760"/>
            <a:ext cx="178920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274920" y="4503600"/>
            <a:ext cx="13032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90760" y="5253120"/>
            <a:ext cx="3603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51120" y="5961240"/>
            <a:ext cx="1630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295960" y="6119640"/>
            <a:ext cx="24670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89320" y="5267160"/>
            <a:ext cx="18907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51600" y="5511960"/>
            <a:ext cx="14436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75320" y="4618080"/>
            <a:ext cx="51912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260880" y="5079960"/>
            <a:ext cx="140004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675320" y="5065560"/>
            <a:ext cx="16160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151600" y="4646520"/>
            <a:ext cx="55440" cy="8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829480" y="2944800"/>
            <a:ext cx="17031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51600" y="5527800"/>
            <a:ext cx="263988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05400" y="177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680160" y="2302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58280" y="2973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731000" y="3781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02560" y="528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02240" y="2800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2035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49640" y="2080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0600" y="2324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60920" y="3711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13200" y="3364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49760" y="3767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35760" y="483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60960" y="5182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46360" y="4229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78200" y="3032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35440" y="4070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95480" y="4691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94120" y="5529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35320" y="600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2040" y="6105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203800" y="5686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367160" y="51962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89480" y="4821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10080" y="4590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89560" y="4474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329520" y="5586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00560" y="4966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305160" y="18604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707240" y="60800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Fairsol" descr=""/>
          <p:cNvPicPr/>
          <p:nvPr/>
        </p:nvPicPr>
        <p:blipFill>
          <a:blip r:embed="rId1"/>
          <a:stretch/>
        </p:blipFill>
        <p:spPr>
          <a:xfrm>
            <a:off x="355680" y="4676760"/>
            <a:ext cx="4734000" cy="108576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4684680" y="264780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88080" y="317664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35880" y="465948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1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5959440" y="3117960"/>
            <a:ext cx="129852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61800" y="9428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ixeiro Viaj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73080" y="1714680"/>
            <a:ext cx="752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Federal Emergency Management Agency, pg. 2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do Lawrence e Pastern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02200" y="4166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94200" y="2605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1680" y="23104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336880" y="35154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830200" y="43470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93600" y="26913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79760" y="49010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5861160" y="2585880"/>
            <a:ext cx="2477160" cy="2320560"/>
            <a:chOff x="5861160" y="2585880"/>
            <a:chExt cx="2477160" cy="2320560"/>
          </a:xfrm>
        </p:grpSpPr>
        <p:sp>
          <p:nvSpPr>
            <p:cNvPr id="744" name=""/>
            <p:cNvSpPr/>
            <p:nvPr/>
          </p:nvSpPr>
          <p:spPr>
            <a:xfrm flipH="1">
              <a:off x="6238080" y="3650760"/>
              <a:ext cx="2029680" cy="6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245720" y="2652480"/>
              <a:ext cx="659880" cy="21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5903280" y="2674800"/>
              <a:ext cx="205740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245720" y="3662280"/>
              <a:ext cx="1013400" cy="11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6211800" y="4310640"/>
              <a:ext cx="1027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7919640" y="2682000"/>
              <a:ext cx="331560" cy="9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234840" y="2682360"/>
              <a:ext cx="1684800" cy="164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>
              <a:off x="5940000" y="3093120"/>
              <a:ext cx="2319120" cy="5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7570200">
              <a:off x="7198920" y="476928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7570200">
              <a:off x="6167520" y="4276080"/>
              <a:ext cx="11376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7570200">
              <a:off x="8201520" y="3607920"/>
              <a:ext cx="11376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7570200">
              <a:off x="5883840" y="305820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7570200">
              <a:off x="7852680" y="260856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60520" y="3161880"/>
              <a:ext cx="266400" cy="11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501960" y="4577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040240" y="2899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7984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46720" y="2888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641640" y="3018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1400" y="35611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703640" y="3111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30720" y="3756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fematab" descr=""/>
          <p:cNvPicPr/>
          <p:nvPr/>
        </p:nvPicPr>
        <p:blipFill>
          <a:blip r:embed="rId1"/>
          <a:stretch/>
        </p:blipFill>
        <p:spPr>
          <a:xfrm>
            <a:off x="480960" y="3481560"/>
            <a:ext cx="4810320" cy="1047600"/>
          </a:xfrm>
          <a:prstGeom prst="rect">
            <a:avLst/>
          </a:prstGeom>
          <a:ln w="0">
            <a:noFill/>
          </a:ln>
        </p:spPr>
      </p:pic>
      <p:pic>
        <p:nvPicPr>
          <p:cNvPr id="767" name="Femasol" descr=""/>
          <p:cNvPicPr/>
          <p:nvPr/>
        </p:nvPicPr>
        <p:blipFill>
          <a:blip r:embed="rId2"/>
          <a:stretch/>
        </p:blipFill>
        <p:spPr>
          <a:xfrm>
            <a:off x="446040" y="4734000"/>
            <a:ext cx="5276880" cy="108576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7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5959440" y="3117960"/>
            <a:ext cx="1260360" cy="163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061800" y="9428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ixeiro Viaj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73080" y="1714680"/>
            <a:ext cx="752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Federal Emergency Management Agency, pg. 2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do Lawrence e Pastern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02200" y="4166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694200" y="2605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71680" y="23104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336880" y="35154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30200" y="43470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93600" y="26913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79760" y="49010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6237000" y="3684600"/>
            <a:ext cx="1953360" cy="660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7246440" y="2652840"/>
            <a:ext cx="660960" cy="219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014160" y="2673000"/>
            <a:ext cx="1943640" cy="431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245720" y="3660840"/>
            <a:ext cx="101376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6274080" y="4372200"/>
            <a:ext cx="964800" cy="439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7954920" y="2742480"/>
            <a:ext cx="293760" cy="929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6233400" y="2681640"/>
            <a:ext cx="1684800" cy="164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5938560" y="3092760"/>
            <a:ext cx="2319480" cy="56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7570200">
            <a:off x="7200720" y="476856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7570200">
            <a:off x="6168960" y="427644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7570200">
            <a:off x="8202240" y="36079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7570200">
            <a:off x="5884560" y="305892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7570200">
            <a:off x="7854480" y="260784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60520" y="3160080"/>
            <a:ext cx="265680" cy="117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501960" y="4577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040240" y="2899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27984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146720" y="2888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641640" y="3018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1400" y="35611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703640" y="3111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930720" y="3756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fematab" descr=""/>
          <p:cNvPicPr/>
          <p:nvPr/>
        </p:nvPicPr>
        <p:blipFill>
          <a:blip r:embed="rId1"/>
          <a:stretch/>
        </p:blipFill>
        <p:spPr>
          <a:xfrm>
            <a:off x="480960" y="3481560"/>
            <a:ext cx="4810320" cy="1047600"/>
          </a:xfrm>
          <a:prstGeom prst="rect">
            <a:avLst/>
          </a:prstGeom>
          <a:ln w="0">
            <a:noFill/>
          </a:ln>
        </p:spPr>
      </p:pic>
      <p:pic>
        <p:nvPicPr>
          <p:cNvPr id="805" name="Femasol" descr=""/>
          <p:cNvPicPr/>
          <p:nvPr/>
        </p:nvPicPr>
        <p:blipFill>
          <a:blip r:embed="rId2"/>
          <a:stretch/>
        </p:blipFill>
        <p:spPr>
          <a:xfrm>
            <a:off x="446040" y="4734000"/>
            <a:ext cx="5276880" cy="10857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0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9240" y="5419800"/>
            <a:ext cx="8397720" cy="285840"/>
            <a:chOff x="219240" y="5419800"/>
            <a:chExt cx="8397720" cy="285840"/>
          </a:xfrm>
        </p:grpSpPr>
        <p:sp>
          <p:nvSpPr>
            <p:cNvPr id="54" name=""/>
            <p:cNvSpPr/>
            <p:nvPr/>
          </p:nvSpPr>
          <p:spPr>
            <a:xfrm>
              <a:off x="606600" y="542628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9240" y="541980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91960" y="2511360"/>
            <a:ext cx="4159440" cy="2034720"/>
            <a:chOff x="291960" y="2511360"/>
            <a:chExt cx="4159440" cy="2034720"/>
          </a:xfrm>
        </p:grpSpPr>
        <p:grpSp>
          <p:nvGrpSpPr>
            <p:cNvPr id="64" name=""/>
            <p:cNvGrpSpPr/>
            <p:nvPr/>
          </p:nvGrpSpPr>
          <p:grpSpPr>
            <a:xfrm>
              <a:off x="457200" y="2511360"/>
              <a:ext cx="3905280" cy="2034720"/>
              <a:chOff x="457200" y="2511360"/>
              <a:chExt cx="3905280" cy="203472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457200" y="3365280"/>
                <a:ext cx="438120" cy="437760"/>
                <a:chOff x="457200" y="3365280"/>
                <a:chExt cx="438120" cy="437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7200" y="336528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38200" y="34250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1542960" y="2641320"/>
                <a:ext cx="438120" cy="437760"/>
                <a:chOff x="1542960" y="2641320"/>
                <a:chExt cx="438120" cy="4377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542960" y="264132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23960" y="2701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542960" y="4108320"/>
                <a:ext cx="438120" cy="437760"/>
                <a:chOff x="1542960" y="4108320"/>
                <a:chExt cx="438120" cy="4377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542960" y="410832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623960" y="4168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876400" y="4089240"/>
                <a:ext cx="438120" cy="437760"/>
                <a:chOff x="2876400" y="4089240"/>
                <a:chExt cx="438120" cy="4377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876400" y="408924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957400" y="41490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857320" y="2641320"/>
                <a:ext cx="438120" cy="437760"/>
                <a:chOff x="2857320" y="2641320"/>
                <a:chExt cx="438120" cy="4377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857320" y="264132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938320" y="2701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924360" y="3365280"/>
                <a:ext cx="438120" cy="437760"/>
                <a:chOff x="3924360" y="3365280"/>
                <a:chExt cx="438120" cy="437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924360" y="336528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005360" y="34250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 flipV="1">
                <a:off x="857160" y="2965320"/>
                <a:ext cx="704880" cy="494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76240" y="3688920"/>
                <a:ext cx="704880" cy="4950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3238560" y="2965320"/>
                <a:ext cx="704880" cy="494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3257640" y="3688920"/>
                <a:ext cx="704880" cy="4950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1080" y="2869920"/>
                <a:ext cx="857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00160" y="4317840"/>
                <a:ext cx="857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24200" y="3022200"/>
                <a:ext cx="1028520" cy="1104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386080" y="325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214720" y="2511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14720" y="3997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76320" y="3882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957240" y="2892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29080" y="3920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10000" y="2854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91960" y="38638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iní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54520" y="3844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f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58000" y="1927080"/>
            <a:ext cx="3614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Caso particular de Transbordo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mandar 1 unidade de produ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'início' para o 'final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91960" y="2498760"/>
            <a:ext cx="4159440" cy="2034720"/>
            <a:chOff x="291960" y="2498760"/>
            <a:chExt cx="4159440" cy="2034720"/>
          </a:xfrm>
        </p:grpSpPr>
        <p:grpSp>
          <p:nvGrpSpPr>
            <p:cNvPr id="106" name=""/>
            <p:cNvGrpSpPr/>
            <p:nvPr/>
          </p:nvGrpSpPr>
          <p:grpSpPr>
            <a:xfrm>
              <a:off x="457200" y="2498760"/>
              <a:ext cx="3905280" cy="2034720"/>
              <a:chOff x="457200" y="2498760"/>
              <a:chExt cx="3905280" cy="203472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457200" y="3352680"/>
                <a:ext cx="438120" cy="437760"/>
                <a:chOff x="457200" y="3352680"/>
                <a:chExt cx="438120" cy="437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57200" y="335268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38200" y="3412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542960" y="2628720"/>
                <a:ext cx="438120" cy="437760"/>
                <a:chOff x="1542960" y="2628720"/>
                <a:chExt cx="438120" cy="4377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542960" y="262872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623960" y="26884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542960" y="4095720"/>
                <a:ext cx="438120" cy="437760"/>
                <a:chOff x="1542960" y="4095720"/>
                <a:chExt cx="438120" cy="4377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42960" y="409572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623960" y="41554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876400" y="4076640"/>
                <a:ext cx="438120" cy="437760"/>
                <a:chOff x="2876400" y="4076640"/>
                <a:chExt cx="438120" cy="4377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876400" y="407664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957400" y="413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857320" y="2628720"/>
                <a:ext cx="438120" cy="437760"/>
                <a:chOff x="2857320" y="2628720"/>
                <a:chExt cx="438120" cy="437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857320" y="262872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938320" y="26884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924360" y="3352680"/>
                <a:ext cx="438120" cy="437760"/>
                <a:chOff x="3924360" y="3352680"/>
                <a:chExt cx="438120" cy="4377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924360" y="3352680"/>
                  <a:ext cx="438120" cy="437760"/>
                </a:xfrm>
                <a:prstGeom prst="ellipse">
                  <a:avLst/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005360" y="3412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3333cc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 flipV="1">
                <a:off x="857160" y="2952720"/>
                <a:ext cx="704880" cy="494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76240" y="3676320"/>
                <a:ext cx="704880" cy="4950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>
                <a:off x="3238560" y="2952720"/>
                <a:ext cx="704880" cy="494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57640" y="3676320"/>
                <a:ext cx="704880" cy="4950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1080" y="2857320"/>
                <a:ext cx="857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00160" y="4305240"/>
                <a:ext cx="857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24200" y="3009600"/>
                <a:ext cx="1028520" cy="1104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86080" y="3241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14720" y="2498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14720" y="3984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76320" y="387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57240" y="28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29080" y="3908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10000" y="2841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91960" y="3851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iní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4520" y="38322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f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3352680"/>
            <a:ext cx="438120" cy="438120"/>
            <a:chOff x="457200" y="3352680"/>
            <a:chExt cx="438120" cy="438120"/>
          </a:xfrm>
        </p:grpSpPr>
        <p:sp>
          <p:nvSpPr>
            <p:cNvPr id="147" name=""/>
            <p:cNvSpPr/>
            <p:nvPr/>
          </p:nvSpPr>
          <p:spPr>
            <a:xfrm>
              <a:off x="45720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820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42960" y="2629080"/>
            <a:ext cx="438120" cy="438120"/>
            <a:chOff x="1542960" y="2629080"/>
            <a:chExt cx="438120" cy="438120"/>
          </a:xfrm>
        </p:grpSpPr>
        <p:sp>
          <p:nvSpPr>
            <p:cNvPr id="150" name=""/>
            <p:cNvSpPr/>
            <p:nvPr/>
          </p:nvSpPr>
          <p:spPr>
            <a:xfrm>
              <a:off x="154296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2396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542960" y="409572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2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876400" y="4076640"/>
            <a:ext cx="438120" cy="438120"/>
            <a:chOff x="2876400" y="4076640"/>
            <a:chExt cx="438120" cy="438120"/>
          </a:xfrm>
        </p:grpSpPr>
        <p:sp>
          <p:nvSpPr>
            <p:cNvPr id="155" name=""/>
            <p:cNvSpPr/>
            <p:nvPr/>
          </p:nvSpPr>
          <p:spPr>
            <a:xfrm>
              <a:off x="2876400" y="407664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57400" y="41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857680" y="2629080"/>
            <a:ext cx="438120" cy="438120"/>
            <a:chOff x="2857680" y="2629080"/>
            <a:chExt cx="438120" cy="438120"/>
          </a:xfrm>
        </p:grpSpPr>
        <p:sp>
          <p:nvSpPr>
            <p:cNvPr id="158" name=""/>
            <p:cNvSpPr/>
            <p:nvPr/>
          </p:nvSpPr>
          <p:spPr>
            <a:xfrm>
              <a:off x="285768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868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924360" y="3352680"/>
            <a:ext cx="438120" cy="438120"/>
            <a:chOff x="3924360" y="3352680"/>
            <a:chExt cx="438120" cy="438120"/>
          </a:xfrm>
        </p:grpSpPr>
        <p:sp>
          <p:nvSpPr>
            <p:cNvPr id="161" name=""/>
            <p:cNvSpPr/>
            <p:nvPr/>
          </p:nvSpPr>
          <p:spPr>
            <a:xfrm>
              <a:off x="392436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0536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62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2385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576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85768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00160" y="430524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24200" y="3009960"/>
            <a:ext cx="1028520" cy="1104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86080" y="324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14720" y="398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29080" y="390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10000" y="284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960" y="3851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4520" y="3832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59440" y="1927080"/>
            <a:ext cx="33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2: Algoritmo de Dijk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79000" y="2533680"/>
            <a:ext cx="41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Nós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[ 0</a:t>
            </a:r>
            <a:r>
              <a:rPr b="1" lang="pt-BR" sz="1800" spc="-1" strike="noStrike" baseline="30000">
                <a:solidFill>
                  <a:srgbClr val="3333cc"/>
                </a:solidFill>
                <a:latin typeface="Courier New"/>
              </a:rPr>
              <a:t>*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4   3 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34000" y="3048120"/>
            <a:ext cx="419400" cy="4190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62680" y="3067200"/>
            <a:ext cx="419040" cy="4190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191280" y="352440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762600" y="35053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57200" y="3352680"/>
            <a:ext cx="438120" cy="438120"/>
            <a:chOff x="457200" y="3352680"/>
            <a:chExt cx="438120" cy="438120"/>
          </a:xfrm>
        </p:grpSpPr>
        <p:sp>
          <p:nvSpPr>
            <p:cNvPr id="191" name=""/>
            <p:cNvSpPr/>
            <p:nvPr/>
          </p:nvSpPr>
          <p:spPr>
            <a:xfrm>
              <a:off x="45720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20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542960" y="2629080"/>
            <a:ext cx="438120" cy="438120"/>
            <a:chOff x="1542960" y="2629080"/>
            <a:chExt cx="438120" cy="438120"/>
          </a:xfrm>
        </p:grpSpPr>
        <p:sp>
          <p:nvSpPr>
            <p:cNvPr id="194" name=""/>
            <p:cNvSpPr/>
            <p:nvPr/>
          </p:nvSpPr>
          <p:spPr>
            <a:xfrm>
              <a:off x="154296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2396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542960" y="4095720"/>
            <a:ext cx="438120" cy="438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876400" y="4076640"/>
            <a:ext cx="438120" cy="438120"/>
            <a:chOff x="2876400" y="4076640"/>
            <a:chExt cx="438120" cy="438120"/>
          </a:xfrm>
        </p:grpSpPr>
        <p:sp>
          <p:nvSpPr>
            <p:cNvPr id="199" name=""/>
            <p:cNvSpPr/>
            <p:nvPr/>
          </p:nvSpPr>
          <p:spPr>
            <a:xfrm>
              <a:off x="2876400" y="407664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7400" y="41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857680" y="2629080"/>
            <a:ext cx="438120" cy="438120"/>
            <a:chOff x="2857680" y="2629080"/>
            <a:chExt cx="438120" cy="438120"/>
          </a:xfrm>
        </p:grpSpPr>
        <p:sp>
          <p:nvSpPr>
            <p:cNvPr id="202" name=""/>
            <p:cNvSpPr/>
            <p:nvPr/>
          </p:nvSpPr>
          <p:spPr>
            <a:xfrm>
              <a:off x="285768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3868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924360" y="3352680"/>
            <a:ext cx="438120" cy="438120"/>
            <a:chOff x="3924360" y="3352680"/>
            <a:chExt cx="438120" cy="438120"/>
          </a:xfrm>
        </p:grpSpPr>
        <p:sp>
          <p:nvSpPr>
            <p:cNvPr id="205" name=""/>
            <p:cNvSpPr/>
            <p:nvPr/>
          </p:nvSpPr>
          <p:spPr>
            <a:xfrm>
              <a:off x="392436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0536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762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2385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2576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285768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00160" y="430524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24200" y="3009960"/>
            <a:ext cx="1028520" cy="1104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86080" y="324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4720" y="398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29080" y="390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10000" y="284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1960" y="3851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54520" y="3832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59440" y="1927080"/>
            <a:ext cx="33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2: Algoritmo de Dijk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85480" y="2533680"/>
            <a:ext cx="40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Nós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[ 0</a:t>
            </a:r>
            <a:r>
              <a:rPr b="1" lang="pt-BR" sz="1800" spc="-1" strike="noStrike" baseline="30000">
                <a:solidFill>
                  <a:srgbClr val="3333cc"/>
                </a:solidFill>
                <a:latin typeface="Courier New"/>
              </a:rPr>
              <a:t>*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4   3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7200" y="3352680"/>
            <a:ext cx="438120" cy="438120"/>
            <a:chOff x="457200" y="3352680"/>
            <a:chExt cx="438120" cy="438120"/>
          </a:xfrm>
        </p:grpSpPr>
        <p:sp>
          <p:nvSpPr>
            <p:cNvPr id="231" name=""/>
            <p:cNvSpPr/>
            <p:nvPr/>
          </p:nvSpPr>
          <p:spPr>
            <a:xfrm>
              <a:off x="45720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20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542960" y="2629080"/>
            <a:ext cx="438120" cy="438120"/>
            <a:chOff x="1542960" y="2629080"/>
            <a:chExt cx="438120" cy="438120"/>
          </a:xfrm>
        </p:grpSpPr>
        <p:sp>
          <p:nvSpPr>
            <p:cNvPr id="234" name=""/>
            <p:cNvSpPr/>
            <p:nvPr/>
          </p:nvSpPr>
          <p:spPr>
            <a:xfrm>
              <a:off x="154296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2396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542960" y="4095720"/>
            <a:ext cx="438120" cy="438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2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4076640"/>
            <a:ext cx="43848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57760" y="413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57680" y="2629080"/>
            <a:ext cx="438120" cy="438120"/>
            <a:chOff x="2857680" y="2629080"/>
            <a:chExt cx="438120" cy="438120"/>
          </a:xfrm>
        </p:grpSpPr>
        <p:sp>
          <p:nvSpPr>
            <p:cNvPr id="241" name=""/>
            <p:cNvSpPr/>
            <p:nvPr/>
          </p:nvSpPr>
          <p:spPr>
            <a:xfrm>
              <a:off x="285768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3868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924360" y="3352680"/>
            <a:ext cx="438120" cy="438120"/>
            <a:chOff x="3924360" y="3352680"/>
            <a:chExt cx="438120" cy="438120"/>
          </a:xfrm>
        </p:grpSpPr>
        <p:sp>
          <p:nvSpPr>
            <p:cNvPr id="244" name=""/>
            <p:cNvSpPr/>
            <p:nvPr/>
          </p:nvSpPr>
          <p:spPr>
            <a:xfrm>
              <a:off x="392436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0536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762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2385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576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285768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00160" y="430524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24200" y="3009960"/>
            <a:ext cx="1028520" cy="1104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86080" y="324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14720" y="398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29080" y="390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10000" y="284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960" y="3851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4520" y="3832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59440" y="1927080"/>
            <a:ext cx="33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2: Algoritmo de Dijk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9440" y="2533680"/>
            <a:ext cx="4054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Nós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[ 0</a:t>
            </a:r>
            <a:r>
              <a:rPr b="1" lang="pt-BR" sz="1800" spc="-1" strike="noStrike" baseline="30000">
                <a:solidFill>
                  <a:srgbClr val="3333cc"/>
                </a:solidFill>
                <a:latin typeface="Courier New"/>
              </a:rPr>
              <a:t>*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4   3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 7 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39200" y="3048120"/>
            <a:ext cx="419040" cy="4190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191280" y="352440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848720" y="352440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3352680"/>
            <a:ext cx="438120" cy="438120"/>
            <a:chOff x="457200" y="3352680"/>
            <a:chExt cx="438120" cy="438120"/>
          </a:xfrm>
        </p:grpSpPr>
        <p:sp>
          <p:nvSpPr>
            <p:cNvPr id="273" name=""/>
            <p:cNvSpPr/>
            <p:nvPr/>
          </p:nvSpPr>
          <p:spPr>
            <a:xfrm>
              <a:off x="45720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20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542960" y="2629080"/>
            <a:ext cx="438120" cy="438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23960" y="268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2960" y="409572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2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76400" y="4076640"/>
            <a:ext cx="43848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57760" y="413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57680" y="2629080"/>
            <a:ext cx="438120" cy="438120"/>
            <a:chOff x="2857680" y="2629080"/>
            <a:chExt cx="438120" cy="438120"/>
          </a:xfrm>
        </p:grpSpPr>
        <p:sp>
          <p:nvSpPr>
            <p:cNvPr id="282" name=""/>
            <p:cNvSpPr/>
            <p:nvPr/>
          </p:nvSpPr>
          <p:spPr>
            <a:xfrm>
              <a:off x="285768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3868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924360" y="3352680"/>
            <a:ext cx="438120" cy="438120"/>
            <a:chOff x="3924360" y="3352680"/>
            <a:chExt cx="438120" cy="438120"/>
          </a:xfrm>
        </p:grpSpPr>
        <p:sp>
          <p:nvSpPr>
            <p:cNvPr id="285" name=""/>
            <p:cNvSpPr/>
            <p:nvPr/>
          </p:nvSpPr>
          <p:spPr>
            <a:xfrm>
              <a:off x="392436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0536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762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2385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2576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285768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00160" y="430524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24200" y="3009960"/>
            <a:ext cx="1028520" cy="1104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86080" y="324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14720" y="398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29080" y="390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10000" y="284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960" y="3851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54520" y="3832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9440" y="1927080"/>
            <a:ext cx="33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2: Algoritmo de Dijk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96280" y="2533680"/>
            <a:ext cx="3996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Nós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[ 0</a:t>
            </a:r>
            <a:r>
              <a:rPr b="1" lang="pt-BR" sz="1800" spc="-1" strike="noStrike" baseline="30000">
                <a:solidFill>
                  <a:srgbClr val="3333cc"/>
                </a:solidFill>
                <a:latin typeface="Courier New"/>
              </a:rPr>
              <a:t>*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4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3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 6 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07120" y="864000"/>
            <a:ext cx="38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minh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 1 da pg, 395 do Win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57200" y="3352680"/>
            <a:ext cx="438120" cy="438120"/>
            <a:chOff x="457200" y="3352680"/>
            <a:chExt cx="438120" cy="438120"/>
          </a:xfrm>
        </p:grpSpPr>
        <p:sp>
          <p:nvSpPr>
            <p:cNvPr id="311" name=""/>
            <p:cNvSpPr/>
            <p:nvPr/>
          </p:nvSpPr>
          <p:spPr>
            <a:xfrm>
              <a:off x="45720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820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542960" y="2629080"/>
            <a:ext cx="438120" cy="438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23960" y="268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42960" y="4095720"/>
            <a:ext cx="43812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2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76400" y="4076640"/>
            <a:ext cx="438480" cy="438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57760" y="413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857680" y="2629080"/>
            <a:ext cx="438120" cy="438120"/>
            <a:chOff x="2857680" y="2629080"/>
            <a:chExt cx="438120" cy="438120"/>
          </a:xfrm>
        </p:grpSpPr>
        <p:sp>
          <p:nvSpPr>
            <p:cNvPr id="320" name=""/>
            <p:cNvSpPr/>
            <p:nvPr/>
          </p:nvSpPr>
          <p:spPr>
            <a:xfrm>
              <a:off x="2857680" y="2629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38680" y="268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924360" y="3352680"/>
            <a:ext cx="438120" cy="438120"/>
            <a:chOff x="3924360" y="3352680"/>
            <a:chExt cx="438120" cy="438120"/>
          </a:xfrm>
        </p:grpSpPr>
        <p:sp>
          <p:nvSpPr>
            <p:cNvPr id="323" name=""/>
            <p:cNvSpPr/>
            <p:nvPr/>
          </p:nvSpPr>
          <p:spPr>
            <a:xfrm>
              <a:off x="3924360" y="33526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05360" y="3412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32385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257640" y="367668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285768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00160" y="430524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24200" y="3009960"/>
            <a:ext cx="1028520" cy="1104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86080" y="324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14720" y="398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29080" y="390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0000" y="284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1960" y="3851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54520" y="3832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59440" y="1927080"/>
            <a:ext cx="33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lução 2: Algoritmo de Dijk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240" y="2533680"/>
            <a:ext cx="3961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Nós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[ 0</a:t>
            </a:r>
            <a:r>
              <a:rPr b="1" lang="pt-BR" sz="1800" spc="-1" strike="noStrike" baseline="30000">
                <a:solidFill>
                  <a:srgbClr val="3333cc"/>
                </a:solidFill>
                <a:latin typeface="Courier New"/>
              </a:rPr>
              <a:t>*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4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3</a:t>
            </a:r>
            <a:r>
              <a:rPr b="1" lang="pt-BR" sz="1800" spc="-1" strike="noStrike" baseline="30000">
                <a:solidFill>
                  <a:srgbClr val="ff0000"/>
                </a:solidFill>
                <a:latin typeface="Courier New"/>
              </a:rPr>
              <a:t>*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 7   6  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0280" y="3048120"/>
            <a:ext cx="419400" cy="4190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201080" y="354348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753320" y="354348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4-03-31T19:40:39Z</dcterms:modified>
  <cp:revision>215</cp:revision>
  <dc:subject/>
  <dc:title>Mercados Digitais</dc:title>
</cp:coreProperties>
</file>