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24.wmf" ContentType="image/x-wmf"/>
  <Override PartName="/ppt/media/image22.jpeg" ContentType="image/jpeg"/>
  <Override PartName="/ppt/media/image17.jpeg" ContentType="image/jpeg"/>
  <Override PartName="/ppt/media/image25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3.wmf" ContentType="image/x-wmf"/>
  <Override PartName="/ppt/media/image26.wmf" ContentType="image/x-wmf"/>
  <Override PartName="/ppt/media/image15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455-C0F2-423F-B224-1702A496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00B-A780-4BCE-A114-57662283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C61-DE58-4A85-9646-C2192F0F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7C8-8D9D-414B-B7BF-C338E5DB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858-D512-492C-9315-A696E54D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FCB-1DE3-435E-827F-AB4A099B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74A-AAAD-4456-8DCC-0F22A438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4F2-ABE3-4ABD-804D-2177E129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408-F925-4038-8BA2-57A87F30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ED7-6AC8-4B0A-8205-7269381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CF9-5196-44AD-BD21-5A292F69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E06-5FBC-41BB-AFFF-E3A4E3E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94D4-EA7A-465C-8513-48350F41F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4560" y="510840"/>
            <a:ext cx="18676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B-730 Aula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squ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880" y="4996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54120" y="1787400"/>
            <a:ext cx="26748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1.5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45280" y="217332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1640" y="2914560"/>
            <a:ext cx="0" cy="649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2240" y="4597920"/>
            <a:ext cx="466596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Range of Optim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optimal solution will remain unchan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 long as an objective function coe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ies within its range of optimality and t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no changes in anly other input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1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8880" y="1787400"/>
            <a:ext cx="226908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1.5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Sensp6" descr=""/>
          <p:cNvPicPr/>
          <p:nvPr/>
        </p:nvPicPr>
        <p:blipFill>
          <a:blip r:embed="rId1"/>
          <a:stretch/>
        </p:blipFill>
        <p:spPr>
          <a:xfrm>
            <a:off x="3295800" y="3830760"/>
            <a:ext cx="5410080" cy="2257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105600" y="4476600"/>
            <a:ext cx="750960" cy="258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92320" y="1950120"/>
            <a:ext cx="455292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Reduced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reduced cost for a variable at its l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und yields the amount the profit coe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ust change before the variable can take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value above its lower b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0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8880" y="1787400"/>
            <a:ext cx="226908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Max   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1.5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+  2 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+ 5 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1" lang="pt-BR" sz="18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00ff"/>
                </a:solidFill>
                <a:latin typeface="Arial Black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nsp6" descr=""/>
          <p:cNvPicPr/>
          <p:nvPr/>
        </p:nvPicPr>
        <p:blipFill>
          <a:blip r:embed="rId1"/>
          <a:stretch/>
        </p:blipFill>
        <p:spPr>
          <a:xfrm>
            <a:off x="3295800" y="3830760"/>
            <a:ext cx="5410080" cy="2257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98440" y="2193480"/>
            <a:ext cx="423756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omplementary Slackn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 the optimal solution, either a variabl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 its lower bound or the reduced cost is 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32400" y="4349880"/>
            <a:ext cx="719280" cy="2016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43760" y="4343400"/>
            <a:ext cx="674640" cy="2016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43760" y="4540320"/>
            <a:ext cx="674640" cy="189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32400" y="4546440"/>
            <a:ext cx="719280" cy="182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2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92960" y="328608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Programação Inte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67240" y="4857840"/>
            <a:ext cx="1014480" cy="919080"/>
          </a:xfrm>
          <a:custGeom>
            <a:avLst/>
            <a:gdLst/>
            <a:ahLst/>
            <a:rect l="l" t="t" r="r" b="b"/>
            <a:pathLst>
              <a:path w="639" h="579">
                <a:moveTo>
                  <a:pt x="0" y="0"/>
                </a:moveTo>
                <a:lnTo>
                  <a:pt x="516" y="189"/>
                </a:lnTo>
                <a:lnTo>
                  <a:pt x="639" y="579"/>
                </a:lnTo>
                <a:lnTo>
                  <a:pt x="210" y="5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8120" y="98316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Wolfe Helico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8440" y="4195440"/>
            <a:ext cx="315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3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2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.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600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200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1.8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6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42360" y="5446800"/>
            <a:ext cx="3063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78520" y="577836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30800" y="5364000"/>
            <a:ext cx="38268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3480" y="5364000"/>
            <a:ext cx="38268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1348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30800" y="4535640"/>
            <a:ext cx="38268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30800" y="4950000"/>
            <a:ext cx="382680" cy="414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13480" y="4950000"/>
            <a:ext cx="382680" cy="414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96160" y="5364000"/>
            <a:ext cx="38232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78480" y="536400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78480" y="453564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96160" y="453564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96160" y="4950000"/>
            <a:ext cx="382320" cy="414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8480" y="4950000"/>
            <a:ext cx="38124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59720" y="536400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42040" y="53640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4204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453564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59720" y="4950000"/>
            <a:ext cx="38232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42040" y="4950000"/>
            <a:ext cx="38268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24720" y="53640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07400" y="53640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0740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2472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24720" y="4950000"/>
            <a:ext cx="38268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07400" y="4950000"/>
            <a:ext cx="38268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3080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1348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1348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3080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080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96160" y="412128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78480" y="412128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78480" y="329256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96160" y="329256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96160" y="3706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8480" y="370692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59720" y="412128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4204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4204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59720" y="329256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59720" y="3706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4204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0740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0740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472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2472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0740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3080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1348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13480" y="2050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30800" y="2050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080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1348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96160" y="287820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78480" y="287820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8480" y="205092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96160" y="2050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96160" y="2465280"/>
            <a:ext cx="38232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78480" y="2465280"/>
            <a:ext cx="38124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59720" y="287820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4204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42040" y="2050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59720" y="2050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59720" y="2465280"/>
            <a:ext cx="38232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4204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2472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0740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07400" y="2050920"/>
            <a:ext cx="38268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24720" y="2050920"/>
            <a:ext cx="38268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0740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48120" y="1719360"/>
            <a:ext cx="382680" cy="3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230800" y="1719360"/>
            <a:ext cx="0" cy="42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8840" y="57373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56200" y="5737320"/>
            <a:ext cx="7632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652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0424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85120" y="5742000"/>
            <a:ext cx="777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2156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50120" y="57373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73880" y="5322960"/>
            <a:ext cx="7596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43560" y="532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61240" y="5322960"/>
            <a:ext cx="7596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91200" y="532296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08920" y="53229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73920" y="532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91240" y="53276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26240" y="532296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56600" y="532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43560" y="490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61240" y="490860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91200" y="491004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08920" y="490860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73920" y="490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91240" y="491328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26240" y="491004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56600" y="490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73880" y="449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43560" y="449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08920" y="449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73920" y="449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91240" y="45007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26240" y="449568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56600" y="449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73880" y="407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43560" y="407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61240" y="407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91200" y="408132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08920" y="407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873920" y="407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91240" y="40863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26240" y="408132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56600" y="407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73880" y="36655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43560" y="36655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61240" y="36655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91200" y="366696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08920" y="36655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873920" y="36655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91240" y="36720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26240" y="366696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56600" y="36655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43560" y="32511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61240" y="32511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32529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08920" y="32511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873920" y="32511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91240" y="32576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26240" y="325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56600" y="32511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73880" y="283680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43560" y="283680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61240" y="283680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91200" y="283860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08920" y="283680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73920" y="283680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91240" y="28432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26240" y="283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56600" y="283680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7388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4356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6124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9120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0892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7392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491240" y="24289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2624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5660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884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3888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04240" y="200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67800" y="200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85120" y="2014560"/>
            <a:ext cx="777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21560" y="2009880"/>
            <a:ext cx="75960" cy="8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5012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65760" y="5409000"/>
            <a:ext cx="313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0880" y="1494360"/>
            <a:ext cx="361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73440" y="584100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54680" y="584100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235560" y="58442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03840" y="58424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02360" y="58456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78560" y="58456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59440" y="58442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27720" y="58424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89160" y="52138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81240" y="47962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57480" y="43804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79800" y="39898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5120" y="35452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89160" y="31262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95640" y="269136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87720" y="230076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95640" y="18896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49920" y="1574640"/>
            <a:ext cx="30168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32240" y="4809960"/>
            <a:ext cx="2689560" cy="97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5230440" y="4459320"/>
            <a:ext cx="468360" cy="1324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24320" y="2049480"/>
            <a:ext cx="1154160" cy="37242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38880" y="5737320"/>
            <a:ext cx="7632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73880" y="4908600"/>
            <a:ext cx="7596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6780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91200" y="449568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6520" y="2009880"/>
            <a:ext cx="75960" cy="8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61240" y="449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73880" y="32511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3160" y="2236680"/>
          <a:ext cx="4646520" cy="18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236680"/>
                    <a:ext cx="46465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6554880" y="2572920"/>
            <a:ext cx="1407600" cy="1604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1,1) -&gt; $ 5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1,2) -&gt; $ 7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,0) -&gt; $ 6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,1) -&gt; $ 8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3,0) -&gt; $ 9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7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165400" y="3286080"/>
            <a:ext cx="50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Problemas Envolvendo Re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8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487960" y="942840"/>
            <a:ext cx="412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pg. 215 do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048280" y="2029320"/>
            <a:ext cx="2700360" cy="2560320"/>
            <a:chOff x="5048280" y="2029320"/>
            <a:chExt cx="2700360" cy="2560320"/>
          </a:xfrm>
        </p:grpSpPr>
        <p:sp>
          <p:nvSpPr>
            <p:cNvPr id="385" name=""/>
            <p:cNvSpPr/>
            <p:nvPr/>
          </p:nvSpPr>
          <p:spPr>
            <a:xfrm flipV="1">
              <a:off x="5062680" y="2120400"/>
              <a:ext cx="2340000" cy="282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48280" y="2403360"/>
              <a:ext cx="2382840" cy="527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49720" y="2409840"/>
              <a:ext cx="2698920" cy="1386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48280" y="2409840"/>
              <a:ext cx="2254320" cy="2108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268960" y="2165040"/>
              <a:ext cx="2104920" cy="12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283360" y="2987640"/>
              <a:ext cx="211932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67160" y="3363840"/>
              <a:ext cx="245268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75440" y="3357720"/>
              <a:ext cx="201132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048280" y="2179800"/>
              <a:ext cx="2354400" cy="21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062680" y="3002040"/>
              <a:ext cx="2340000" cy="126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051520" y="3852360"/>
              <a:ext cx="2682720" cy="42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9440" y="4270320"/>
              <a:ext cx="2227320" cy="3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94080" y="2029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03760" y="2251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22520" y="3609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83120" y="23673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65400" y="28454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9200" y="3205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25800" y="2601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21000" y="2699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75120" y="3415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30440" y="3682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6320" y="3905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30520" y="4217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792600" y="2190960"/>
            <a:ext cx="1539720" cy="2361960"/>
            <a:chOff x="3792600" y="2190960"/>
            <a:chExt cx="1539720" cy="2361960"/>
          </a:xfrm>
        </p:grpSpPr>
        <p:sp>
          <p:nvSpPr>
            <p:cNvPr id="410" name=""/>
            <p:cNvSpPr/>
            <p:nvPr/>
          </p:nvSpPr>
          <p:spPr>
            <a:xfrm>
              <a:off x="3916800" y="21909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Clev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87320" y="313740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Detro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92600" y="403272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92840" y="23511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18200" y="33130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95720" y="42148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284960" y="1903680"/>
            <a:ext cx="1401840" cy="2982600"/>
            <a:chOff x="7284960" y="1903680"/>
            <a:chExt cx="1401840" cy="2982600"/>
          </a:xfrm>
        </p:grpSpPr>
        <p:sp>
          <p:nvSpPr>
            <p:cNvPr id="417" name=""/>
            <p:cNvSpPr/>
            <p:nvPr/>
          </p:nvSpPr>
          <p:spPr>
            <a:xfrm>
              <a:off x="7613280" y="1903680"/>
              <a:ext cx="77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Bos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1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39200" y="2703960"/>
              <a:ext cx="102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Richm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07040" y="358668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Atla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85200" y="4366080"/>
              <a:ext cx="87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St. Lou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33ff"/>
                  </a:solidFill>
                  <a:latin typeface="Arial Black"/>
                </a:rPr>
                <a:t>7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97640" y="205884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34360" y="29019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84960" y="45147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54760" y="378612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761040" y="1781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3800" y="2347920"/>
            <a:ext cx="2418120" cy="10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Produ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0000"/>
                </a:solidFill>
                <a:latin typeface="Arial Black"/>
              </a:rPr>
              <a:t>  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3800" y="3567240"/>
            <a:ext cx="241812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Depósi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Richmond       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Atlanta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St. Louis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9933ff"/>
                </a:solidFill>
                <a:latin typeface="Arial Black"/>
              </a:rPr>
              <a:t>  7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5840" y="5091120"/>
            <a:ext cx="555120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00"/>
                </a:solidFill>
                <a:latin typeface="Arial Black"/>
              </a:rPr>
              <a:t>Custo de Transpor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Boston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Richmond    Atlanta      St. Lou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Cleveland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35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3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    40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         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Detroit         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37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40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    42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 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Greensboro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15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    20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1400" spc="-1" strike="noStrike">
                <a:solidFill>
                  <a:srgbClr val="ff0000"/>
                </a:solidFill>
                <a:latin typeface="Arial Black"/>
              </a:rPr>
              <a:t>            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3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483720" y="94284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Transbo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76880" y="15987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52560" y="2620800"/>
            <a:ext cx="1459080" cy="763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2782800" y="3580920"/>
            <a:ext cx="1544760" cy="235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84720" y="2698920"/>
            <a:ext cx="2365200" cy="129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82920" y="2712960"/>
            <a:ext cx="2268720" cy="1689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13040" y="2743200"/>
            <a:ext cx="1428840" cy="1054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57600" y="2593800"/>
            <a:ext cx="1569960" cy="928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270320" y="2063880"/>
            <a:ext cx="2351160" cy="65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49800" y="2678040"/>
            <a:ext cx="2762280" cy="104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383000" y="2091960"/>
            <a:ext cx="223848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4411800" y="2842920"/>
            <a:ext cx="2282760" cy="70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00640" y="3568680"/>
            <a:ext cx="253836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79760" y="3564000"/>
            <a:ext cx="2198880" cy="8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01040" y="2723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04480" y="2872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026680" y="2495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73960" y="27849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62920" y="311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8560" y="3724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02680" y="3292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20040" y="2367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66280" y="3053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82120" y="3638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29840" y="2218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66120" y="3366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14280" y="22816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Kan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5320" y="374688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Louisv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27480" y="263988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351320" y="351468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67000" y="1802160"/>
            <a:ext cx="76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Detro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53120" y="260244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Mia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03600" y="3484800"/>
            <a:ext cx="68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Dal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48840" y="426420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New Orle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1957320"/>
            <a:ext cx="11412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83400" y="280044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534000" y="441324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04160" y="368460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84240" y="238644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Den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35000" y="353268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tla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19440" y="2560680"/>
            <a:ext cx="114120" cy="1141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44640" y="375120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Transtab" descr=""/>
          <p:cNvPicPr/>
          <p:nvPr/>
        </p:nvPicPr>
        <p:blipFill>
          <a:blip r:embed="rId1"/>
          <a:stretch/>
        </p:blipFill>
        <p:spPr>
          <a:xfrm>
            <a:off x="554040" y="4505400"/>
            <a:ext cx="5210280" cy="17431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78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376440" y="1919160"/>
            <a:ext cx="1341720" cy="7653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62440" y="2698920"/>
            <a:ext cx="1068480" cy="5331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04280" y="4705200"/>
            <a:ext cx="158760" cy="14288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43520" y="3247920"/>
            <a:ext cx="1746360" cy="14716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89880" y="3738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24360" y="94284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minh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4040" y="1584360"/>
            <a:ext cx="1284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35440" y="15768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Sea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58480" y="184356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u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42160" y="21286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51800" y="2364120"/>
            <a:ext cx="9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rt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98960" y="24750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1960" y="24073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B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48960" y="32598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06960" y="34434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85760" y="256104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heye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77200" y="287352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360" y="30088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Salt 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63240" y="37738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cr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08480" y="389880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42000" y="43218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kers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49800" y="441792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14520" y="41630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as Ve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54480" y="454824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64160" y="47836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rst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06920" y="501012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98320" y="51170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ing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35560" y="501156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2640" y="446760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Albuquer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02400" y="508860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os Ang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19480" y="521352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18720" y="599796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n Di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95680" y="590544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90240" y="609804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uc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40160" y="603576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38000" y="59695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El P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56280" y="33026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en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70960" y="332748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23160" y="5526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ho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02280" y="546408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76440" y="1905120"/>
            <a:ext cx="25830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3274560" y="1905120"/>
            <a:ext cx="87480" cy="54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60880" y="2525760"/>
            <a:ext cx="147312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6480" y="2525760"/>
            <a:ext cx="20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506760" y="3476520"/>
            <a:ext cx="79380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300560" y="3233520"/>
            <a:ext cx="148572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5859360" y="2236680"/>
            <a:ext cx="114480" cy="9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02280" y="2193840"/>
            <a:ext cx="15591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47040" y="2930400"/>
            <a:ext cx="28872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7589520" y="3376440"/>
            <a:ext cx="24588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194080" y="3203640"/>
            <a:ext cx="664920" cy="14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94440" y="4618080"/>
            <a:ext cx="112536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291360" y="4705200"/>
            <a:ext cx="131292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404880" y="3925800"/>
            <a:ext cx="5868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90840" y="4487760"/>
            <a:ext cx="178920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274920" y="4503600"/>
            <a:ext cx="13032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90760" y="5253120"/>
            <a:ext cx="360360" cy="73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51120" y="5961240"/>
            <a:ext cx="1630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95960" y="6119640"/>
            <a:ext cx="246708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89320" y="5267160"/>
            <a:ext cx="189072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51600" y="5511960"/>
            <a:ext cx="14436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675320" y="4618080"/>
            <a:ext cx="51912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260880" y="5079960"/>
            <a:ext cx="140004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675320" y="5065560"/>
            <a:ext cx="16160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151600" y="4646520"/>
            <a:ext cx="55440" cy="8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29480" y="2944800"/>
            <a:ext cx="170316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51600" y="5527800"/>
            <a:ext cx="263988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05400" y="1773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80160" y="23025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58280" y="2973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31000" y="3781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02560" y="52837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402240" y="2800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52640" y="20358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49640" y="2080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30600" y="2324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60920" y="3711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13200" y="33645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49760" y="3767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935760" y="483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60960" y="5182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46360" y="42296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78200" y="30326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35440" y="4070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46915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94120" y="55296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35320" y="6005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2040" y="6105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203800" y="5686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67160" y="51962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89480" y="4821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10080" y="45900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89560" y="44740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29520" y="5586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400560" y="496620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305160" y="1860480"/>
            <a:ext cx="114480" cy="114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707240" y="608004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Fairsol" descr=""/>
          <p:cNvPicPr/>
          <p:nvPr/>
        </p:nvPicPr>
        <p:blipFill>
          <a:blip r:embed="rId1"/>
          <a:stretch/>
        </p:blipFill>
        <p:spPr>
          <a:xfrm>
            <a:off x="355680" y="4676760"/>
            <a:ext cx="4734000" cy="10857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4684680" y="264780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88080" y="317664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535880" y="4659480"/>
            <a:ext cx="11412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3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287880" y="94284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Fluxo Máx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73800" y="2133720"/>
            <a:ext cx="234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ITAir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054320" y="2913120"/>
            <a:ext cx="107028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367320" y="2984400"/>
            <a:ext cx="1105200" cy="60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60960" y="2906640"/>
            <a:ext cx="113184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03960" y="2273400"/>
            <a:ext cx="117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153040" y="2300400"/>
            <a:ext cx="109548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644080" y="2275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388400" y="2915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55400" y="2331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47320" y="2972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05320" y="249768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tiba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733640" y="2446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u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25800" y="2863800"/>
            <a:ext cx="1144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103720" y="286236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37360" y="22068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95360" y="186408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ão Jos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11280" y="36612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os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84200" y="27676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uba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280200" y="3549600"/>
            <a:ext cx="11412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66040" y="290520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729840" y="3018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Itairgrf" descr=""/>
          <p:cNvPicPr/>
          <p:nvPr/>
        </p:nvPicPr>
        <p:blipFill>
          <a:blip r:embed="rId1"/>
          <a:stretch/>
        </p:blipFill>
        <p:spPr>
          <a:xfrm>
            <a:off x="3533760" y="3994200"/>
            <a:ext cx="4705200" cy="2362320"/>
          </a:xfrm>
          <a:prstGeom prst="rect">
            <a:avLst/>
          </a:prstGeom>
          <a:ln w="0">
            <a:noFill/>
          </a:ln>
        </p:spPr>
      </p:pic>
      <p:pic>
        <p:nvPicPr>
          <p:cNvPr id="608" name="Itairtab" descr=""/>
          <p:cNvPicPr/>
          <p:nvPr/>
        </p:nvPicPr>
        <p:blipFill>
          <a:blip r:embed="rId2"/>
          <a:stretch/>
        </p:blipFill>
        <p:spPr>
          <a:xfrm>
            <a:off x="1533600" y="2655720"/>
            <a:ext cx="1457280" cy="10573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11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4520" y="2322000"/>
            <a:ext cx="18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93492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rganiz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04840" y="5681520"/>
            <a:ext cx="8397720" cy="285840"/>
            <a:chOff x="204840" y="5681520"/>
            <a:chExt cx="8397720" cy="285840"/>
          </a:xfrm>
        </p:grpSpPr>
        <p:sp>
          <p:nvSpPr>
            <p:cNvPr id="54" name=""/>
            <p:cNvSpPr/>
            <p:nvPr/>
          </p:nvSpPr>
          <p:spPr>
            <a:xfrm>
              <a:off x="592200" y="5688000"/>
              <a:ext cx="8010360" cy="23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4840" y="5681520"/>
              <a:ext cx="324000" cy="285840"/>
            </a:xfrm>
            <a:prstGeom prst="rightArrow">
              <a:avLst>
                <a:gd name="adj1" fmla="val 50000"/>
                <a:gd name="adj2" fmla="val 28338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06360" y="1792440"/>
          <a:ext cx="8645400" cy="458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60" y="1792440"/>
                    <a:ext cx="8645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075760" y="94284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Árvore de Cobertura Mí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12800" y="1846440"/>
            <a:ext cx="770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Problema: Interconectar todas as 5 filias da ESPMicro: Aclimação, Brás, Cambuci, Diadema e Estoril, de modo que se gaste o mínimo de fibra óp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ESPMtab" descr=""/>
          <p:cNvPicPr/>
          <p:nvPr/>
        </p:nvPicPr>
        <p:blipFill>
          <a:blip r:embed="rId1"/>
          <a:stretch/>
        </p:blipFill>
        <p:spPr>
          <a:xfrm>
            <a:off x="1028880" y="2755800"/>
            <a:ext cx="3133440" cy="1057320"/>
          </a:xfrm>
          <a:prstGeom prst="rect">
            <a:avLst/>
          </a:prstGeom>
          <a:ln w="0">
            <a:noFill/>
          </a:ln>
        </p:spPr>
      </p:pic>
      <p:pic>
        <p:nvPicPr>
          <p:cNvPr id="616" name="ESPMgraf" descr=""/>
          <p:cNvPicPr/>
          <p:nvPr/>
        </p:nvPicPr>
        <p:blipFill>
          <a:blip r:embed="rId2"/>
          <a:stretch/>
        </p:blipFill>
        <p:spPr>
          <a:xfrm>
            <a:off x="1865160" y="3940200"/>
            <a:ext cx="1571760" cy="23241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5829480" y="2930400"/>
            <a:ext cx="1760400" cy="12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5236920" y="3046320"/>
            <a:ext cx="216540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5222880" y="3754080"/>
            <a:ext cx="1573200" cy="13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843520" y="2930400"/>
            <a:ext cx="15591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73880" y="3075120"/>
            <a:ext cx="201600" cy="11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5253120" y="2930400"/>
            <a:ext cx="60480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53120" y="3782880"/>
            <a:ext cx="2322360" cy="3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43520" y="2930400"/>
            <a:ext cx="909720" cy="220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09440" y="37328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20320" y="2715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466400" y="3443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97040" y="25279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cli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472160" y="28231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Br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318440" y="299556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29400" y="41194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89520" y="287172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68760" y="480888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ad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66200" y="429480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mbu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79480" y="381996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to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713640" y="5067360"/>
            <a:ext cx="114120" cy="11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87960" y="374328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796080" y="4171680"/>
            <a:ext cx="793800" cy="90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96320" y="3148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636160" y="3346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503040" y="4324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41000" y="41295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64840" y="34372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959440" y="3117960"/>
            <a:ext cx="129852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61800" y="9428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Black"/>
              </a:rPr>
              <a:t>Caixeiro Viaj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73080" y="1714680"/>
            <a:ext cx="752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Problema: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Federal Emergency Management Agency, pg. 2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do Lawrence e Pastern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702200" y="4166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94200" y="26056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771680" y="23104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336880" y="351540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30200" y="434700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93600" y="269136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079760" y="490104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5861160" y="2585880"/>
            <a:ext cx="2477160" cy="2320560"/>
            <a:chOff x="5861160" y="2585880"/>
            <a:chExt cx="2477160" cy="2320560"/>
          </a:xfrm>
        </p:grpSpPr>
        <p:sp>
          <p:nvSpPr>
            <p:cNvPr id="659" name=""/>
            <p:cNvSpPr/>
            <p:nvPr/>
          </p:nvSpPr>
          <p:spPr>
            <a:xfrm flipH="1">
              <a:off x="6238080" y="3650760"/>
              <a:ext cx="2029680" cy="69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245720" y="2652480"/>
              <a:ext cx="659880" cy="21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5903280" y="2674800"/>
              <a:ext cx="205740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245720" y="3662280"/>
              <a:ext cx="1013400" cy="11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6211800" y="4310640"/>
              <a:ext cx="1027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7919640" y="2682000"/>
              <a:ext cx="331560" cy="9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234840" y="2682360"/>
              <a:ext cx="1684800" cy="164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5940000" y="3093120"/>
              <a:ext cx="2319120" cy="5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570200">
              <a:off x="7198920" y="476928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570200">
              <a:off x="6167520" y="4276080"/>
              <a:ext cx="11376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570200">
              <a:off x="8201520" y="3607920"/>
              <a:ext cx="11376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570200">
              <a:off x="5883840" y="305820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570200">
              <a:off x="7852680" y="260856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60520" y="3161880"/>
              <a:ext cx="266400" cy="11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6501960" y="4577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040240" y="2899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79840" y="341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46720" y="2888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41640" y="30182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11400" y="35611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703640" y="31118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930720" y="37566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fematab" descr=""/>
          <p:cNvPicPr/>
          <p:nvPr/>
        </p:nvPicPr>
        <p:blipFill>
          <a:blip r:embed="rId1"/>
          <a:stretch/>
        </p:blipFill>
        <p:spPr>
          <a:xfrm>
            <a:off x="480960" y="3481560"/>
            <a:ext cx="4810320" cy="1047600"/>
          </a:xfrm>
          <a:prstGeom prst="rect">
            <a:avLst/>
          </a:prstGeom>
          <a:ln w="0">
            <a:noFill/>
          </a:ln>
        </p:spPr>
      </p:pic>
      <p:pic>
        <p:nvPicPr>
          <p:cNvPr id="682" name="Femasol" descr=""/>
          <p:cNvPicPr/>
          <p:nvPr/>
        </p:nvPicPr>
        <p:blipFill>
          <a:blip r:embed="rId2"/>
          <a:stretch/>
        </p:blipFill>
        <p:spPr>
          <a:xfrm>
            <a:off x="446040" y="4734000"/>
            <a:ext cx="5276880" cy="108576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85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328560" y="990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Fluxo em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71080" y="2109960"/>
            <a:ext cx="55479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 Black"/>
              </a:rPr>
              <a:t>Problemas Princip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 Black"/>
              </a:rPr>
              <a:t>Transporte</a:t>
            </a: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 (Transpor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 Black"/>
              </a:rPr>
              <a:t>Transbordo</a:t>
            </a: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 (Transship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 Black"/>
              </a:rPr>
              <a:t>Atribuição ou Designação</a:t>
            </a: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 (Assign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 Black"/>
              </a:rPr>
              <a:t>Caminho Mínimo</a:t>
            </a: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 (Shortest-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 Black"/>
              </a:rPr>
              <a:t>Fluxo Máximo</a:t>
            </a: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 (Maximum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 Black"/>
              </a:rPr>
              <a:t>Árvore de Cobertura Mínima</a:t>
            </a: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 (Spanning T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 Black"/>
              </a:rPr>
              <a:t>Caixeiro Viajante</a:t>
            </a:r>
            <a:r>
              <a:rPr b="0" lang="pt-BR" sz="1800" spc="-1" strike="noStrike">
                <a:solidFill>
                  <a:srgbClr val="0000ff"/>
                </a:solidFill>
                <a:latin typeface="Arial Black"/>
              </a:rPr>
              <a:t> (Traveling Salesm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9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2693160" y="3286080"/>
            <a:ext cx="40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Tópicos Suplemen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9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678040" y="916200"/>
            <a:ext cx="36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Programação po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(Goal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30160" y="19234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ABCicletas</a:t>
            </a:r>
            <a:r>
              <a:rPr b="0" lang="en-GB" sz="18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47000" y="2318400"/>
            <a:ext cx="527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                                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             S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           Disponí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Lucro ($)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    0.04        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Mão-de-Obra (h)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      2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         3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Selim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     2              1  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Pneus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     2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        2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2.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Marchas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     1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150200" y="4074840"/>
            <a:ext cx="5967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Me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Entregar 400 unidades do modelo 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já encomend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Produzir pelo menos 1.200 bicicl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Atingir um lucro de 100 no período consi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Não ocupar mais de 3200 h de mão-de-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Manter uma folga de pelo menos 200 pneus e 100 marc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0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678040" y="916200"/>
            <a:ext cx="36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Programação po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(Goal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2600" y="2102400"/>
            <a:ext cx="435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                              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         S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         D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Lucro ($)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  0.04     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Mão-de-Obra (h)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    2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   3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Selim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   2          1  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Pneus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   2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  2       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2.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Marchas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  1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6080" y="4038840"/>
            <a:ext cx="3563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Me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Entregar 400 do modelo 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Pelo menos 1.200 bicicl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Lucro maior que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Menos de 3200 h de mão-de-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Folga de pelo menos 200 pn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Folga de pelo menos 100 marc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9560" y="3932280"/>
            <a:ext cx="46292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64120" y="1876320"/>
            <a:ext cx="0" cy="4373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46000" y="2867760"/>
            <a:ext cx="168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+ 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 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+ 2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2.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57320" y="4529880"/>
            <a:ext cx="3055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                    + U1 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- E1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=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S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              + U2 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- E2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= 1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0.04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+ 0.01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S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+ U3 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- E3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= 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+ 3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S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          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+ U4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- E4 = 3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+ 2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S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          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+ U5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- E5 = 2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S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                    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+ U6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- E6 = 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30880" y="3032280"/>
            <a:ext cx="1824120" cy="1447560"/>
            <a:chOff x="7130880" y="3032280"/>
            <a:chExt cx="1824120" cy="1447560"/>
          </a:xfrm>
        </p:grpSpPr>
        <p:sp>
          <p:nvSpPr>
            <p:cNvPr id="714" name=""/>
            <p:cNvSpPr/>
            <p:nvPr/>
          </p:nvSpPr>
          <p:spPr>
            <a:xfrm>
              <a:off x="7356600" y="3032280"/>
              <a:ext cx="1598400" cy="610920"/>
            </a:xfrm>
            <a:prstGeom prst="wedgeRoundRectCallout">
              <a:avLst>
                <a:gd name="adj1" fmla="val -37189"/>
                <a:gd name="adj2" fmla="val 13156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 Black"/>
                </a:rPr>
                <a:t>Variáve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 Black"/>
                </a:rPr>
                <a:t>Detriment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 rot="5400000">
              <a:off x="7419960" y="3941640"/>
              <a:ext cx="249120" cy="827280"/>
            </a:xfrm>
            <a:custGeom>
              <a:avLst/>
              <a:gdLst>
                <a:gd name="textAreaLeft" fmla="*/ 159120 w 249120"/>
                <a:gd name="textAreaRight" fmla="*/ 249480 w 249120"/>
                <a:gd name="textAreaTop" fmla="*/ 21240 h 827280"/>
                <a:gd name="textAreaBottom" fmla="*/ 806040 h 8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1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678040" y="916200"/>
            <a:ext cx="36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Programação po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(Goal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5000" y="2045520"/>
            <a:ext cx="336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Informações Adiciona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Cada $ abaixo de 100 é 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x m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importante que mã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Cada marcha é mais impor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que 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pn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6080" y="4038840"/>
            <a:ext cx="3563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Me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Entregar 400 do modelo 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Pelo menos 1.200 bicicl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Lucro maior que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Menos de 3200 h de mão-de-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Folga de pelo menos 200 pn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Folga de pelo menos 100 marc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9560" y="3932280"/>
            <a:ext cx="46292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064120" y="1876320"/>
            <a:ext cx="0" cy="4373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60400" y="3690000"/>
            <a:ext cx="168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2D + S </a:t>
            </a:r>
            <a:r>
              <a:rPr b="0" lang="en-GB" sz="16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 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2D + 2S </a:t>
            </a:r>
            <a:r>
              <a:rPr b="0" lang="en-GB" sz="16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 2.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S </a:t>
            </a:r>
            <a:r>
              <a:rPr b="0" lang="en-GB" sz="16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 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57680" y="4529880"/>
            <a:ext cx="3054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D                     + 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U1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 - E1 =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D + S               + 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U2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 - E2 = 1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0.04D + 0.01S + 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U3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 - E3 = 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2D + 3S           + U4 - 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E4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 = 3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2D + 2S           + 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U5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 - E5 = 2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S                     + U6 - 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E6</a:t>
            </a: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 = 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380200" y="2032200"/>
            <a:ext cx="147924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Min 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U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Min 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U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Min 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 U3 + E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Min 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E5 + </a:t>
            </a:r>
            <a:r>
              <a:rPr b="0" lang="en-GB" sz="1600" spc="-1" strike="noStrike">
                <a:solidFill>
                  <a:srgbClr val="990000"/>
                </a:solidFill>
                <a:latin typeface="Arial Black"/>
              </a:rPr>
              <a:t>2 </a:t>
            </a: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E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678040" y="916200"/>
            <a:ext cx="36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Programação po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(Goal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620040" y="3185280"/>
            <a:ext cx="2149920" cy="3119760"/>
            <a:chOff x="6620040" y="3185280"/>
            <a:chExt cx="2149920" cy="3119760"/>
          </a:xfrm>
        </p:grpSpPr>
        <p:sp>
          <p:nvSpPr>
            <p:cNvPr id="734" name=""/>
            <p:cNvSpPr/>
            <p:nvPr/>
          </p:nvSpPr>
          <p:spPr>
            <a:xfrm>
              <a:off x="6620040" y="4371120"/>
              <a:ext cx="1303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2D + S </a:t>
              </a:r>
              <a:r>
                <a:rPr b="0" lang="en-GB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 2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S </a:t>
              </a:r>
              <a:r>
                <a:rPr b="0" lang="en-GB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 1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2D + 2S </a:t>
              </a:r>
              <a:r>
                <a:rPr b="0" lang="en-GB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 2.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54320" y="5115960"/>
              <a:ext cx="20156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D                     + U1 = 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D + S               + U2 = 1.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0.04D + 0.01S + U3 = 10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2D + 3S            - E4 = 3.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2D + 2S            - E5 = 2.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S                      - E6 = 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48840" y="3185280"/>
              <a:ext cx="115596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Min U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Min U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Min 3 U3 + E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Min E5 + 2 E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7" name="bicir" descr=""/>
          <p:cNvPicPr/>
          <p:nvPr/>
        </p:nvPicPr>
        <p:blipFill>
          <a:blip r:embed="rId1"/>
          <a:stretch/>
        </p:blipFill>
        <p:spPr>
          <a:xfrm>
            <a:off x="163440" y="1884240"/>
            <a:ext cx="6232680" cy="30052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40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2678040" y="916200"/>
            <a:ext cx="36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Programação po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(Goal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bicip" descr=""/>
          <p:cNvPicPr/>
          <p:nvPr/>
        </p:nvPicPr>
        <p:blipFill>
          <a:blip r:embed="rId1"/>
          <a:stretch/>
        </p:blipFill>
        <p:spPr>
          <a:xfrm>
            <a:off x="203040" y="1938240"/>
            <a:ext cx="6255000" cy="2416320"/>
          </a:xfrm>
          <a:prstGeom prst="rect">
            <a:avLst/>
          </a:prstGeom>
          <a:ln w="0">
            <a:noFill/>
          </a:ln>
        </p:spPr>
      </p:pic>
      <p:grpSp>
        <p:nvGrpSpPr>
          <p:cNvPr id="744" name=""/>
          <p:cNvGrpSpPr/>
          <p:nvPr/>
        </p:nvGrpSpPr>
        <p:grpSpPr>
          <a:xfrm>
            <a:off x="6620040" y="3185280"/>
            <a:ext cx="2149920" cy="3119760"/>
            <a:chOff x="6620040" y="3185280"/>
            <a:chExt cx="2149920" cy="3119760"/>
          </a:xfrm>
        </p:grpSpPr>
        <p:sp>
          <p:nvSpPr>
            <p:cNvPr id="745" name=""/>
            <p:cNvSpPr/>
            <p:nvPr/>
          </p:nvSpPr>
          <p:spPr>
            <a:xfrm>
              <a:off x="6620040" y="4371120"/>
              <a:ext cx="1303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2D + S </a:t>
              </a:r>
              <a:r>
                <a:rPr b="0" lang="en-GB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 2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S </a:t>
              </a:r>
              <a:r>
                <a:rPr b="0" lang="en-GB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 1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2D + 2S </a:t>
              </a:r>
              <a:r>
                <a:rPr b="0" lang="en-GB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 2.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54320" y="5115960"/>
              <a:ext cx="20156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D                     + U1 = 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D + S               + U2 = 1.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0.04D + 0.01S + U3 = 10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2D + 3S            - E4 = 3.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2D + 2S            - E5 = 2.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S                      - E6 = 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48840" y="3185280"/>
              <a:ext cx="1155960" cy="10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Min U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Min U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Min 3 U3 + E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 Black"/>
                </a:rPr>
                <a:t>Min E5 + 2 E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1273320" y="2182680"/>
            <a:ext cx="2601720" cy="2098800"/>
            <a:chOff x="1273320" y="2182680"/>
            <a:chExt cx="2601720" cy="2098800"/>
          </a:xfrm>
        </p:grpSpPr>
        <p:sp>
          <p:nvSpPr>
            <p:cNvPr id="749" name=""/>
            <p:cNvSpPr/>
            <p:nvPr/>
          </p:nvSpPr>
          <p:spPr>
            <a:xfrm>
              <a:off x="3193920" y="3483000"/>
              <a:ext cx="681120" cy="798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73320" y="2182680"/>
              <a:ext cx="680760" cy="40644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53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goal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26000" y="3286080"/>
            <a:ext cx="37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Solução Gráfica de 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2695680" y="2003040"/>
            <a:ext cx="2666520" cy="3990600"/>
            <a:chOff x="2695680" y="2003040"/>
            <a:chExt cx="2666520" cy="3990600"/>
          </a:xfrm>
        </p:grpSpPr>
        <p:grpSp>
          <p:nvGrpSpPr>
            <p:cNvPr id="757" name=""/>
            <p:cNvGrpSpPr/>
            <p:nvPr/>
          </p:nvGrpSpPr>
          <p:grpSpPr>
            <a:xfrm>
              <a:off x="2695680" y="3333240"/>
              <a:ext cx="666720" cy="1330200"/>
              <a:chOff x="2695680" y="3333240"/>
              <a:chExt cx="666720" cy="1330200"/>
            </a:xfrm>
          </p:grpSpPr>
          <p:sp>
            <p:nvSpPr>
              <p:cNvPr id="758" name=""/>
              <p:cNvSpPr/>
              <p:nvPr/>
            </p:nvSpPr>
            <p:spPr>
              <a:xfrm flipV="1">
                <a:off x="2695680" y="333324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695680" y="399852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362400" y="2667960"/>
              <a:ext cx="666360" cy="1330200"/>
              <a:chOff x="3362400" y="2667960"/>
              <a:chExt cx="666360" cy="1330200"/>
            </a:xfrm>
          </p:grpSpPr>
          <p:sp>
            <p:nvSpPr>
              <p:cNvPr id="761" name=""/>
              <p:cNvSpPr/>
              <p:nvPr/>
            </p:nvSpPr>
            <p:spPr>
              <a:xfrm flipV="1">
                <a:off x="3362400" y="266796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362400" y="333324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3362400" y="3998520"/>
              <a:ext cx="666360" cy="1330200"/>
              <a:chOff x="3362400" y="3998520"/>
              <a:chExt cx="666360" cy="1330200"/>
            </a:xfrm>
          </p:grpSpPr>
          <p:sp>
            <p:nvSpPr>
              <p:cNvPr id="764" name=""/>
              <p:cNvSpPr/>
              <p:nvPr/>
            </p:nvSpPr>
            <p:spPr>
              <a:xfrm flipV="1">
                <a:off x="3362400" y="399852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362400" y="466380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4029120" y="2003040"/>
              <a:ext cx="666360" cy="1330200"/>
              <a:chOff x="4029120" y="2003040"/>
              <a:chExt cx="666360" cy="1330200"/>
            </a:xfrm>
          </p:grpSpPr>
          <p:sp>
            <p:nvSpPr>
              <p:cNvPr id="767" name=""/>
              <p:cNvSpPr/>
              <p:nvPr/>
            </p:nvSpPr>
            <p:spPr>
              <a:xfrm flipV="1">
                <a:off x="4029120" y="200304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029120" y="266832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4029120" y="3333240"/>
              <a:ext cx="666360" cy="1330200"/>
              <a:chOff x="4029120" y="3333240"/>
              <a:chExt cx="666360" cy="1330200"/>
            </a:xfrm>
          </p:grpSpPr>
          <p:sp>
            <p:nvSpPr>
              <p:cNvPr id="770" name=""/>
              <p:cNvSpPr/>
              <p:nvPr/>
            </p:nvSpPr>
            <p:spPr>
              <a:xfrm flipV="1">
                <a:off x="4029120" y="333324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029120" y="399852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4029120" y="4663440"/>
              <a:ext cx="666360" cy="1330200"/>
              <a:chOff x="4029120" y="4663440"/>
              <a:chExt cx="666360" cy="1330200"/>
            </a:xfrm>
          </p:grpSpPr>
          <p:sp>
            <p:nvSpPr>
              <p:cNvPr id="773" name=""/>
              <p:cNvSpPr/>
              <p:nvPr/>
            </p:nvSpPr>
            <p:spPr>
              <a:xfrm flipV="1">
                <a:off x="4029120" y="466344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29120" y="5328720"/>
                <a:ext cx="66636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4695480" y="2003040"/>
              <a:ext cx="666720" cy="1330200"/>
              <a:chOff x="4695480" y="2003040"/>
              <a:chExt cx="666720" cy="1330200"/>
            </a:xfrm>
          </p:grpSpPr>
          <p:sp>
            <p:nvSpPr>
              <p:cNvPr id="776" name=""/>
              <p:cNvSpPr/>
              <p:nvPr/>
            </p:nvSpPr>
            <p:spPr>
              <a:xfrm flipH="1" flipV="1">
                <a:off x="4695480" y="200304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695480" y="266832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4695480" y="3333240"/>
              <a:ext cx="666720" cy="1330200"/>
              <a:chOff x="4695480" y="3333240"/>
              <a:chExt cx="666720" cy="1330200"/>
            </a:xfrm>
          </p:grpSpPr>
          <p:sp>
            <p:nvSpPr>
              <p:cNvPr id="779" name=""/>
              <p:cNvSpPr/>
              <p:nvPr/>
            </p:nvSpPr>
            <p:spPr>
              <a:xfrm flipH="1" flipV="1">
                <a:off x="4695480" y="333324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4695480" y="399852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695480" y="4663440"/>
              <a:ext cx="666720" cy="1330200"/>
              <a:chOff x="4695480" y="4663440"/>
              <a:chExt cx="666720" cy="1330200"/>
            </a:xfrm>
          </p:grpSpPr>
          <p:sp>
            <p:nvSpPr>
              <p:cNvPr id="782" name=""/>
              <p:cNvSpPr/>
              <p:nvPr/>
            </p:nvSpPr>
            <p:spPr>
              <a:xfrm flipH="1" flipV="1">
                <a:off x="4695480" y="466344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4695480" y="5328720"/>
                <a:ext cx="666720" cy="66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4" name=""/>
          <p:cNvSpPr/>
          <p:nvPr/>
        </p:nvSpPr>
        <p:spPr>
          <a:xfrm>
            <a:off x="2806920" y="99900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Programação Dinâ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612880" y="392760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82840" y="324648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944880" y="259092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22760" y="192420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458964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48120" y="392760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21320" y="325764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13400" y="458964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48120" y="5259240"/>
            <a:ext cx="152280" cy="152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18080" y="5918040"/>
            <a:ext cx="152280" cy="152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83360" y="5253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83360" y="39337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295960" y="2597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73800" y="38462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96120" y="518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461200" y="25048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03640" y="20458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992840" y="2976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105440" y="4731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098960" y="5605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444840" y="3622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981680" y="2028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984920" y="4730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992840" y="3381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106880" y="4241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5605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4935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967280" y="4279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24520" y="2944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14800" y="3369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32240" y="2700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46640" y="4070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52920" y="4273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773440" y="3398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4500720" y="1617480"/>
            <a:ext cx="474480" cy="665280"/>
            <a:chOff x="4500720" y="1617480"/>
            <a:chExt cx="474480" cy="665280"/>
          </a:xfrm>
        </p:grpSpPr>
        <p:sp>
          <p:nvSpPr>
            <p:cNvPr id="820" name=""/>
            <p:cNvSpPr/>
            <p:nvPr/>
          </p:nvSpPr>
          <p:spPr>
            <a:xfrm>
              <a:off x="4500720" y="16174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759200" y="206532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2502000" y="3573000"/>
            <a:ext cx="474480" cy="711720"/>
            <a:chOff x="2502000" y="3573000"/>
            <a:chExt cx="474480" cy="711720"/>
          </a:xfrm>
        </p:grpSpPr>
        <p:sp>
          <p:nvSpPr>
            <p:cNvPr id="823" name=""/>
            <p:cNvSpPr/>
            <p:nvPr/>
          </p:nvSpPr>
          <p:spPr>
            <a:xfrm>
              <a:off x="2502000" y="35730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60840" y="4067280"/>
              <a:ext cx="21564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483440" y="2869920"/>
            <a:ext cx="491760" cy="744840"/>
            <a:chOff x="4483440" y="2869920"/>
            <a:chExt cx="491760" cy="744840"/>
          </a:xfrm>
        </p:grpSpPr>
        <p:sp>
          <p:nvSpPr>
            <p:cNvPr id="826" name=""/>
            <p:cNvSpPr/>
            <p:nvPr/>
          </p:nvSpPr>
          <p:spPr>
            <a:xfrm>
              <a:off x="4483440" y="2869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759200" y="339732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3780000" y="2258640"/>
            <a:ext cx="523800" cy="351000"/>
            <a:chOff x="3780000" y="2258640"/>
            <a:chExt cx="523800" cy="351000"/>
          </a:xfrm>
        </p:grpSpPr>
        <p:sp>
          <p:nvSpPr>
            <p:cNvPr id="829" name=""/>
            <p:cNvSpPr/>
            <p:nvPr/>
          </p:nvSpPr>
          <p:spPr>
            <a:xfrm>
              <a:off x="3780000" y="22586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087800" y="2391840"/>
              <a:ext cx="216000" cy="2178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489560" y="4190760"/>
            <a:ext cx="473040" cy="420840"/>
            <a:chOff x="4489560" y="4190760"/>
            <a:chExt cx="473040" cy="420840"/>
          </a:xfrm>
        </p:grpSpPr>
        <p:sp>
          <p:nvSpPr>
            <p:cNvPr id="832" name=""/>
            <p:cNvSpPr/>
            <p:nvPr/>
          </p:nvSpPr>
          <p:spPr>
            <a:xfrm>
              <a:off x="4489560" y="41907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4746600" y="439416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70480" y="5543280"/>
            <a:ext cx="504720" cy="400320"/>
            <a:chOff x="4470480" y="5543280"/>
            <a:chExt cx="504720" cy="400320"/>
          </a:xfrm>
        </p:grpSpPr>
        <p:sp>
          <p:nvSpPr>
            <p:cNvPr id="835" name=""/>
            <p:cNvSpPr/>
            <p:nvPr/>
          </p:nvSpPr>
          <p:spPr>
            <a:xfrm>
              <a:off x="4470480" y="55432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4759200" y="572616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144960" y="2931840"/>
            <a:ext cx="496800" cy="344880"/>
            <a:chOff x="3144960" y="2931840"/>
            <a:chExt cx="496800" cy="344880"/>
          </a:xfrm>
        </p:grpSpPr>
        <p:sp>
          <p:nvSpPr>
            <p:cNvPr id="838" name=""/>
            <p:cNvSpPr/>
            <p:nvPr/>
          </p:nvSpPr>
          <p:spPr>
            <a:xfrm flipV="1">
              <a:off x="3425760" y="305928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44960" y="29318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3818160" y="4887720"/>
            <a:ext cx="482400" cy="727200"/>
            <a:chOff x="3818160" y="4887720"/>
            <a:chExt cx="482400" cy="727200"/>
          </a:xfrm>
        </p:grpSpPr>
        <p:sp>
          <p:nvSpPr>
            <p:cNvPr id="841" name=""/>
            <p:cNvSpPr/>
            <p:nvPr/>
          </p:nvSpPr>
          <p:spPr>
            <a:xfrm>
              <a:off x="4084560" y="539748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18160" y="48877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3826080" y="3539880"/>
            <a:ext cx="480960" cy="741600"/>
            <a:chOff x="3826080" y="3539880"/>
            <a:chExt cx="480960" cy="741600"/>
          </a:xfrm>
        </p:grpSpPr>
        <p:sp>
          <p:nvSpPr>
            <p:cNvPr id="844" name=""/>
            <p:cNvSpPr/>
            <p:nvPr/>
          </p:nvSpPr>
          <p:spPr>
            <a:xfrm>
              <a:off x="3826080" y="3539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91040" y="406404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44960" y="4173120"/>
            <a:ext cx="485640" cy="438480"/>
            <a:chOff x="3144960" y="4173120"/>
            <a:chExt cx="485640" cy="438480"/>
          </a:xfrm>
        </p:grpSpPr>
        <p:sp>
          <p:nvSpPr>
            <p:cNvPr id="847" name=""/>
            <p:cNvSpPr/>
            <p:nvPr/>
          </p:nvSpPr>
          <p:spPr>
            <a:xfrm flipV="1">
              <a:off x="3414600" y="4394160"/>
              <a:ext cx="216000" cy="21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44960" y="4173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8000"/>
                  </a:solidFill>
                  <a:latin typeface="Arial Black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 flipV="1">
            <a:off x="2695680" y="3333600"/>
            <a:ext cx="666720" cy="66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695680" y="3998880"/>
            <a:ext cx="666720" cy="66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3362400" y="2668320"/>
            <a:ext cx="666720" cy="66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362400" y="3333600"/>
            <a:ext cx="666720" cy="66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362400" y="3998880"/>
            <a:ext cx="666720" cy="66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62400" y="4664160"/>
            <a:ext cx="666720" cy="66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4029120" y="2003400"/>
            <a:ext cx="666720" cy="66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029120" y="2668680"/>
            <a:ext cx="666720" cy="66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029120" y="3333600"/>
            <a:ext cx="666720" cy="66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29120" y="3998880"/>
            <a:ext cx="666720" cy="66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4029120" y="4663800"/>
            <a:ext cx="666720" cy="66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29120" y="5329080"/>
            <a:ext cx="666720" cy="66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4695840" y="2003400"/>
            <a:ext cx="666720" cy="66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695840" y="2668680"/>
            <a:ext cx="666720" cy="66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4695840" y="3333600"/>
            <a:ext cx="666720" cy="66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4695840" y="3998880"/>
            <a:ext cx="666720" cy="66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4695840" y="4663800"/>
            <a:ext cx="666720" cy="664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4695840" y="5329080"/>
            <a:ext cx="666720" cy="66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06920" y="99900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Programação Dinâ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12880" y="392760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82840" y="324648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44880" y="259092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22760" y="192420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76720" y="45896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48120" y="3927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621320" y="325764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613400" y="45896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48120" y="5259240"/>
            <a:ext cx="152280" cy="152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618080" y="5918040"/>
            <a:ext cx="152280" cy="152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283360" y="5253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283360" y="39337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295960" y="2597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73800" y="38462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496120" y="518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61200" y="25048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Black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03640" y="20458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92840" y="2976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05440" y="47318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98960" y="5605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444840" y="3622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81680" y="2028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84920" y="4730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992840" y="3381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06880" y="4241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008680" y="5605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29000" y="4935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967280" y="4279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24520" y="2944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3369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432240" y="2700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446640" y="4070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752920" y="4273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773440" y="3398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00720" y="16174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502000" y="35730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780000" y="22586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70480" y="5543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89560" y="41907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483440" y="28699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3425760" y="3059280"/>
            <a:ext cx="216000" cy="217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4746600" y="4394160"/>
            <a:ext cx="216000" cy="21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759200" y="2065320"/>
            <a:ext cx="216000" cy="217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084560" y="5397480"/>
            <a:ext cx="216000" cy="217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60840" y="4067280"/>
            <a:ext cx="215640" cy="21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759200" y="3397320"/>
            <a:ext cx="216000" cy="217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4087800" y="2391840"/>
            <a:ext cx="216000" cy="217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4759200" y="5726160"/>
            <a:ext cx="216000" cy="2174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144960" y="2931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18160" y="4887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26080" y="35398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91040" y="4064040"/>
            <a:ext cx="216000" cy="21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3414600" y="4394160"/>
            <a:ext cx="216000" cy="21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144960" y="41731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Arial Black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2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dynapro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2687040" y="999000"/>
            <a:ext cx="37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Programação Não-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0200" y="1925640"/>
            <a:ext cx="136044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Forma G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g(x) </a:t>
            </a:r>
            <a:r>
              <a:rPr b="1" lang="pt-BR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h(x)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49640" y="1698480"/>
            <a:ext cx="0" cy="454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998440" y="1736640"/>
            <a:ext cx="522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Exempl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Deseja-se lançar, no mercado, um certo produto cu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curva de demanda é do ti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354560" y="2887560"/>
            <a:ext cx="0" cy="16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22720" y="4354560"/>
            <a:ext cx="311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354560" y="3309840"/>
            <a:ext cx="227808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713400" y="277164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42240" y="3954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91320" y="2787480"/>
            <a:ext cx="2465280" cy="493920"/>
          </a:xfrm>
          <a:prstGeom prst="wedgeRoundRectCallout">
            <a:avLst>
              <a:gd name="adj1" fmla="val -44074"/>
              <a:gd name="adj2" fmla="val 133601"/>
              <a:gd name="adj3" fmla="val 16667"/>
            </a:avLst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p(q) = 450 – 0.001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3024360" y="4734000"/>
            <a:ext cx="5098680" cy="1449360"/>
            <a:chOff x="3024360" y="4734000"/>
            <a:chExt cx="5098680" cy="1449360"/>
          </a:xfrm>
        </p:grpSpPr>
        <p:sp>
          <p:nvSpPr>
            <p:cNvPr id="942" name=""/>
            <p:cNvSpPr/>
            <p:nvPr/>
          </p:nvSpPr>
          <p:spPr>
            <a:xfrm>
              <a:off x="4702320" y="5864400"/>
              <a:ext cx="1655640" cy="318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024360" y="4734000"/>
              <a:ext cx="50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ff"/>
                  </a:solidFill>
                  <a:latin typeface="Arial Black"/>
                </a:rPr>
                <a:t>O lucro ao se vender uma quantidade q é dado po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564720" y="5329440"/>
              <a:ext cx="3679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Lucro(q) = p(q) x q – 50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                </a:t>
              </a: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= ( </a:t>
              </a: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450 – 0.001 q </a:t>
              </a: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) x q – 50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                </a:t>
              </a: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= 400 q – 0.001 q</a:t>
              </a:r>
              <a:r>
                <a:rPr b="1" lang="pt-BR" sz="1600" spc="-1" strike="noStrike" baseline="30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4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2687040" y="999000"/>
            <a:ext cx="37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Programação Não-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0200" y="1925640"/>
            <a:ext cx="136044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Forma G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g(x) </a:t>
            </a:r>
            <a:r>
              <a:rPr b="1" lang="pt-BR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h(x)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49640" y="1698480"/>
            <a:ext cx="0" cy="454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33200" y="1736640"/>
            <a:ext cx="35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O fornecedor de peças reque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924280" y="2154240"/>
            <a:ext cx="1423800" cy="337320"/>
            <a:chOff x="2924280" y="2154240"/>
            <a:chExt cx="1423800" cy="337320"/>
          </a:xfrm>
        </p:grpSpPr>
        <p:sp>
          <p:nvSpPr>
            <p:cNvPr id="954" name=""/>
            <p:cNvSpPr/>
            <p:nvPr/>
          </p:nvSpPr>
          <p:spPr>
            <a:xfrm>
              <a:off x="2924280" y="2170080"/>
              <a:ext cx="1423800" cy="318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41560" y="2154240"/>
              <a:ext cx="136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q  </a:t>
              </a:r>
              <a:r>
                <a:rPr b="1" lang="pt-BR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 10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748960" y="2657520"/>
            <a:ext cx="2486520" cy="1312920"/>
            <a:chOff x="2748960" y="2657520"/>
            <a:chExt cx="2486520" cy="1312920"/>
          </a:xfrm>
        </p:grpSpPr>
        <p:sp>
          <p:nvSpPr>
            <p:cNvPr id="957" name=""/>
            <p:cNvSpPr/>
            <p:nvPr/>
          </p:nvSpPr>
          <p:spPr>
            <a:xfrm>
              <a:off x="2748960" y="2657520"/>
              <a:ext cx="24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ff"/>
                  </a:solidFill>
                  <a:latin typeface="Arial Black"/>
                </a:rPr>
                <a:t>O problema é, portanto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917080" y="3146400"/>
              <a:ext cx="2128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Max 400 q – 0.001 q</a:t>
              </a:r>
              <a:r>
                <a:rPr b="1" lang="pt-BR" sz="1600" spc="-1" strike="noStrike" baseline="30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s.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q – 100.000 </a:t>
              </a:r>
              <a:r>
                <a:rPr b="1" lang="pt-BR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343560" y="3846600"/>
            <a:ext cx="1598760" cy="711000"/>
          </a:xfrm>
          <a:prstGeom prst="wedgeRoundRectCallout">
            <a:avLst>
              <a:gd name="adj1" fmla="val -128152"/>
              <a:gd name="adj2" fmla="val -122768"/>
              <a:gd name="adj3" fmla="val 16667"/>
            </a:avLst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Não 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Quadráti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2687040" y="999000"/>
            <a:ext cx="37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Programação Não-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10200" y="1925640"/>
            <a:ext cx="136044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Forma G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g(x) </a:t>
            </a:r>
            <a:r>
              <a:rPr b="1" lang="pt-BR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h(x)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249640" y="1698480"/>
            <a:ext cx="0" cy="4542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33200" y="1736640"/>
            <a:ext cx="35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O fornecedor de peças reque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748960" y="2657520"/>
            <a:ext cx="24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O problema é, portant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924280" y="2154240"/>
            <a:ext cx="1423800" cy="337320"/>
            <a:chOff x="2924280" y="2154240"/>
            <a:chExt cx="1423800" cy="337320"/>
          </a:xfrm>
        </p:grpSpPr>
        <p:sp>
          <p:nvSpPr>
            <p:cNvPr id="970" name=""/>
            <p:cNvSpPr/>
            <p:nvPr/>
          </p:nvSpPr>
          <p:spPr>
            <a:xfrm>
              <a:off x="2924280" y="2170080"/>
              <a:ext cx="1423800" cy="318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941560" y="2154240"/>
              <a:ext cx="136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q  </a:t>
              </a:r>
              <a:r>
                <a:rPr b="1" lang="pt-BR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 100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917080" y="3146400"/>
            <a:ext cx="212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ax 400 q – 0.001 q</a:t>
            </a:r>
            <a:r>
              <a:rPr b="1" lang="pt-BR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s.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q – 100.000 </a:t>
            </a:r>
            <a:r>
              <a:rPr b="1" lang="pt-BR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5457960" y="3027240"/>
            <a:ext cx="3419280" cy="1443240"/>
            <a:chOff x="5457960" y="3027240"/>
            <a:chExt cx="3419280" cy="1443240"/>
          </a:xfrm>
        </p:grpSpPr>
        <p:pic>
          <p:nvPicPr>
            <p:cNvPr id="974" name="quadp" descr=""/>
            <p:cNvPicPr/>
            <p:nvPr/>
          </p:nvPicPr>
          <p:blipFill>
            <a:blip r:embed="rId1"/>
            <a:stretch/>
          </p:blipFill>
          <p:spPr>
            <a:xfrm>
              <a:off x="5459400" y="3027240"/>
              <a:ext cx="34178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8867880" y="30337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57960" y="4470480"/>
              <a:ext cx="34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005280" y="4862520"/>
            <a:ext cx="5486400" cy="1019160"/>
            <a:chOff x="3005280" y="4862520"/>
            <a:chExt cx="5486400" cy="1019160"/>
          </a:xfrm>
        </p:grpSpPr>
        <p:pic>
          <p:nvPicPr>
            <p:cNvPr id="978" name="quads" descr=""/>
            <p:cNvPicPr/>
            <p:nvPr/>
          </p:nvPicPr>
          <p:blipFill>
            <a:blip r:embed="rId2"/>
            <a:stretch/>
          </p:blipFill>
          <p:spPr>
            <a:xfrm>
              <a:off x="3005280" y="4863960"/>
              <a:ext cx="548640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"/>
            <p:cNvSpPr/>
            <p:nvPr/>
          </p:nvSpPr>
          <p:spPr>
            <a:xfrm>
              <a:off x="3005280" y="587844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491680" y="4862520"/>
              <a:ext cx="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8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optimi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3383640" y="9990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996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0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3383640" y="9990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1016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1021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4343400" y="2043000"/>
            <a:ext cx="90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2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2162160" y="3076560"/>
            <a:ext cx="2903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383640" y="9990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1042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1047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4343400" y="2043000"/>
            <a:ext cx="90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151680" y="1847880"/>
            <a:ext cx="25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Jogador 1 -&gt; escolh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4151160" y="1873080"/>
            <a:ext cx="0" cy="3757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94200" y="561492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402680" y="2308320"/>
            <a:ext cx="0" cy="522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161040" y="2973240"/>
            <a:ext cx="25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Jogador 2 -&gt; escolh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17227200">
            <a:off x="2757960" y="2831400"/>
            <a:ext cx="1690560" cy="98424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078440" y="3019320"/>
            <a:ext cx="11556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6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762440" y="3648240"/>
            <a:ext cx="2324160" cy="1847520"/>
          </a:xfrm>
          <a:custGeom>
            <a:avLst/>
            <a:gdLst/>
            <a:ahLst/>
            <a:rect l="l" t="t" r="r" b="b"/>
            <a:pathLst>
              <a:path w="1464" h="1164">
                <a:moveTo>
                  <a:pt x="0" y="0"/>
                </a:moveTo>
                <a:lnTo>
                  <a:pt x="744" y="0"/>
                </a:lnTo>
                <a:lnTo>
                  <a:pt x="1464" y="588"/>
                </a:lnTo>
                <a:lnTo>
                  <a:pt x="1464" y="1164"/>
                </a:lnTo>
                <a:lnTo>
                  <a:pt x="0" y="1164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762440" y="3146400"/>
            <a:ext cx="2611440" cy="2338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7760" y="4741920"/>
            <a:ext cx="865080" cy="736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441920" y="5015520"/>
            <a:ext cx="160200" cy="203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253120" y="2381400"/>
            <a:ext cx="403200" cy="404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22160" y="2069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005600" y="4299120"/>
            <a:ext cx="1139760" cy="350640"/>
            <a:chOff x="7005600" y="4299120"/>
            <a:chExt cx="1139760" cy="350640"/>
          </a:xfrm>
        </p:grpSpPr>
        <p:sp>
          <p:nvSpPr>
            <p:cNvPr id="94" name=""/>
            <p:cNvSpPr/>
            <p:nvPr/>
          </p:nvSpPr>
          <p:spPr>
            <a:xfrm>
              <a:off x="7005600" y="4503600"/>
              <a:ext cx="146160" cy="146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4600" y="429912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Ót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123200" y="4458960"/>
            <a:ext cx="12794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Solu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F =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M =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360" y="17496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1280" y="2335320"/>
            <a:ext cx="39243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2481120" y="2903400"/>
            <a:ext cx="2409840" cy="768600"/>
          </a:xfrm>
          <a:custGeom>
            <a:avLst/>
            <a:gdLst/>
            <a:ahLst/>
            <a:rect l="l" t="t" r="r" b="b"/>
            <a:pathLst>
              <a:path w="1518" h="484">
                <a:moveTo>
                  <a:pt x="0" y="484"/>
                </a:moveTo>
                <a:cubicBezTo>
                  <a:pt x="46" y="478"/>
                  <a:pt x="213" y="462"/>
                  <a:pt x="284" y="448"/>
                </a:cubicBezTo>
                <a:cubicBezTo>
                  <a:pt x="355" y="434"/>
                  <a:pt x="383" y="417"/>
                  <a:pt x="429" y="399"/>
                </a:cubicBezTo>
                <a:cubicBezTo>
                  <a:pt x="475" y="381"/>
                  <a:pt x="487" y="373"/>
                  <a:pt x="558" y="338"/>
                </a:cubicBezTo>
                <a:cubicBezTo>
                  <a:pt x="629" y="303"/>
                  <a:pt x="783" y="226"/>
                  <a:pt x="853" y="191"/>
                </a:cubicBezTo>
                <a:cubicBezTo>
                  <a:pt x="923" y="156"/>
                  <a:pt x="934" y="146"/>
                  <a:pt x="979" y="128"/>
                </a:cubicBezTo>
                <a:cubicBezTo>
                  <a:pt x="1024" y="110"/>
                  <a:pt x="1077" y="96"/>
                  <a:pt x="1125" y="82"/>
                </a:cubicBezTo>
                <a:cubicBezTo>
                  <a:pt x="1173" y="68"/>
                  <a:pt x="1200" y="57"/>
                  <a:pt x="1265" y="43"/>
                </a:cubicBezTo>
                <a:cubicBezTo>
                  <a:pt x="1330" y="29"/>
                  <a:pt x="1465" y="9"/>
                  <a:pt x="151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383640" y="9990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1075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1080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4532400" y="215892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3846600" y="1854000"/>
            <a:ext cx="0" cy="37573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84440" y="599292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4032360" y="183996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273560" y="184140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4483080" y="184788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21000" y="29653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780000" y="3133800"/>
            <a:ext cx="11556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30880" y="2914560"/>
            <a:ext cx="11556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79800" y="30416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2703600" y="184788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903400" y="183348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164040" y="1834920"/>
            <a:ext cx="0" cy="37573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3373560" y="184140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106800" y="3489480"/>
            <a:ext cx="1159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655720" y="358128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16320" y="338616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55880" y="355608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151680" y="1847880"/>
            <a:ext cx="25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Jogador 1 -&gt; escolhe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02680" y="2308320"/>
            <a:ext cx="0" cy="522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16200000">
            <a:off x="3469320" y="4816800"/>
            <a:ext cx="320760" cy="2033640"/>
          </a:xfrm>
          <a:custGeom>
            <a:avLst/>
            <a:gdLst>
              <a:gd name="textAreaLeft" fmla="*/ 204840 w 320760"/>
              <a:gd name="textAreaRight" fmla="*/ 321120 w 320760"/>
              <a:gd name="textAreaTop" fmla="*/ 52920 h 2033640"/>
              <a:gd name="textAreaBottom" fmla="*/ 1980720 h 20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289560" y="2928960"/>
            <a:ext cx="24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L2 -&gt; respostas d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930920" y="2717640"/>
            <a:ext cx="4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0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1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3657600" y="2752560"/>
            <a:ext cx="1009800" cy="2810160"/>
          </a:xfrm>
          <a:custGeom>
            <a:avLst/>
            <a:gdLst/>
            <a:ahLst/>
            <a:rect l="l" t="t" r="r" b="b"/>
            <a:pathLst>
              <a:path w="636" h="1770">
                <a:moveTo>
                  <a:pt x="0" y="1770"/>
                </a:moveTo>
                <a:cubicBezTo>
                  <a:pt x="3" y="1740"/>
                  <a:pt x="7" y="1711"/>
                  <a:pt x="18" y="1668"/>
                </a:cubicBezTo>
                <a:cubicBezTo>
                  <a:pt x="29" y="1625"/>
                  <a:pt x="49" y="1563"/>
                  <a:pt x="66" y="1512"/>
                </a:cubicBezTo>
                <a:cubicBezTo>
                  <a:pt x="83" y="1461"/>
                  <a:pt x="98" y="1414"/>
                  <a:pt x="120" y="1362"/>
                </a:cubicBezTo>
                <a:cubicBezTo>
                  <a:pt x="142" y="1310"/>
                  <a:pt x="149" y="1280"/>
                  <a:pt x="198" y="1200"/>
                </a:cubicBezTo>
                <a:cubicBezTo>
                  <a:pt x="247" y="1120"/>
                  <a:pt x="363" y="959"/>
                  <a:pt x="414" y="882"/>
                </a:cubicBezTo>
                <a:cubicBezTo>
                  <a:pt x="465" y="805"/>
                  <a:pt x="480" y="791"/>
                  <a:pt x="504" y="738"/>
                </a:cubicBezTo>
                <a:cubicBezTo>
                  <a:pt x="528" y="685"/>
                  <a:pt x="543" y="618"/>
                  <a:pt x="558" y="564"/>
                </a:cubicBezTo>
                <a:cubicBezTo>
                  <a:pt x="573" y="510"/>
                  <a:pt x="583" y="475"/>
                  <a:pt x="594" y="414"/>
                </a:cubicBezTo>
                <a:cubicBezTo>
                  <a:pt x="605" y="353"/>
                  <a:pt x="617" y="267"/>
                  <a:pt x="624" y="198"/>
                </a:cubicBezTo>
                <a:cubicBezTo>
                  <a:pt x="631" y="129"/>
                  <a:pt x="634" y="33"/>
                  <a:pt x="636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81120" y="2903400"/>
            <a:ext cx="2409840" cy="768600"/>
          </a:xfrm>
          <a:custGeom>
            <a:avLst/>
            <a:gdLst/>
            <a:ahLst/>
            <a:rect l="l" t="t" r="r" b="b"/>
            <a:pathLst>
              <a:path w="1518" h="484">
                <a:moveTo>
                  <a:pt x="0" y="484"/>
                </a:moveTo>
                <a:cubicBezTo>
                  <a:pt x="46" y="478"/>
                  <a:pt x="213" y="462"/>
                  <a:pt x="284" y="448"/>
                </a:cubicBezTo>
                <a:cubicBezTo>
                  <a:pt x="355" y="434"/>
                  <a:pt x="383" y="417"/>
                  <a:pt x="429" y="399"/>
                </a:cubicBezTo>
                <a:cubicBezTo>
                  <a:pt x="475" y="381"/>
                  <a:pt x="487" y="373"/>
                  <a:pt x="558" y="338"/>
                </a:cubicBezTo>
                <a:cubicBezTo>
                  <a:pt x="629" y="303"/>
                  <a:pt x="783" y="226"/>
                  <a:pt x="853" y="191"/>
                </a:cubicBezTo>
                <a:cubicBezTo>
                  <a:pt x="923" y="156"/>
                  <a:pt x="934" y="146"/>
                  <a:pt x="979" y="128"/>
                </a:cubicBezTo>
                <a:cubicBezTo>
                  <a:pt x="1024" y="110"/>
                  <a:pt x="1077" y="96"/>
                  <a:pt x="1125" y="82"/>
                </a:cubicBezTo>
                <a:cubicBezTo>
                  <a:pt x="1173" y="68"/>
                  <a:pt x="1200" y="57"/>
                  <a:pt x="1265" y="43"/>
                </a:cubicBezTo>
                <a:cubicBezTo>
                  <a:pt x="1330" y="29"/>
                  <a:pt x="1465" y="9"/>
                  <a:pt x="151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83640" y="9990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1124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1129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4241880" y="188424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256440" y="423396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81240" y="541656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2178000" y="517032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2185920" y="415620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192400" y="339408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2184480" y="493236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2155680" y="467028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2193840" y="391788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187360" y="3657600"/>
            <a:ext cx="336996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784680" y="48704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627360" y="53467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17880" y="46116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10160" y="5100480"/>
            <a:ext cx="11556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1680" y="1847880"/>
            <a:ext cx="25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Jogador 2 -&gt; escolhe 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402680" y="2308320"/>
            <a:ext cx="0" cy="522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289560" y="2928960"/>
            <a:ext cx="24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L1 -&gt; respostas d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930920" y="2717640"/>
            <a:ext cx="4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479840" y="35924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251240" y="41022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32400" y="33480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00640" y="38606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02160" y="236052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rot="10800000">
            <a:off x="5923080" y="3379320"/>
            <a:ext cx="320400" cy="2033640"/>
          </a:xfrm>
          <a:custGeom>
            <a:avLst/>
            <a:gdLst>
              <a:gd name="textAreaLeft" fmla="*/ 204840 w 320400"/>
              <a:gd name="textAreaRight" fmla="*/ 320760 w 320400"/>
              <a:gd name="textAreaTop" fmla="*/ 52920 h 2033640"/>
              <a:gd name="textAreaBottom" fmla="*/ 1980720 h 20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5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6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3657600" y="2752560"/>
            <a:ext cx="1009800" cy="2810160"/>
          </a:xfrm>
          <a:custGeom>
            <a:avLst/>
            <a:gdLst/>
            <a:ahLst/>
            <a:rect l="l" t="t" r="r" b="b"/>
            <a:pathLst>
              <a:path w="636" h="1770">
                <a:moveTo>
                  <a:pt x="0" y="1770"/>
                </a:moveTo>
                <a:cubicBezTo>
                  <a:pt x="3" y="1740"/>
                  <a:pt x="7" y="1711"/>
                  <a:pt x="18" y="1668"/>
                </a:cubicBezTo>
                <a:cubicBezTo>
                  <a:pt x="29" y="1625"/>
                  <a:pt x="49" y="1563"/>
                  <a:pt x="66" y="1512"/>
                </a:cubicBezTo>
                <a:cubicBezTo>
                  <a:pt x="83" y="1461"/>
                  <a:pt x="98" y="1414"/>
                  <a:pt x="120" y="1362"/>
                </a:cubicBezTo>
                <a:cubicBezTo>
                  <a:pt x="142" y="1310"/>
                  <a:pt x="149" y="1280"/>
                  <a:pt x="198" y="1200"/>
                </a:cubicBezTo>
                <a:cubicBezTo>
                  <a:pt x="247" y="1120"/>
                  <a:pt x="362" y="961"/>
                  <a:pt x="414" y="882"/>
                </a:cubicBezTo>
                <a:cubicBezTo>
                  <a:pt x="465" y="805"/>
                  <a:pt x="484" y="779"/>
                  <a:pt x="508" y="726"/>
                </a:cubicBezTo>
                <a:cubicBezTo>
                  <a:pt x="532" y="673"/>
                  <a:pt x="549" y="624"/>
                  <a:pt x="564" y="570"/>
                </a:cubicBezTo>
                <a:cubicBezTo>
                  <a:pt x="579" y="516"/>
                  <a:pt x="589" y="471"/>
                  <a:pt x="600" y="410"/>
                </a:cubicBezTo>
                <a:cubicBezTo>
                  <a:pt x="611" y="349"/>
                  <a:pt x="617" y="267"/>
                  <a:pt x="624" y="198"/>
                </a:cubicBezTo>
                <a:cubicBezTo>
                  <a:pt x="631" y="129"/>
                  <a:pt x="634" y="33"/>
                  <a:pt x="636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481120" y="2903400"/>
            <a:ext cx="2409840" cy="768600"/>
          </a:xfrm>
          <a:custGeom>
            <a:avLst/>
            <a:gdLst/>
            <a:ahLst/>
            <a:rect l="l" t="t" r="r" b="b"/>
            <a:pathLst>
              <a:path w="1518" h="484">
                <a:moveTo>
                  <a:pt x="0" y="484"/>
                </a:moveTo>
                <a:cubicBezTo>
                  <a:pt x="46" y="478"/>
                  <a:pt x="213" y="462"/>
                  <a:pt x="284" y="448"/>
                </a:cubicBezTo>
                <a:cubicBezTo>
                  <a:pt x="355" y="434"/>
                  <a:pt x="383" y="417"/>
                  <a:pt x="429" y="399"/>
                </a:cubicBezTo>
                <a:cubicBezTo>
                  <a:pt x="475" y="381"/>
                  <a:pt x="487" y="373"/>
                  <a:pt x="558" y="338"/>
                </a:cubicBezTo>
                <a:cubicBezTo>
                  <a:pt x="629" y="303"/>
                  <a:pt x="783" y="226"/>
                  <a:pt x="853" y="191"/>
                </a:cubicBezTo>
                <a:cubicBezTo>
                  <a:pt x="923" y="156"/>
                  <a:pt x="934" y="146"/>
                  <a:pt x="979" y="128"/>
                </a:cubicBezTo>
                <a:cubicBezTo>
                  <a:pt x="1024" y="110"/>
                  <a:pt x="1077" y="96"/>
                  <a:pt x="1125" y="82"/>
                </a:cubicBezTo>
                <a:cubicBezTo>
                  <a:pt x="1173" y="68"/>
                  <a:pt x="1200" y="57"/>
                  <a:pt x="1265" y="43"/>
                </a:cubicBezTo>
                <a:cubicBezTo>
                  <a:pt x="1330" y="29"/>
                  <a:pt x="1465" y="9"/>
                  <a:pt x="151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3640" y="9990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1174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1179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4241880" y="188424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00440" y="28782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445000" y="1627200"/>
            <a:ext cx="2178000" cy="507960"/>
          </a:xfrm>
          <a:prstGeom prst="wedgeRoundRectCallout">
            <a:avLst>
              <a:gd name="adj1" fmla="val -82069"/>
              <a:gd name="adj2" fmla="val 1993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Equilíbrio N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8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3594240" y="3340080"/>
            <a:ext cx="546120" cy="1092240"/>
          </a:xfrm>
          <a:custGeom>
            <a:avLst/>
            <a:gdLst/>
            <a:ahLst/>
            <a:rect l="l" t="t" r="r" b="b"/>
            <a:pathLst>
              <a:path w="344" h="688">
                <a:moveTo>
                  <a:pt x="0" y="0"/>
                </a:moveTo>
                <a:cubicBezTo>
                  <a:pt x="0" y="80"/>
                  <a:pt x="0" y="160"/>
                  <a:pt x="8" y="224"/>
                </a:cubicBezTo>
                <a:cubicBezTo>
                  <a:pt x="16" y="288"/>
                  <a:pt x="28" y="337"/>
                  <a:pt x="48" y="384"/>
                </a:cubicBezTo>
                <a:cubicBezTo>
                  <a:pt x="68" y="431"/>
                  <a:pt x="99" y="467"/>
                  <a:pt x="128" y="504"/>
                </a:cubicBezTo>
                <a:cubicBezTo>
                  <a:pt x="157" y="541"/>
                  <a:pt x="184" y="573"/>
                  <a:pt x="220" y="604"/>
                </a:cubicBezTo>
                <a:cubicBezTo>
                  <a:pt x="256" y="635"/>
                  <a:pt x="318" y="671"/>
                  <a:pt x="344" y="6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383640" y="9990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1202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1207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4241880" y="188424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549600" y="36338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605040" y="3876840"/>
            <a:ext cx="1159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35360" y="40752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882960" y="42386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540240" y="32814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060800" y="4368960"/>
            <a:ext cx="1159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981760" y="4065480"/>
            <a:ext cx="2612880" cy="507960"/>
          </a:xfrm>
          <a:prstGeom prst="wedgeRoundRectCallout">
            <a:avLst>
              <a:gd name="adj1" fmla="val -136148"/>
              <a:gd name="adj2" fmla="val -5781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Soluções de Par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2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gamet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3382920" y="99900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3081240" y="1746360"/>
                <a:ext cx="40388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226" name=""/>
          <p:cNvGraphicFramePr/>
          <p:nvPr/>
        </p:nvGraphicFramePr>
        <p:xfrm>
          <a:off x="2776680" y="2432160"/>
          <a:ext cx="4800600" cy="237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2432160"/>
                    <a:ext cx="4800600" cy="23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8" name=""/>
          <p:cNvGraphicFramePr/>
          <p:nvPr/>
        </p:nvGraphicFramePr>
        <p:xfrm>
          <a:off x="1938240" y="4923000"/>
          <a:ext cx="5105520" cy="117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8240" y="4923000"/>
                    <a:ext cx="510552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"/>
          <p:cNvSpPr/>
          <p:nvPr/>
        </p:nvSpPr>
        <p:spPr>
          <a:xfrm>
            <a:off x="1867320" y="182232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940760" y="23558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logo" descr=""/>
          <p:cNvPicPr/>
          <p:nvPr/>
        </p:nvPicPr>
        <p:blipFill>
          <a:blip r:embed="rId5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34" name="ASA_CO1" descr=""/>
          <p:cNvPicPr/>
          <p:nvPr/>
        </p:nvPicPr>
        <p:blipFill>
          <a:blip r:embed="rId6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6" name=""/>
          <p:cNvGraphicFramePr/>
          <p:nvPr/>
        </p:nvGraphicFramePr>
        <p:xfrm>
          <a:off x="1619280" y="1652760"/>
          <a:ext cx="5968800" cy="520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52760"/>
                    <a:ext cx="596880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8" name=""/>
          <p:cNvSpPr/>
          <p:nvPr/>
        </p:nvSpPr>
        <p:spPr>
          <a:xfrm>
            <a:off x="3382920" y="99900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0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41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optc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4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80200" y="3223440"/>
            <a:ext cx="40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51880" y="85248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10, Pg, 94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1720" y="1604880"/>
            <a:ext cx="808056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Publicida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Weekday: Custo de $2.000 e circulação de 3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unday: Custo de $8.000 e curculação de 8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gosto: Tem pelo menos 26 Weekdays e 5 Sun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retriz: Mais que 8 Weekdays e 2 Sun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65440" y="4484520"/>
            <a:ext cx="61894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ax 30.000 Weekdays + 80.000 Sun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.000 Weekdays + 8.000 Sun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40.000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Budge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Week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6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Agost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un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5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Agost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Week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8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Diretriz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un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Diretriz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0240" y="3276720"/>
            <a:ext cx="56818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Weekday      Sunday         Disponí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ust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2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8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irculação                    50                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122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0680" y="43434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dvert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03520" y="3286080"/>
            <a:ext cx="41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Análise de Sensi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480" y="1787400"/>
            <a:ext cx="261900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b2b2b2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b2b2b2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b2b2b2"/>
                </a:solidFill>
                <a:uFillTx/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Antigo Lucro = 3.28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Arial Black"/>
              </a:rPr>
              <a:t>Novo Lucro   = 3.7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 Black"/>
              </a:rPr>
              <a:t>Variação       = 0.42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10560" y="3191040"/>
            <a:ext cx="750600" cy="258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49840" y="2549520"/>
            <a:ext cx="750960" cy="25884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26080" y="3205080"/>
            <a:ext cx="750960" cy="258840"/>
          </a:xfrm>
          <a:prstGeom prst="ellipse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80080" y="4285800"/>
            <a:ext cx="3499920" cy="17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hadow P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shadow price for a constra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asures the amount the optim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ctive function value chan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er unit increase in the right-h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value of the constra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9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767320" y="1127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nálise de 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1920" y="1787400"/>
            <a:ext cx="177948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2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1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+ 3 x</a:t>
            </a:r>
            <a:r>
              <a:rPr b="1" lang="pt-BR" sz="1800" spc="-1" strike="noStrike" baseline="-25000">
                <a:solidFill>
                  <a:srgbClr val="009900"/>
                </a:solidFill>
                <a:latin typeface="Arial Black"/>
              </a:rPr>
              <a:t>2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1" lang="pt-BR" sz="1800" spc="-1" strike="noStrike">
                <a:solidFill>
                  <a:srgbClr val="009900"/>
                </a:solidFill>
                <a:latin typeface="Arial Black"/>
              </a:rPr>
              <a:t>  </a:t>
            </a:r>
            <a:r>
              <a:rPr b="1" lang="pt-BR" sz="1800" spc="-1" strike="noStrike" u="sng">
                <a:solidFill>
                  <a:srgbClr val="9900ff"/>
                </a:solidFill>
                <a:uFillTx/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588040" y="3702600"/>
            <a:ext cx="636480" cy="647640"/>
          </a:xfrm>
          <a:custGeom>
            <a:avLst/>
            <a:gdLst>
              <a:gd name="textAreaLeft" fmla="*/ 0 w 636480"/>
              <a:gd name="textAreaRight" fmla="*/ 636840 w 6364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Sensp2" descr=""/>
          <p:cNvPicPr/>
          <p:nvPr/>
        </p:nvPicPr>
        <p:blipFill>
          <a:blip r:embed="rId1"/>
          <a:stretch/>
        </p:blipFill>
        <p:spPr>
          <a:xfrm>
            <a:off x="3521160" y="1689120"/>
            <a:ext cx="5362560" cy="226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429680" y="3203640"/>
            <a:ext cx="750600" cy="258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58240" y="3203640"/>
            <a:ext cx="750960" cy="258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30960" y="3125880"/>
            <a:ext cx="674640" cy="772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27240" y="4597920"/>
            <a:ext cx="4509000" cy="155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Range of Feas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range of feasibility for the avail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f a resource is the set of right-hand si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ver which the same set of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etermines the optimal po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logo" descr=""/>
          <p:cNvPicPr/>
          <p:nvPr/>
        </p:nvPicPr>
        <p:blipFill>
          <a:blip r:embed="rId2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1" name="ASA_CO1" descr=""/>
          <p:cNvPicPr/>
          <p:nvPr/>
        </p:nvPicPr>
        <p:blipFill>
          <a:blip r:embed="rId3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4-03-23T14:54:00Z</dcterms:modified>
  <cp:revision>210</cp:revision>
  <dc:subject/>
  <dc:title>Mercados Digitais</dc:title>
</cp:coreProperties>
</file>